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6FF-0B85-452C-AD05-1913B029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111-0651-4FCE-AB7E-37C62FE6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264C-7845-4FFD-B61F-7C6CBEB9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419-CB76-4A07-92C7-A4488297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EA2-43A4-43B6-AD23-FF6F4911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0CE-2789-4AD9-B9B9-F2B927FC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01B-1DB3-4D8E-9E35-AEC14FE8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BF78-F645-4C2C-B995-984C07D6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3A8A-A851-4C61-AF90-79773DE6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FC7-A955-4BF4-8133-A53C556F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F36-5243-4266-9384-F50550EF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724-90A4-4D00-A890-341B0EDD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1f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EC96-467E-494C-B1F8-88CDDA64A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Комитет по здравоохранению администрации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029200" y="378000"/>
            <a:ext cx="40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Администрация города Нефтеюга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7" descr="Герб Нефтеюганск small.jpg"/>
          <p:cNvPicPr/>
          <p:nvPr/>
        </p:nvPicPr>
        <p:blipFill>
          <a:blip r:embed="rId1"/>
          <a:stretch/>
        </p:blipFill>
        <p:spPr>
          <a:xfrm>
            <a:off x="71280" y="71280"/>
            <a:ext cx="500400" cy="62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9" descr=""/>
          <p:cNvPicPr/>
          <p:nvPr/>
        </p:nvPicPr>
        <p:blipFill>
          <a:blip r:embed="rId2"/>
          <a:stretch/>
        </p:blipFill>
        <p:spPr>
          <a:xfrm>
            <a:off x="142920" y="5143680"/>
            <a:ext cx="2143080" cy="1500120"/>
          </a:xfrm>
          <a:prstGeom prst="rect">
            <a:avLst/>
          </a:prstGeom>
          <a:ln w="12960">
            <a:solidFill>
              <a:srgbClr val="333399"/>
            </a:solidFill>
            <a:miter/>
          </a:ln>
        </p:spPr>
      </p:pic>
      <p:pic>
        <p:nvPicPr>
          <p:cNvPr id="46" name="Содержимое 7" descr="SSL11892.JPG"/>
          <p:cNvPicPr/>
          <p:nvPr/>
        </p:nvPicPr>
        <p:blipFill>
          <a:blip r:embed="rId3"/>
          <a:stretch/>
        </p:blipFill>
        <p:spPr>
          <a:xfrm>
            <a:off x="2286000" y="514368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>
            <a:off x="4500720" y="5143680"/>
            <a:ext cx="221436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5"/>
          <a:stretch/>
        </p:blipFill>
        <p:spPr>
          <a:xfrm>
            <a:off x="6715080" y="5143680"/>
            <a:ext cx="2286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2"/>
          <p:cNvSpPr/>
          <p:nvPr/>
        </p:nvSpPr>
        <p:spPr>
          <a:xfrm>
            <a:off x="5029200" y="378000"/>
            <a:ext cx="40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  <a:ea typeface="Tahoma"/>
              </a:rPr>
              <a:t>Администрация города Нефтеюга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4" descr="Герб Нефтеюганск small.jpg"/>
          <p:cNvPicPr/>
          <p:nvPr/>
        </p:nvPicPr>
        <p:blipFill>
          <a:blip r:embed="rId1"/>
          <a:stretch/>
        </p:blipFill>
        <p:spPr>
          <a:xfrm>
            <a:off x="71280" y="71280"/>
            <a:ext cx="500400" cy="6224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0" y="8301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02"/>
          <p:cNvSpPr/>
          <p:nvPr/>
        </p:nvSpPr>
        <p:spPr>
          <a:xfrm>
            <a:off x="0" y="567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214200" y="1071720"/>
            <a:ext cx="8748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771640" y="981000"/>
            <a:ext cx="34434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Arial"/>
              </a:rPr>
              <a:t>КОМИТЕТ ПО ЗДРАВООХРА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84360" y="2060640"/>
            <a:ext cx="2158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МУЗ Нефтеюганская городская больн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84360" y="2852640"/>
            <a:ext cx="21589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МУЗ «Стоматологическая поликлиника № 3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84360" y="3789360"/>
            <a:ext cx="21589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МУЗ «Станция скорой медицинской помощи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84360" y="4724280"/>
            <a:ext cx="215892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МУЗ «Врачебно-физкультурный диспанс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84360" y="5589720"/>
            <a:ext cx="2158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МУЗ «Центр медицинской профилактики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276720" y="2276640"/>
            <a:ext cx="201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ОАО «Фармация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276720" y="3429000"/>
            <a:ext cx="2016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НГ МУ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«Аптека № 242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5724360" y="2060640"/>
            <a:ext cx="30387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ТОТУ Роспотребнадзор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5796000" y="5229360"/>
            <a:ext cx="295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Нефтеюганский филиал ОАО                                                                                                                                                                      СМК «Югория-Мед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5724360" y="4076640"/>
            <a:ext cx="3024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Нефтеюганский филиал окружного фонда обязательного медицинского страхов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5724360" y="2997360"/>
            <a:ext cx="30387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ФГУЗ «Центр гигиены и эпидемиологии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 flipH="1">
            <a:off x="1763280" y="1268280"/>
            <a:ext cx="252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4356000" y="1268280"/>
            <a:ext cx="302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>
            <a:off x="4356000" y="141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3276720" y="4653000"/>
            <a:ext cx="2016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НГ МУ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Arial"/>
              </a:rPr>
              <a:t>«Оптик-Центр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5640120" y="3144600"/>
            <a:ext cx="267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ЕННОСТЬ И ВОЗРАСТ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УКТУР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2"/>
          <p:cNvGraphicFramePr/>
          <p:nvPr/>
        </p:nvGraphicFramePr>
        <p:xfrm>
          <a:off x="357120" y="3000240"/>
          <a:ext cx="528660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3000240"/>
                    <a:ext cx="528660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1928880" y="214200"/>
          <a:ext cx="7037280" cy="279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14200"/>
                    <a:ext cx="703728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7"/>
          <p:cNvSpPr/>
          <p:nvPr/>
        </p:nvSpPr>
        <p:spPr>
          <a:xfrm>
            <a:off x="370440" y="144360"/>
            <a:ext cx="184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"/>
          <p:cNvSpPr/>
          <p:nvPr/>
        </p:nvSpPr>
        <p:spPr>
          <a:xfrm>
            <a:off x="5214960" y="501480"/>
            <a:ext cx="378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ЕННОСТЬ Г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ЦИНСКИМИ МОЩ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246240" y="214200"/>
          <a:ext cx="554004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214200"/>
                    <a:ext cx="554004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4"/>
          <p:cNvSpPr/>
          <p:nvPr/>
        </p:nvSpPr>
        <p:spPr>
          <a:xfrm>
            <a:off x="1378080" y="3501720"/>
            <a:ext cx="274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ЕННОСТЬ Г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ИЦИНСКИМИ РАБОТ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5"/>
          <p:cNvGraphicFramePr/>
          <p:nvPr/>
        </p:nvGraphicFramePr>
        <p:xfrm>
          <a:off x="4357800" y="3214800"/>
          <a:ext cx="4736880" cy="25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7800" y="3214800"/>
                    <a:ext cx="473688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00720" y="2786040"/>
            <a:ext cx="40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Ы СМЕРТНОСТИ НАСЕЛЕНИЯ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0360"/>
            <a:ext cx="528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АЯ ЗАБОЛЕВАЕМОСТЬ НАСЕЛЕНИЯ ГОР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7"/>
          <p:cNvGraphicFramePr/>
          <p:nvPr/>
        </p:nvGraphicFramePr>
        <p:xfrm>
          <a:off x="4143240" y="3071880"/>
          <a:ext cx="486252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240" y="3071880"/>
                    <a:ext cx="486252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9"/>
          <p:cNvGraphicFramePr/>
          <p:nvPr/>
        </p:nvGraphicFramePr>
        <p:xfrm>
          <a:off x="0" y="285840"/>
          <a:ext cx="4214880" cy="348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840"/>
                    <a:ext cx="42148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1571760" y="0"/>
            <a:ext cx="621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ЗАБОЛЕВАЕМОСТЬ СОЦИАЛЬНО ЗНАЧИМЫМИ БОЛЕЗНЯ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142920" y="285840"/>
          <a:ext cx="873432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285840"/>
                    <a:ext cx="873432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00040" y="116640"/>
            <a:ext cx="70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 БЕСПЛАТНОЙ МЕДИЦИНСКОЙ ПОМОЩИ НАСЕЛЕНИЮ ГО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71680" y="500040"/>
          <a:ext cx="6914880" cy="4778280"/>
        </p:xfrm>
        <a:graphic>
          <a:graphicData uri="http://schemas.openxmlformats.org/drawingml/2006/table">
            <a:tbl>
              <a:tblPr/>
              <a:tblGrid>
                <a:gridCol w="1492200"/>
                <a:gridCol w="541080"/>
                <a:gridCol w="542880"/>
                <a:gridCol w="541440"/>
                <a:gridCol w="542880"/>
                <a:gridCol w="542880"/>
                <a:gridCol w="541440"/>
                <a:gridCol w="542880"/>
                <a:gridCol w="542880"/>
                <a:gridCol w="541440"/>
                <a:gridCol w="542880"/>
              </a:tblGrid>
              <a:tr h="2271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булаторно-поликлиническая помощ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сещений (исключая платные) в тысяч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4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6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8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6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2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й на 1 жителя (исключая платные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во посещений по ОМ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9 5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8 0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 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 4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7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4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6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й по ОМС на 1000 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76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794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364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482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4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45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8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98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во дней лечения 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невных стационар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9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5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8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7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7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5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во к/дней на 1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3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ционарная помощ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во выполненных к/дн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 0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 2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 5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9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1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8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8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9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9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к/дней на 1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43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37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468,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465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4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8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8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во койко-дней по ОМ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 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 9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 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4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4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8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1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во койко-дней по ОМС на 1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6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1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107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15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3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госпитализаций на 1000, всего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лого 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8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го 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5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ая медицинская помощь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вызовов по С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9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9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3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25560" rIns="25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на 10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6</a:t>
                      </a: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1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8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2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4,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1"/>
          <p:cNvGraphicFramePr/>
          <p:nvPr/>
        </p:nvGraphicFramePr>
        <p:xfrm>
          <a:off x="500040" y="857160"/>
          <a:ext cx="79056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857160"/>
                    <a:ext cx="79056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Прямоугольник 5"/>
          <p:cNvSpPr/>
          <p:nvPr/>
        </p:nvSpPr>
        <p:spPr>
          <a:xfrm>
            <a:off x="928800" y="357120"/>
            <a:ext cx="657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НАНСИРОВАНИЕ УЧРЕЖДЕНИЙ ЗДРАВООХРАНЕНИЯ ГОРОДА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(в тысячах рублей на 1 жител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4" descr="Герб Нефтеюганск small.jpg"/>
          <p:cNvPicPr/>
          <p:nvPr/>
        </p:nvPicPr>
        <p:blipFill>
          <a:blip r:embed="rId1"/>
          <a:stretch/>
        </p:blipFill>
        <p:spPr>
          <a:xfrm>
            <a:off x="71280" y="71280"/>
            <a:ext cx="500400" cy="622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5029200" y="378000"/>
            <a:ext cx="40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cc"/>
                </a:solidFill>
                <a:latin typeface="Tahoma"/>
                <a:ea typeface="Tahoma"/>
              </a:rPr>
              <a:t>Администрация города Нефтеюган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1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99"/>
                </a:solidFill>
                <a:latin typeface="Arial"/>
              </a:rPr>
              <a:t>СПАСИБО ЗА ВНИМАНИЕ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6:24:45Z</dcterms:created>
  <dc:creator>User</dc:creator>
  <dc:description/>
  <dc:language>en-US</dc:language>
  <cp:lastModifiedBy>user</cp:lastModifiedBy>
  <dcterms:modified xsi:type="dcterms:W3CDTF">2012-03-11T03:19:01Z</dcterms:modified>
  <cp:revision>253</cp:revision>
  <dc:subject/>
  <dc:title>Слайд 1</dc:title>
</cp:coreProperties>
</file>