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png" ContentType="image/png"/>
  <Override PartName="/ppt/media/image49.jpeg" ContentType="image/jpeg"/>
  <Override PartName="/ppt/media/image14.jpeg" ContentType="image/jpeg"/>
  <Override PartName="/ppt/media/image41.jpeg" ContentType="image/jpeg"/>
  <Override PartName="/ppt/media/image25.jpeg" ContentType="image/jpeg"/>
  <Override PartName="/ppt/media/image2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5.png" ContentType="image/png"/>
  <Override PartName="/ppt/media/image43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54.jpeg" ContentType="image/jpeg"/>
  <Override PartName="/ppt/media/image33.jpeg" ContentType="image/jpeg"/>
  <Override PartName="/ppt/media/image6.jpeg" ContentType="image/jpeg"/>
  <Override PartName="/ppt/media/image55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27.jpeg" ContentType="image/jpeg"/>
  <Override PartName="/ppt/media/image50.jpeg" ContentType="image/jpeg"/>
  <Override PartName="/ppt/media/image40.jpeg" ContentType="image/jpe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0B49-3695-44AE-9DF6-B938CFEE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75A5-C695-4A41-8D99-9FC3EFA1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36743-2562-4D85-B37A-C1C575C9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E06B1-03AA-4BEA-AC31-4E85C9BB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B91E7-5775-49AE-91C2-BA3B69D5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FA2AF-B898-420A-89E1-65713064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EDD45-0DCF-49A1-972F-542F1785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95024-E510-458E-BAA2-B8E89E4D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F12CB-AAAA-4ADF-8948-5294C0FE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F7A01-A86D-4304-8BD4-05948610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B370F-FAF0-466E-A3D8-4329C92A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F20E-4DDB-4649-B53D-796273F0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9347-B291-4521-A510-24E91323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5A63-A1DF-4EA8-86A2-D670F34F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F85E-68A4-45D0-B8D9-24D11EBF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6593-35BA-43B2-A755-3EE4A193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DCB5-6B21-4B28-A043-F0EB9E65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7329-5CD8-4102-A9F4-2E9B0FB6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AA62-51DB-4D28-879D-FC1791F4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4611-CEF2-4ECB-8B84-78F76DF4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A13-948B-4C55-AAE0-05DF69A6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DFA4-2093-4BA5-ACA8-0C5EB035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89AB-7DFC-44E7-B89F-B5D24DE9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F9A9-957D-4AF5-8B4A-4F7124EF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CCF9-39F7-4A62-BA80-C2DCE381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53D1-8721-4C3D-83DE-2F4D90F9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83179-7928-4CD6-9140-83E8D834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A618B-AD1F-48BC-BCC9-53134BC6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7E973-244E-441A-92AD-B2AC42FF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54ACE-ABA3-4EEC-B1D5-A8605D6A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1FFA2-011C-4F12-93E9-70B66752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E993-DA39-4C85-A9C6-34DD275E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9BD9A-6C70-4794-8697-8E62F31D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88577-657F-42F6-B032-81859665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94DE1-7C02-41AB-8B62-86FE6DDA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C7B91-2E4D-4F11-A795-D32C3D23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FC8D6-99CB-495F-958E-A7B537A6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66B70-F82F-4242-969C-132D5E32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7C3AB-BE01-491F-800F-EBDB1A33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DB893-7CFC-4297-BC70-95291A0A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D2DEA-400A-462E-85BA-47F26E0A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1967F-ECB2-4314-9606-5F2026CC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57B8-A1C1-464B-9285-CC818883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19DC2-96B2-4106-B3CB-F48BB82D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A1798-AAB0-450D-890E-B65ADD77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A6724-91C3-45CE-869C-E31DE4FE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12A40-DFBC-4D22-88D4-9AFB4C36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4B3CC-446D-487B-8CE9-0674E94C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E971C-4C6A-469B-90DD-D3FC98D7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D6E70-2E61-4821-B439-77825A10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0D60C-9168-4F42-B010-65FB943A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CE815-5D2C-418A-A0C1-9E0B317D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92D31-6B45-400B-B7CD-4B79BCE6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A8BC-D30F-4533-BF5D-4A4EE406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66967-4FD0-474F-8065-F8E6D9F6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FBA27-8A78-402D-94D9-7658CDB3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40D06-7F61-4DEF-BDCD-94E2D7E0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71007-472B-4E98-91C2-D282D1BA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9BFD3-2395-4FEF-BA5E-6567CB5E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05945-4933-4208-9818-03627720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87731-8060-45EA-85E7-3C390842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A4F80-9724-421C-9FD4-D412F59B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BBDDF-D0D3-4336-9E2E-3C05917F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24C77-9ABD-4FB0-A69D-0C626A3DA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BF46-1919-4759-BB79-5D3DFEBC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C0511-8F8D-4913-ABEB-18027595A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BBEDA-4E3C-4015-8380-DF12C2F6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6B095-8AEF-4D8D-A923-699F6B3E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39CA7-1792-429D-B180-BFFB6C76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DE8DD-0586-4850-A92A-891B6947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2210A-C353-4524-9EC9-4F648FD8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458CB-B2AE-4285-BB2E-C80497CD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73D09-842F-4824-BA9A-A6A8C101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C0B2A-BE3E-4C52-BF71-C4941AD4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010F4-CEA3-4A55-B6B8-8A9F0328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B5CD-185B-40FB-9AA0-D845943E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1B96E-BEAA-4ED1-B8DD-B9789B38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184B5-2BDB-479C-93EF-D0B04145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17137-D013-422A-972F-AF0C928F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E12DD-6747-4482-9528-6B4F0A48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3C0AB-9385-4554-A619-B32C48C8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E56BE-20BC-4B0D-9290-1FF21428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78BFC-0B6D-4EE1-AFB7-3D25BC9D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2E2C5-C4F8-4988-9A9C-56D1B0A8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D8CBC-A3C3-4C6D-BE2D-EEDFA364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8E27B-E0E4-4FBA-84E6-55EB342B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6286-5422-44A2-B8D6-218872B7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7A7B6-2853-46BB-8ADF-B74B19C8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F8D65-AFF9-4126-A550-2B0533D3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FB9D9-0FAC-4360-BDB8-E5DAA9B2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F5B0D-1DC0-49C8-8943-829C86D7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8A3D3-F5F1-4E0B-9987-D9AC1927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E6CB1-E544-4FD2-9482-8782A3D8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2FB6A-2993-42EA-B7B3-605D5416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85B46-C679-46AD-8AE5-9606F251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A5A1E-FC95-442B-9D0D-6F7899B3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E3DD6-F2D0-4F22-B981-96A08395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1ADD-6656-48F8-8723-D21EB079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E61C3-31FE-420A-8C56-AE8C0814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EC7E3-8143-42A3-B70D-4436520B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702BC-99E9-4610-BF65-8FA723EC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5955A-5681-46BD-9FC3-85F24384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E5CA7-7E68-4BA3-ADAF-F698128A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735D0-24C3-470E-A689-C20B64A4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CF4F6-53B5-4690-A60F-7D566B31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78A79-9B73-4AC4-A385-BA276F5D1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61217-2E1E-4A48-844D-BF301FA2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69557-30E6-4CF2-A5E5-A7C0AF83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FF46-8617-46B8-8C73-A468B569958C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7" descr=""/>
          <p:cNvPicPr/>
          <p:nvPr/>
        </p:nvPicPr>
        <p:blipFill>
          <a:blip r:embed="rId4"/>
          <a:stretch/>
        </p:blipFill>
        <p:spPr>
          <a:xfrm>
            <a:off x="1146240" y="2614680"/>
            <a:ext cx="6875280" cy="1231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ce9c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F861-6A91-4D4F-A039-AADAE1164B01}" type="slidenum">
              <a:rPr b="0" lang="ru-RU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8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2" name="Straight Connector 13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936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3" name="Straight Connector 14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936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7E43-468A-44EB-A785-288CF3C33C78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138" name="Picture 11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9"/>
            <p:cNvSpPr/>
            <p:nvPr/>
          </p:nvSpPr>
          <p:spPr>
            <a:xfrm>
              <a:off x="430920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1" name="Straight Connector 9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936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2" name="Straight Connector 10"/>
            <p:cNvSpPr/>
            <p:nvPr/>
          </p:nvSpPr>
          <p:spPr>
            <a:xfrm flipH="1" flipV="1">
              <a:off x="4831920" y="3433680"/>
              <a:ext cx="3119400" cy="1440"/>
            </a:xfrm>
            <a:prstGeom prst="line">
              <a:avLst/>
            </a:prstGeom>
            <a:ln w="936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2426-34AF-4F78-ADFB-59BF3A0E0EA6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8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936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936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C801-7573-4B7C-972E-81DC583A7DAC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8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7" name="Straight Connector 16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936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8" name="Straight Connector 17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936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7576-14B2-4C39-889A-91DE839B98D6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8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5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936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6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936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8BB1-2E54-4D4B-832E-A5623F9D64A5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8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3" name="Straight Connector 15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936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4" name="Straight Connector 16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936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0910-9991-4C2D-9B88-2260BAA1DE10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79" name="Group 10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8"/>
            <p:cNvSpPr/>
            <p:nvPr/>
          </p:nvSpPr>
          <p:spPr>
            <a:xfrm rot="5400000">
              <a:off x="6374880" y="291384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1" name="Straight Connector 12"/>
            <p:cNvSpPr/>
            <p:nvPr/>
          </p:nvSpPr>
          <p:spPr>
            <a:xfrm flipV="1">
              <a:off x="6566040" y="601560"/>
              <a:ext cx="1440" cy="2470320"/>
            </a:xfrm>
            <a:prstGeom prst="line">
              <a:avLst/>
            </a:prstGeom>
            <a:ln w="936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2" name="Straight Connector 13"/>
            <p:cNvSpPr/>
            <p:nvPr/>
          </p:nvSpPr>
          <p:spPr>
            <a:xfrm flipV="1">
              <a:off x="6562800" y="3612960"/>
              <a:ext cx="1440" cy="2470320"/>
            </a:xfrm>
            <a:prstGeom prst="line">
              <a:avLst/>
            </a:prstGeom>
            <a:ln w="936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626A-B81C-4307-B394-94875E40F27C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5.jpeg"/><Relationship Id="rId3" Type="http://schemas.openxmlformats.org/officeDocument/2006/relationships/image" Target="../media/image7.pn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s://commons.wikimedia.org/wiki/File:&#1055;&#1072;&#1084;&#1103;&#1090;&#1085;&#1080;&#1082;_&#1084;&#1072;&#1088;&#1096;&#1072;&#1083;&#1091;_&#1043;.&#1050;._&#1046;&#1091;&#1082;&#1086;&#1074;&#1091;_&#1074;_&#1050;&#1091;&#1088;&#1089;&#1082;&#1077;..jpg?uselang=ru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s://commons.wikimedia.org/wiki/File:Flag_of_the_Soviet_Union.svg?uselang=ru" TargetMode="External"/><Relationship Id="rId5" Type="http://schemas.openxmlformats.org/officeDocument/2006/relationships/image" Target="../media/image15.png"/><Relationship Id="rId6" Type="http://schemas.openxmlformats.org/officeDocument/2006/relationships/hyperlink" Target="https://ru.wikipedia.org/wiki/&#1060;&#1083;&#1072;&#1075;_&#1058;&#1088;&#1077;&#1090;&#1100;&#1077;&#1075;&#1086;_&#1088;&#1077;&#1081;&#1093;&#1072;" TargetMode="External"/><Relationship Id="rId7" Type="http://schemas.openxmlformats.org/officeDocument/2006/relationships/image" Target="../media/image16.png"/><Relationship Id="rId8" Type="http://schemas.openxmlformats.org/officeDocument/2006/relationships/hyperlink" Target="https://commons.wikimedia.org/wiki/File:Flag_of_the_Soviet_Union.svg?uselang=ru" TargetMode="External"/><Relationship Id="rId9" Type="http://schemas.openxmlformats.org/officeDocument/2006/relationships/image" Target="../media/image15.png"/><Relationship Id="rId10" Type="http://schemas.openxmlformats.org/officeDocument/2006/relationships/hyperlink" Target="https://commons.wikimedia.org/wiki/File:Flag_of_the_Soviet_Union.svg?uselang=ru" TargetMode="External"/><Relationship Id="rId11" Type="http://schemas.openxmlformats.org/officeDocument/2006/relationships/image" Target="../media/image15.png"/><Relationship Id="rId12" Type="http://schemas.openxmlformats.org/officeDocument/2006/relationships/hyperlink" Target="https://commons.wikimedia.org/wiki/File:Flag_of_the_Soviet_Union.svg?uselang=ru" TargetMode="External"/><Relationship Id="rId13" Type="http://schemas.openxmlformats.org/officeDocument/2006/relationships/image" Target="../media/image15.png"/><Relationship Id="rId14" Type="http://schemas.openxmlformats.org/officeDocument/2006/relationships/hyperlink" Target="https://commons.wikimedia.org/wiki/File:Flag_of_the_Soviet_Union.svg?uselang=ru" TargetMode="External"/><Relationship Id="rId15" Type="http://schemas.openxmlformats.org/officeDocument/2006/relationships/image" Target="../media/image15.png"/><Relationship Id="rId16" Type="http://schemas.openxmlformats.org/officeDocument/2006/relationships/hyperlink" Target="https://ru.wikipedia.org/wiki/&#1060;&#1083;&#1072;&#1075;_&#1058;&#1088;&#1077;&#1090;&#1100;&#1077;&#1075;&#1086;_&#1088;&#1077;&#1081;&#1093;&#1072;" TargetMode="External"/><Relationship Id="rId17" Type="http://schemas.openxmlformats.org/officeDocument/2006/relationships/image" Target="../media/image16.png"/><Relationship Id="rId18" Type="http://schemas.openxmlformats.org/officeDocument/2006/relationships/hyperlink" Target="https://ru.wikipedia.org/wiki/&#1060;&#1083;&#1072;&#1075;_&#1058;&#1088;&#1077;&#1090;&#1100;&#1077;&#1075;&#1086;_&#1088;&#1077;&#1081;&#1093;&#1072;" TargetMode="External"/><Relationship Id="rId19" Type="http://schemas.openxmlformats.org/officeDocument/2006/relationships/image" Target="../media/image16.png"/><Relationship Id="rId20" Type="http://schemas.openxmlformats.org/officeDocument/2006/relationships/hyperlink" Target="https://ru.wikipedia.org/wiki/&#1060;&#1083;&#1072;&#1075;_&#1058;&#1088;&#1077;&#1090;&#1100;&#1077;&#1075;&#1086;_&#1088;&#1077;&#1081;&#1093;&#1072;" TargetMode="External"/><Relationship Id="rId21" Type="http://schemas.openxmlformats.org/officeDocument/2006/relationships/image" Target="../media/image16.png"/><Relationship Id="rId22" Type="http://schemas.openxmlformats.org/officeDocument/2006/relationships/hyperlink" Target="https://ru.wikipedia.org/wiki/&#1060;&#1083;&#1072;&#1075;_&#1058;&#1088;&#1077;&#1090;&#1100;&#1077;&#1075;&#1086;_&#1088;&#1077;&#1081;&#1093;&#1072;" TargetMode="External"/><Relationship Id="rId23" Type="http://schemas.openxmlformats.org/officeDocument/2006/relationships/image" Target="../media/image16.png"/><Relationship Id="rId24" Type="http://schemas.openxmlformats.org/officeDocument/2006/relationships/image" Target="../media/image17.jpeg"/><Relationship Id="rId2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https://ru.wikipedia.org/wiki/&#1061;&#1088;&#1086;&#1085;&#1080;&#1082;&#1072;_&#1042;&#1077;&#1083;&#1080;&#1082;&#1086;&#1081;_&#1054;&#1090;&#1077;&#1095;&#1077;&#1089;&#1090;&#1074;&#1077;&#1085;&#1085;&#1086;&#1081;_&#1074;&#1086;&#1081;&#1085;&#1099;/&#1048;&#1102;&#1083;&#1100;_1943_&#1075;&#1086;&#1076;&#1072;#5_.D0.B8.D1.8E.D0.BB.D1.8F_1943_.D0.B3.D0.BE.D0.B4.D0.B0._744-.D0.B9_.D0.B4.D0.B5.D0.BD.D1.8C_.D0.B2.D0.BE.D0.B9.D0.BD.D1.8B" TargetMode="External"/><Relationship Id="rId4" Type="http://schemas.openxmlformats.org/officeDocument/2006/relationships/hyperlink" Target="https://ru.wikipedia.org/wiki/&#1061;&#1088;&#1086;&#1085;&#1080;&#1082;&#1072;_&#1042;&#1077;&#1083;&#1080;&#1082;&#1086;&#1081;_&#1054;&#1090;&#1077;&#1095;&#1077;&#1089;&#1090;&#1074;&#1077;&#1085;&#1085;&#1086;&#1081;_&#1074;&#1086;&#1081;&#1085;&#1099;/&#1040;&#1074;&#1075;&#1091;&#1089;&#1090;_1943_&#1075;&#1086;&#1076;&#1072;#23_.D0.B0.D0.B2.D0.B3.D1.83.D1.81.D1.82.D0.B0_1943_.D0.B3.D0.BE.D0.B4.D0.B0._793-.D0.B9_.D0.B4.D0.B5.D0.BD.D1.8C_.D0.B2.D0.BE.D0.B9.D0.BD.D1.8B" TargetMode="External"/><Relationship Id="rId5" Type="http://schemas.openxmlformats.org/officeDocument/2006/relationships/hyperlink" Target="https://ru.wikipedia.org/wiki/1943_&#1075;&#1086;&#1076;" TargetMode="External"/><Relationship Id="rId6" Type="http://schemas.openxmlformats.org/officeDocument/2006/relationships/hyperlink" Target="https://ru.wikipedia.org/wiki/1943_&#1075;&#1086;&#1076;" TargetMode="External"/><Relationship Id="rId7" Type="http://schemas.openxmlformats.org/officeDocument/2006/relationships/hyperlink" Target="https://ru.wikipedia.org/wiki/1943_&#1075;&#1086;&#1076;" TargetMode="External"/><Relationship Id="rId8" Type="http://schemas.openxmlformats.org/officeDocument/2006/relationships/hyperlink" Target="https://ru.wikipedia.org/wiki/&#1042;&#1090;&#1086;&#1088;&#1072;&#1103;_&#1084;&#1080;&#1088;&#1086;&#1074;&#1072;&#1103;_&#1074;&#1086;&#1081;&#1085;&#1072;" TargetMode="External"/><Relationship Id="rId9" Type="http://schemas.openxmlformats.org/officeDocument/2006/relationships/hyperlink" Target="https://ru.wikipedia.org/wiki/&#1042;&#1077;&#1083;&#1080;&#1082;&#1072;&#1103;_&#1054;&#1090;&#1077;&#1095;&#1077;&#1089;&#1090;&#1074;&#1077;&#1085;&#1085;&#1072;&#1103;_&#1074;&#1086;&#1081;&#1085;&#1072;" TargetMode="External"/><Relationship Id="rId10" Type="http://schemas.openxmlformats.org/officeDocument/2006/relationships/hyperlink" Target="https://ru.wikipedia.org/wiki/&#1054;&#1088;&#1083;&#1086;&#1074;&#1089;&#1082;&#1072;&#1103;_&#1086;&#1087;&#1077;&#1088;&#1072;&#1094;&#1080;&#1103;_(1943)" TargetMode="External"/><Relationship Id="rId11" Type="http://schemas.openxmlformats.org/officeDocument/2006/relationships/hyperlink" Target="https://ru.wikipedia.org/wiki/&#1054;&#1088;&#1083;&#1086;&#1074;&#1089;&#1082;&#1072;&#1103;_&#1086;&#1087;&#1077;&#1088;&#1072;&#1094;&#1080;&#1103;_(1943)" TargetMode="External"/><Relationship Id="rId12" Type="http://schemas.openxmlformats.org/officeDocument/2006/relationships/hyperlink" Target="https://ru.wikipedia.org/wiki/&#1054;&#1088;&#1083;&#1086;&#1074;&#1089;&#1082;&#1072;&#1103;_&#1086;&#1087;&#1077;&#1088;&#1072;&#1094;&#1080;&#1103;_(1943)" TargetMode="External"/><Relationship Id="rId13" Type="http://schemas.openxmlformats.org/officeDocument/2006/relationships/hyperlink" Target="https://ru.wikipedia.org/wiki/&#1054;&#1088;&#1083;&#1086;&#1074;&#1089;&#1082;&#1072;&#1103;_&#1086;&#1087;&#1077;&#1088;&#1072;&#1094;&#1080;&#1103;_(1943)" TargetMode="External"/><Relationship Id="rId14" Type="http://schemas.openxmlformats.org/officeDocument/2006/relationships/hyperlink" Target="https://ru.wikipedia.org/wiki/&#1041;&#1077;&#1083;&#1075;&#1086;&#1088;&#1086;&#1076;&#1089;&#1082;&#1086;-&#1061;&#1072;&#1088;&#1100;&#1082;&#1086;&#1074;&#1089;&#1082;&#1072;&#1103;_&#1089;&#1090;&#1088;&#1072;&#1090;&#1077;&#1075;&#1080;&#1095;&#1077;&#1089;&#1082;&#1072;&#1103;_&#1085;&#1072;&#1089;&#1090;&#1091;&#1087;&#1072;&#1090;&#1077;&#1083;&#1100;&#1085;&#1072;&#1103;_&#1086;&#1087;&#1077;&#1088;&#1072;&#1094;&#1080;&#1103;_&#171;&#1056;&#1091;&#1084;&#1103;&#1085;&#1094;&#1077;&#1074;&#187;" TargetMode="External"/><Relationship Id="rId15" Type="http://schemas.openxmlformats.org/officeDocument/2006/relationships/hyperlink" Target="https://ru.wikipedia.org/wiki/&#1041;&#1077;&#1083;&#1075;&#1086;&#1088;&#1086;&#1076;&#1089;&#1082;&#1086;-&#1061;&#1072;&#1088;&#1100;&#1082;&#1086;&#1074;&#1089;&#1082;&#1072;&#1103;_&#1089;&#1090;&#1088;&#1072;&#1090;&#1077;&#1075;&#1080;&#1095;&#1077;&#1089;&#1082;&#1072;&#1103;_&#1085;&#1072;&#1089;&#1090;&#1091;&#1087;&#1072;&#1090;&#1077;&#1083;&#1100;&#1085;&#1072;&#1103;_&#1086;&#1087;&#1077;&#1088;&#1072;&#1094;&#1080;&#1103;_&#171;&#1056;&#1091;&#1084;&#1103;&#1085;&#1094;&#1077;&#1074;&#187;" TargetMode="External"/><Relationship Id="rId16" Type="http://schemas.openxmlformats.org/officeDocument/2006/relationships/hyperlink" Target="https://ru.wikipedia.org/wiki/&#1041;&#1077;&#1083;&#1075;&#1086;&#1088;&#1086;&#1076;&#1089;&#1082;&#1086;-&#1061;&#1072;&#1088;&#1100;&#1082;&#1086;&#1074;&#1089;&#1082;&#1072;&#1103;_&#1089;&#1090;&#1088;&#1072;&#1090;&#1077;&#1075;&#1080;&#1095;&#1077;&#1089;&#1082;&#1072;&#1103;_&#1085;&#1072;&#1089;&#1090;&#1091;&#1087;&#1072;&#1090;&#1077;&#1083;&#1100;&#1085;&#1072;&#1103;_&#1086;&#1087;&#1077;&#1088;&#1072;&#1094;&#1080;&#1103;_&#171;&#1056;&#1091;&#1084;&#1103;&#1085;&#1094;&#1077;&#1074;&#187;" TargetMode="External"/><Relationship Id="rId17" Type="http://schemas.openxmlformats.org/officeDocument/2006/relationships/hyperlink" Target="https://ru.wikipedia.org/wiki/&#1042;&#1086;&#1089;&#1090;&#1086;&#1095;&#1085;&#1086;&#1077;&#1074;&#1088;&#1086;&#1087;&#1077;&#1081;&#1089;&#1082;&#1080;&#1081;_&#1090;&#1077;&#1072;&#1090;&#1088;_&#1074;&#1086;&#1077;&#1085;&#1085;&#1099;&#1093;_&#1076;&#1077;&#1081;&#1089;&#1090;&#1074;&#1080;&#1081;_&#1042;&#1090;&#1086;&#1088;&#1086;&#1081;_&#1084;&#1080;&#1088;&#1086;&#1074;&#1086;&#1081;_&#1074;&#1086;&#1081;&#1085;&#1099;" TargetMode="External"/><Relationship Id="rId18" Type="http://schemas.openxmlformats.org/officeDocument/2006/relationships/hyperlink" Target="https://ru.wikipedia.org/wiki/&#1042;&#1077;&#1083;&#1080;&#1082;&#1072;&#1103;_&#1054;&#1090;&#1077;&#1095;&#1077;&#1089;&#1090;&#1074;&#1077;&#1085;&#1085;&#1072;&#1103;_&#1074;&#1086;&#1081;&#1085;&#1072;" TargetMode="External"/><Relationship Id="rId19" Type="http://schemas.openxmlformats.org/officeDocument/2006/relationships/hyperlink" Target="https://ru.wikipedia.org/wiki/&#1057;&#1090;&#1088;&#1072;&#1090;&#1077;&#1075;&#1080;&#1095;&#1077;&#1089;&#1082;&#1072;&#1103;_&#1080;&#1085;&#1080;&#1094;&#1080;&#1072;&#1090;&#1080;&#1074;&#1072;" TargetMode="External"/><Relationship Id="rId20" Type="http://schemas.openxmlformats.org/officeDocument/2006/relationships/hyperlink" Target="https://ru.wikipedia.org/wiki/&#1056;&#1072;&#1073;&#1086;&#1095;&#1077;-&#1082;&#1088;&#1077;&#1089;&#1090;&#1100;&#1103;&#1085;&#1089;&#1082;&#1072;&#1103;_&#1050;&#1088;&#1072;&#1089;&#1085;&#1072;&#1103;_&#1072;&#1088;&#1084;&#1080;&#1103;" TargetMode="External"/><Relationship Id="rId21" Type="http://schemas.openxmlformats.org/officeDocument/2006/relationships/hyperlink" Target="https://ru.wikipedia.org/wiki/&#1042;&#1077;&#1088;&#1084;&#1072;&#1093;&#1090;" TargetMode="External"/><Relationship Id="rId22" Type="http://schemas.openxmlformats.org/officeDocument/2006/relationships/hyperlink" Target="https://ru.wikipedia.org/wiki/&#1058;&#1072;&#1082;&#1090;&#1080;&#1082;&#1072;_&#1074;&#1099;&#1078;&#1078;&#1077;&#1085;&#1085;&#1086;&#1081;_&#1079;&#1077;&#1084;&#1083;&#1080;" TargetMode="External"/><Relationship Id="rId23" Type="http://schemas.openxmlformats.org/officeDocument/2006/relationships/hyperlink" Target="https://ru.wikipedia.org/wiki/&#1058;&#1072;&#1082;&#1090;&#1080;&#1082;&#1072;_&#1074;&#1099;&#1078;&#1078;&#1077;&#1085;&#1085;&#1086;&#1081;_&#1079;&#1077;&#1084;&#1083;&#1080;" TargetMode="External"/><Relationship Id="rId24" Type="http://schemas.openxmlformats.org/officeDocument/2006/relationships/hyperlink" Target="https://ru.wikipedia.org/wiki/&#1058;&#1072;&#1082;&#1090;&#1080;&#1082;&#1072;_&#1074;&#1099;&#1078;&#1078;&#1077;&#1085;&#1085;&#1086;&#1081;_&#1079;&#1077;&#1084;&#1083;&#1080;" TargetMode="External"/><Relationship Id="rId25" Type="http://schemas.openxmlformats.org/officeDocument/2006/relationships/hyperlink" Target="https://ru.wikipedia.org/wiki/&#1050;&#1091;&#1088;&#1089;&#1082;&#1072;&#1103;_&#1073;&#1080;&#1090;&#1074;&#1072;#cite_note-.D0.91.D0.B5.D1.80.D1.82.D1.85.D0.BE.D0.BB.D1.8C.D0.B4_.D0.97.D0.B5.D0.B5.D0.B2.D0.B0.D0.BB.D1.8C.D0.B4-10" TargetMode="External"/><Relationship Id="rId26" Type="http://schemas.openxmlformats.org/officeDocument/2006/relationships/hyperlink" Target="https://ru.wikipedia.org/wiki/&#1044;&#1077;&#1085;&#1100;_&#1074;&#1086;&#1080;&#1085;&#1089;&#1082;&#1086;&#1081;_&#1089;&#1083;&#1072;&#1074;&#1099;_&#1056;&#1086;&#1089;&#1089;&#1080;&#1080;" TargetMode="External"/><Relationship Id="rId27" Type="http://schemas.openxmlformats.org/officeDocument/2006/relationships/hyperlink" Target="https://commons.wikimedia.org/wiki/File:&#1055;&#1072;&#1084;&#1103;&#1090;&#1085;&#1080;&#1082;_&#1084;&#1072;&#1088;&#1096;&#1072;&#1083;&#1091;_&#1043;.&#1050;._&#1046;&#1091;&#1082;&#1086;&#1074;&#1091;_&#1074;_&#1050;&#1091;&#1088;&#1089;&#1082;&#1077;..jpg?uselang=ru" TargetMode="External"/><Relationship Id="rId28" Type="http://schemas.openxmlformats.org/officeDocument/2006/relationships/image" Target="../media/image14.jpeg"/><Relationship Id="rId29" Type="http://schemas.openxmlformats.org/officeDocument/2006/relationships/hyperlink" Target="https://commons.wikimedia.org/wiki/File:Flag_of_the_Soviet_Union.svg?uselang=ru" TargetMode="External"/><Relationship Id="rId30" Type="http://schemas.openxmlformats.org/officeDocument/2006/relationships/image" Target="../media/image15.png"/><Relationship Id="rId31" Type="http://schemas.openxmlformats.org/officeDocument/2006/relationships/image" Target="../media/image16.png"/><Relationship Id="rId32" Type="http://schemas.openxmlformats.org/officeDocument/2006/relationships/image" Target="../media/image15.png"/><Relationship Id="rId33" Type="http://schemas.openxmlformats.org/officeDocument/2006/relationships/image" Target="../media/image15.png"/><Relationship Id="rId34" Type="http://schemas.openxmlformats.org/officeDocument/2006/relationships/image" Target="../media/image15.png"/><Relationship Id="rId35" Type="http://schemas.openxmlformats.org/officeDocument/2006/relationships/image" Target="../media/image15.png"/><Relationship Id="rId36" Type="http://schemas.openxmlformats.org/officeDocument/2006/relationships/image" Target="../media/image16.png"/><Relationship Id="rId37" Type="http://schemas.openxmlformats.org/officeDocument/2006/relationships/image" Target="../media/image16.png"/><Relationship Id="rId38" Type="http://schemas.openxmlformats.org/officeDocument/2006/relationships/image" Target="../media/image16.png"/><Relationship Id="rId39" Type="http://schemas.openxmlformats.org/officeDocument/2006/relationships/image" Target="../media/image16.png"/><Relationship Id="rId4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698400" y="2247480"/>
            <a:ext cx="7747200" cy="38782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26" name="Picture 4" descr="\\Priemnaya\обмен\305 КАБИНЕТ\фон 5 т.jpg"/>
          <p:cNvPicPr/>
          <p:nvPr/>
        </p:nvPicPr>
        <p:blipFill>
          <a:blip r:embed="rId2"/>
          <a:stretch/>
        </p:blipFill>
        <p:spPr>
          <a:xfrm>
            <a:off x="-25560" y="-103320"/>
            <a:ext cx="9306000" cy="7021800"/>
          </a:xfrm>
          <a:prstGeom prst="rect">
            <a:avLst/>
          </a:prstGeom>
          <a:ln w="0">
            <a:noFill/>
          </a:ln>
        </p:spPr>
      </p:pic>
      <p:sp>
        <p:nvSpPr>
          <p:cNvPr id="427" name="Заголовок 1"/>
          <p:cNvSpPr/>
          <p:nvPr/>
        </p:nvSpPr>
        <p:spPr>
          <a:xfrm>
            <a:off x="3780000" y="3284640"/>
            <a:ext cx="4627440" cy="2808360"/>
          </a:xfrm>
          <a:prstGeom prst="rect">
            <a:avLst/>
          </a:prstGeom>
          <a:solidFill>
            <a:srgbClr val="e3d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Участнику Великой Отечественной войны Меркулову Сергею Николаевичу посвящается…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8" name="Заголовок 1"/>
          <p:cNvSpPr/>
          <p:nvPr/>
        </p:nvSpPr>
        <p:spPr>
          <a:xfrm>
            <a:off x="900000" y="2276640"/>
            <a:ext cx="3240360" cy="1873080"/>
          </a:xfrm>
          <a:prstGeom prst="rect">
            <a:avLst/>
          </a:prstGeom>
          <a:solidFill>
            <a:srgbClr val="e3d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Ваш подвиг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в сердце сохраним…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9" name="Заголовок 1"/>
          <p:cNvSpPr/>
          <p:nvPr/>
        </p:nvSpPr>
        <p:spPr>
          <a:xfrm>
            <a:off x="1403280" y="836640"/>
            <a:ext cx="5329440" cy="1368360"/>
          </a:xfrm>
          <a:prstGeom prst="rect">
            <a:avLst/>
          </a:prstGeom>
          <a:solidFill>
            <a:srgbClr val="d686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 человеке может рассказать многое, о человеке могут рассказать многие. Друзья, родственники, знакомые, а так же фотографии, публикации, удостоверения и многое другое. Сегодня о судьбе нашего героя расскажут архивные документы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6" descr="\\Priemnaya\обмен\305 КАБИНЕТ\фон 2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77080"/>
          </a:xfrm>
          <a:prstGeom prst="rect">
            <a:avLst/>
          </a:prstGeom>
          <a:ln w="0">
            <a:noFill/>
          </a:ln>
        </p:spPr>
      </p:pic>
      <p:pic>
        <p:nvPicPr>
          <p:cNvPr id="483" name="Объект 4" descr=""/>
          <p:cNvPicPr/>
          <p:nvPr/>
        </p:nvPicPr>
        <p:blipFill>
          <a:blip r:embed="rId2"/>
          <a:stretch/>
        </p:blipFill>
        <p:spPr>
          <a:xfrm>
            <a:off x="3635280" y="2349360"/>
            <a:ext cx="5210280" cy="35784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8389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95d1d"/>
                </a:solidFill>
                <a:latin typeface="Times New Roman"/>
              </a:rPr>
              <a:t>Орденская книжка Сергея Николаевича Меркулова </a:t>
            </a:r>
            <a:br>
              <a:rPr sz="2400"/>
            </a:br>
            <a:r>
              <a:rPr b="1" lang="ru-RU" sz="2400" spc="-1" strike="noStrike">
                <a:solidFill>
                  <a:srgbClr val="895d1d"/>
                </a:solidFill>
                <a:latin typeface="Times New Roman"/>
              </a:rPr>
              <a:t>к ордену Отечественной войны </a:t>
            </a:r>
            <a:r>
              <a:rPr b="1" lang="en-US" sz="2400" spc="-1" strike="noStrike">
                <a:solidFill>
                  <a:srgbClr val="895d1d"/>
                </a:solidFill>
                <a:latin typeface="Book Antiqua"/>
              </a:rPr>
              <a:t>I</a:t>
            </a:r>
            <a:r>
              <a:rPr b="1" lang="ru-RU" sz="2400" spc="-1" strike="noStrike">
                <a:solidFill>
                  <a:srgbClr val="895d1d"/>
                </a:solidFill>
                <a:latin typeface="Times New Roman"/>
              </a:rPr>
              <a:t> степени</a:t>
            </a:r>
            <a:endParaRPr b="0" lang="en-US" sz="2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85" name="Текст 4"/>
          <p:cNvSpPr/>
          <p:nvPr/>
        </p:nvSpPr>
        <p:spPr>
          <a:xfrm>
            <a:off x="5468760" y="5805360"/>
            <a:ext cx="3656160" cy="1052640"/>
          </a:xfrm>
          <a:prstGeom prst="rect">
            <a:avLst/>
          </a:prstGeom>
          <a:solidFill>
            <a:srgbClr val="e3d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бъединённый архивный фонд № 59 «Участники Великой Отечественной Войны»;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пись №2 «Меркулов Сергей Николаевич»; единица хранения №5, 1985 год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86" name="Рисунок 5" descr=""/>
          <p:cNvPicPr/>
          <p:nvPr/>
        </p:nvPicPr>
        <p:blipFill>
          <a:blip r:embed="rId3"/>
          <a:stretch/>
        </p:blipFill>
        <p:spPr>
          <a:xfrm>
            <a:off x="241200" y="2060640"/>
            <a:ext cx="3095640" cy="4425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6" descr="\\Priemnaya\обмен\305 КАБИНЕТ\фон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5487840" y="6308280"/>
            <a:ext cx="365616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89" name="Прямоугольник 4"/>
          <p:cNvSpPr/>
          <p:nvPr/>
        </p:nvSpPr>
        <p:spPr>
          <a:xfrm>
            <a:off x="684360" y="115920"/>
            <a:ext cx="8280360" cy="6403320"/>
          </a:xfrm>
          <a:prstGeom prst="rect">
            <a:avLst/>
          </a:prstGeom>
          <a:noFill/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                     </a:t>
            </a:r>
            <a:r>
              <a:rPr b="1" lang="ru-RU" sz="1800" spc="-1" strike="noStrike" u="sng">
                <a:solidFill>
                  <a:srgbClr val="800000"/>
                </a:solidFill>
                <a:uFillTx/>
                <a:latin typeface="Book Antiqua"/>
              </a:rPr>
              <a:t>Из воспоминаний С.Н.Меркулова: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«Это было в деревеньке Малая Юрьевка. Наш взвод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гвардейцев получил приказ  помочь стрелковому батальону, окопавшемуся  на подступах  к селу, овладеть населенным пунктом и участком дороги стратегического назначения. Но, как оказалось, в подразделении осталось в живых всего 38 бойцов и комбат их отводил в тыл. Со словами: «Это у вас приказ наступать, а у нас другой приказ,» – комбат выводил своих людей в тыл.   Нашему взводу ничего не оставалось, как в одиночку выполнять приказ. Вытянувшись цепью, автоматчики двинулись к деревне. Я, да боец Леонтьев первыми подошли к околице. Глядим, за домом рядком выстроены шесть бронемашин, направившихся в нашу сторону.  Пока их водители обедали , мы по ним очередь из автоматов. Фрицы – врассыпную, мы – за ними. Даже не заметили в пылу атаки, как оторвались от своих. Под деревом увидели раненного немца. Перевязанный с ног до головы, он лежал без сил по деревом. Мы направились к немцу, а он оказался приманкой. По нам сразу произвели обстрел. Меня ранили в плечо, руку и ногу. Я сразу и не понял, что меня ранили…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Гимнастерка мгновенно набухла от крови, нестерпимо болела нога. Мелкими перебежками я добрался до своих. Вскоре наши  ребята заняли деревню, а меня отправили в медсанбат»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6" descr="\\Priemnaya\обмен\305 КАБИНЕТ\фон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5487840" y="6308280"/>
            <a:ext cx="365616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92" name="Прямоугольник 4"/>
          <p:cNvSpPr/>
          <p:nvPr/>
        </p:nvSpPr>
        <p:spPr>
          <a:xfrm>
            <a:off x="1979640" y="115920"/>
            <a:ext cx="7164360" cy="1009440"/>
          </a:xfrm>
          <a:prstGeom prst="rect">
            <a:avLst/>
          </a:prstGeom>
          <a:solidFill>
            <a:srgbClr val="873624"/>
          </a:solidFill>
          <a:ln w="25560">
            <a:solidFill>
              <a:srgbClr val="622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сле очередного лечения в госпитале Сергей Николаевич Меркулов вновь вернулся на передовую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3" name="Прямоугольник 5"/>
          <p:cNvSpPr/>
          <p:nvPr/>
        </p:nvSpPr>
        <p:spPr>
          <a:xfrm>
            <a:off x="179280" y="1484280"/>
            <a:ext cx="8280360" cy="3111480"/>
          </a:xfrm>
          <a:prstGeom prst="rect">
            <a:avLst/>
          </a:prstGeom>
          <a:noFill/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                     </a:t>
            </a:r>
            <a:r>
              <a:rPr b="1" lang="ru-RU" sz="1800" spc="-1" strike="noStrike" u="sng">
                <a:solidFill>
                  <a:srgbClr val="800000"/>
                </a:solidFill>
                <a:uFillTx/>
                <a:latin typeface="Book Antiqua"/>
              </a:rPr>
              <a:t>Из воспоминаний С.Н.Меркулова: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«Недалеко от моста , на северном берегу реки Прегель, немцы соорудили два дзота, чтобы держать под постоянным обстрелом мост и помешать нашим войскам передвижение и переправу по нему. Ночью я с бойцами перебежали незаметно через мост, воспользовавшись темнотой и дымом.  «На дзот бегом! - скомандовал я и сам кинулся вперед.  Немцы успели сделать пару выстрелов, как мы закидали их гранатами» . Так,  12 гвардейцев под командованием лейтенанта Меркулова захватили два дзота, освободив от обстрела стратегический объект – мост через реку Прегель 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6" descr="\\Priemnaya\обмен\305 КАБИНЕТ\фон 2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7060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8680" y="333000"/>
            <a:ext cx="791532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95d1d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895d1d"/>
                </a:solidFill>
                <a:latin typeface="Times New Roman"/>
              </a:rPr>
              <a:t>Ксерокопия из книги «Штурм Кенигсберга» с заметкой о солдатской отваге лейтенанта Меркулова </a:t>
            </a:r>
            <a:endParaRPr b="0" lang="en-US" sz="2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96" name="Текст 4"/>
          <p:cNvSpPr/>
          <p:nvPr/>
        </p:nvSpPr>
        <p:spPr>
          <a:xfrm>
            <a:off x="5487840" y="5875200"/>
            <a:ext cx="3656160" cy="995400"/>
          </a:xfrm>
          <a:prstGeom prst="rect">
            <a:avLst/>
          </a:prstGeom>
          <a:solidFill>
            <a:srgbClr val="e3d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бъединённый архивный фонд № 59 «Участники Великой Отечественной Войны»;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пись №2 «Меркулов Сергей Николаевич»; единица хранения №7, 1985 год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97" name="Объект 4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3887640" cy="4367520"/>
          </a:xfrm>
          <a:prstGeom prst="rect">
            <a:avLst/>
          </a:prstGeom>
          <a:ln w="0">
            <a:noFill/>
          </a:ln>
        </p:spPr>
      </p:pic>
      <p:pic>
        <p:nvPicPr>
          <p:cNvPr id="498" name="Рисунок 5" descr=""/>
          <p:cNvPicPr/>
          <p:nvPr/>
        </p:nvPicPr>
        <p:blipFill>
          <a:blip r:embed="rId3"/>
          <a:stretch/>
        </p:blipFill>
        <p:spPr>
          <a:xfrm>
            <a:off x="4284720" y="1557360"/>
            <a:ext cx="3682800" cy="4321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5" descr="\\Priemnaya\обмен\305 КАБИНЕТ\фон 2.jp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86736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76360" y="2565000"/>
            <a:ext cx="3598920" cy="23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95d1d"/>
                </a:solidFill>
                <a:latin typeface="Times New Roman"/>
              </a:rPr>
              <a:t>Ксерокопия обложки книги «Штурм Кенигсберга» с</a:t>
            </a:r>
            <a:br>
              <a:rPr sz="2800"/>
            </a:br>
            <a:r>
              <a:rPr b="1" lang="ru-RU" sz="2800" spc="-1" strike="noStrike">
                <a:solidFill>
                  <a:srgbClr val="895d1d"/>
                </a:solidFill>
                <a:latin typeface="Times New Roman"/>
              </a:rPr>
              <a:t>памятной записью С.Н.Меркулова </a:t>
            </a:r>
            <a:endParaRPr b="0" lang="en-US" sz="28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01" name="Текст 4"/>
          <p:cNvSpPr/>
          <p:nvPr/>
        </p:nvSpPr>
        <p:spPr>
          <a:xfrm>
            <a:off x="5487840" y="5805360"/>
            <a:ext cx="3656160" cy="1062000"/>
          </a:xfrm>
          <a:prstGeom prst="rect">
            <a:avLst/>
          </a:prstGeom>
          <a:solidFill>
            <a:srgbClr val="e3d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бъединённый архивный фонд № 59 «Участники Великой Отечественной Войны»;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пись №2 «Меркулов Сергей Николаевич» – участник Великой Отечественной войны; единица хранения №7, лист №3; 1985 год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2" name="Рисунок 8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4465800" cy="6018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5" descr="\\Priemnaya\обмен\305 КАБИНЕТ\фон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00360" y="1052640"/>
            <a:ext cx="4244760" cy="37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95d1d"/>
                </a:solidFill>
                <a:latin typeface="Times New Roman"/>
              </a:rPr>
              <a:t>С.Н.Меркулов с фронтовыми друзьями</a:t>
            </a:r>
            <a:br>
              <a:rPr sz="4400"/>
            </a:br>
            <a:r>
              <a:rPr b="1" lang="ru-RU" sz="4400" spc="-1" strike="noStrike">
                <a:solidFill>
                  <a:srgbClr val="895d1d"/>
                </a:solidFill>
                <a:latin typeface="Times New Roman"/>
              </a:rPr>
              <a:t>(1 ряд слева)</a:t>
            </a:r>
            <a:endParaRPr b="0" lang="en-US" sz="44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505" name="Объект 4" descr=""/>
          <p:cNvPicPr/>
          <p:nvPr/>
        </p:nvPicPr>
        <p:blipFill>
          <a:blip r:embed="rId2"/>
          <a:stretch/>
        </p:blipFill>
        <p:spPr>
          <a:xfrm>
            <a:off x="395280" y="847800"/>
            <a:ext cx="4032360" cy="5029200"/>
          </a:xfrm>
          <a:prstGeom prst="rect">
            <a:avLst/>
          </a:prstGeom>
          <a:ln w="0">
            <a:noFill/>
          </a:ln>
        </p:spPr>
      </p:pic>
      <p:sp>
        <p:nvSpPr>
          <p:cNvPr id="506" name="Текст 4"/>
          <p:cNvSpPr/>
          <p:nvPr/>
        </p:nvSpPr>
        <p:spPr>
          <a:xfrm>
            <a:off x="5477040" y="5732640"/>
            <a:ext cx="3655800" cy="1125360"/>
          </a:xfrm>
          <a:prstGeom prst="rect">
            <a:avLst/>
          </a:prstGeom>
          <a:solidFill>
            <a:srgbClr val="e3d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бъединённый архивный фонд № 59 «Участники Великой Отечественной Войны»;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пись №2 «Меркулов Сергей Николаевич»; единица хранения №9, лист №1, 1945 год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5" descr="\\Priemnaya\обмен\305 КАБИНЕТ\фон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Объект 4" descr=""/>
          <p:cNvPicPr/>
          <p:nvPr/>
        </p:nvPicPr>
        <p:blipFill>
          <a:blip r:embed="rId2"/>
          <a:stretch/>
        </p:blipFill>
        <p:spPr>
          <a:xfrm>
            <a:off x="0" y="1628640"/>
            <a:ext cx="6840360" cy="448956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68360" y="260280"/>
            <a:ext cx="662472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95d1d"/>
                </a:solidFill>
                <a:latin typeface="Times New Roman"/>
              </a:rPr>
              <a:t>Благодарственная телеграмма С.Н.Меркулову за отличные боевые действия, проявленные при овладении городами Ландсберг и Бартенштеин</a:t>
            </a:r>
            <a:r>
              <a:rPr b="0" lang="ru-RU" sz="2800" spc="-1" strike="noStrike">
                <a:solidFill>
                  <a:srgbClr val="895d1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10" name="Текст 4"/>
          <p:cNvSpPr/>
          <p:nvPr/>
        </p:nvSpPr>
        <p:spPr>
          <a:xfrm>
            <a:off x="4788000" y="5732640"/>
            <a:ext cx="4356000" cy="1125360"/>
          </a:xfrm>
          <a:prstGeom prst="rect">
            <a:avLst/>
          </a:prstGeom>
          <a:solidFill>
            <a:srgbClr val="e3d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бъединённый архивный фонд № 59 «Участники Великой Отечественной Войны»;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пись №2 «Меркулов Сергей Николаевич»; единица хранения №8, лист №1, 1945 год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6" descr="\\Priemnaya\обмен\305 КАБИНЕТ\фон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2" name="Объект 4" descr=""/>
          <p:cNvPicPr/>
          <p:nvPr/>
        </p:nvPicPr>
        <p:blipFill>
          <a:blip r:embed="rId2"/>
          <a:stretch/>
        </p:blipFill>
        <p:spPr>
          <a:xfrm>
            <a:off x="4500720" y="2243160"/>
            <a:ext cx="4643280" cy="341784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8328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95d1d"/>
                </a:solidFill>
                <a:latin typeface="Times New Roman"/>
              </a:rPr>
              <a:t>Орденская книжка С.Н.Меркулова </a:t>
            </a:r>
            <a:br>
              <a:rPr sz="2800"/>
            </a:br>
            <a:r>
              <a:rPr b="1" lang="ru-RU" sz="2800" spc="-1" strike="noStrike">
                <a:solidFill>
                  <a:srgbClr val="895d1d"/>
                </a:solidFill>
                <a:latin typeface="Times New Roman"/>
              </a:rPr>
              <a:t>к ордену Красной звезды</a:t>
            </a:r>
            <a:endParaRPr b="0" lang="en-US" sz="28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14" name="Текст 4"/>
          <p:cNvSpPr/>
          <p:nvPr/>
        </p:nvSpPr>
        <p:spPr>
          <a:xfrm>
            <a:off x="5487840" y="5769000"/>
            <a:ext cx="3656160" cy="1081080"/>
          </a:xfrm>
          <a:prstGeom prst="rect">
            <a:avLst/>
          </a:prstGeom>
          <a:solidFill>
            <a:srgbClr val="e3d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бъединённый архивный фонд № 59 «Участники Великой Отечественной Войны»;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пись №2 «Меркулов Сергей Николаевич»; единица хранения №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15" name="Рисунок 5" descr=""/>
          <p:cNvPicPr/>
          <p:nvPr/>
        </p:nvPicPr>
        <p:blipFill>
          <a:blip r:embed="rId3"/>
          <a:stretch/>
        </p:blipFill>
        <p:spPr>
          <a:xfrm>
            <a:off x="0" y="2276640"/>
            <a:ext cx="4500720" cy="338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6" descr="\\Priemnaya\обмен\305 КАБИНЕТ\фон 2.jpg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7" name="Объект 4" descr=""/>
          <p:cNvPicPr/>
          <p:nvPr/>
        </p:nvPicPr>
        <p:blipFill>
          <a:blip r:embed="rId2"/>
          <a:stretch/>
        </p:blipFill>
        <p:spPr>
          <a:xfrm>
            <a:off x="0" y="2133720"/>
            <a:ext cx="4575240" cy="313344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08720" cy="136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95d1d"/>
                </a:solidFill>
                <a:latin typeface="Times New Roman"/>
              </a:rPr>
              <a:t>Удостоверения к наградам  С.Н.Меркулова</a:t>
            </a:r>
            <a:endParaRPr b="0" lang="en-US" sz="4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19" name="Текст 4"/>
          <p:cNvSpPr/>
          <p:nvPr/>
        </p:nvSpPr>
        <p:spPr>
          <a:xfrm>
            <a:off x="5292720" y="5732640"/>
            <a:ext cx="3851280" cy="1096920"/>
          </a:xfrm>
          <a:prstGeom prst="rect">
            <a:avLst/>
          </a:prstGeom>
          <a:solidFill>
            <a:srgbClr val="e3d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бъединённый архивный фонд № 59 «Участники Великой Отечественной Войны»;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пись №2 «Меркулов Сергей Николаевич»; единица хранения №6,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20" name="Рисунок 5" descr=""/>
          <p:cNvPicPr/>
          <p:nvPr/>
        </p:nvPicPr>
        <p:blipFill>
          <a:blip r:embed="rId3"/>
          <a:stretch/>
        </p:blipFill>
        <p:spPr>
          <a:xfrm>
            <a:off x="4565520" y="2444760"/>
            <a:ext cx="4548240" cy="3144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6" descr="\\Priemnaya\обмен\305 КАБИНЕТ\фон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0908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95d1d"/>
                </a:solidFill>
                <a:latin typeface="Times New Roman"/>
              </a:rPr>
              <a:t>         </a:t>
            </a:r>
            <a:r>
              <a:rPr b="0" lang="ru-RU" sz="4400" spc="-1" strike="noStrike">
                <a:solidFill>
                  <a:srgbClr val="895d1d"/>
                </a:solidFill>
                <a:latin typeface="Times New Roman"/>
              </a:rPr>
              <a:t>Удостоверения к наградамС.Н.Меркулова</a:t>
            </a:r>
            <a:endParaRPr b="0" lang="en-US" sz="4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23" name="Текст 4"/>
          <p:cNvSpPr/>
          <p:nvPr/>
        </p:nvSpPr>
        <p:spPr>
          <a:xfrm>
            <a:off x="5292720" y="5877000"/>
            <a:ext cx="3851280" cy="981000"/>
          </a:xfrm>
          <a:prstGeom prst="rect">
            <a:avLst/>
          </a:prstGeom>
          <a:solidFill>
            <a:srgbClr val="e3d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бъединённый архивный фонд № 59 «Участники Великой Отечественной Войны»;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пись №2 «Меркулов Сергей Николаевич»; единица хранения №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24" name="Объект 6" descr=""/>
          <p:cNvPicPr/>
          <p:nvPr/>
        </p:nvPicPr>
        <p:blipFill>
          <a:blip r:embed="rId2"/>
          <a:stretch/>
        </p:blipFill>
        <p:spPr>
          <a:xfrm>
            <a:off x="3851280" y="2492280"/>
            <a:ext cx="5213520" cy="3384720"/>
          </a:xfrm>
          <a:prstGeom prst="rect">
            <a:avLst/>
          </a:prstGeom>
          <a:ln w="0">
            <a:noFill/>
          </a:ln>
        </p:spPr>
      </p:pic>
      <p:pic>
        <p:nvPicPr>
          <p:cNvPr id="525" name="Рисунок 7" descr=""/>
          <p:cNvPicPr/>
          <p:nvPr/>
        </p:nvPicPr>
        <p:blipFill>
          <a:blip r:embed="rId3"/>
          <a:stretch/>
        </p:blipFill>
        <p:spPr>
          <a:xfrm>
            <a:off x="108000" y="2060640"/>
            <a:ext cx="361296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4" descr="\\Priemnaya\обмен\305 КАБИНЕТ\фон 5 т.jpg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8994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\\Priemnaya\обмен\305 КАБИНЕТ\Сделано\59-2  Меркулов\Копия DSC_0121.JPG"/>
          <p:cNvPicPr/>
          <p:nvPr/>
        </p:nvPicPr>
        <p:blipFill>
          <a:blip r:embed="rId2"/>
          <a:stretch/>
        </p:blipFill>
        <p:spPr>
          <a:xfrm>
            <a:off x="1835280" y="1052640"/>
            <a:ext cx="2354040" cy="3541680"/>
          </a:xfrm>
          <a:prstGeom prst="rect">
            <a:avLst/>
          </a:prstGeom>
          <a:ln w="0">
            <a:noFill/>
          </a:ln>
        </p:spPr>
      </p:pic>
      <p:pic>
        <p:nvPicPr>
          <p:cNvPr id="432" name="Заголовок 1" descr=""/>
          <p:cNvPicPr/>
          <p:nvPr/>
        </p:nvPicPr>
        <p:blipFill>
          <a:blip r:embed="rId3"/>
          <a:stretch/>
        </p:blipFill>
        <p:spPr>
          <a:xfrm>
            <a:off x="3664080" y="2530440"/>
            <a:ext cx="4741560" cy="2797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6" descr="\\Priemnaya\обмен\305 КАБИНЕТ\фон 2.jpg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86736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0908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95d1d"/>
                </a:solidFill>
                <a:latin typeface="Times New Roman"/>
              </a:rPr>
              <a:t>Удостоверения к медалям С.Н Меркулова.</a:t>
            </a:r>
            <a:endParaRPr b="0" lang="en-US" sz="4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28" name="Текст 4"/>
          <p:cNvSpPr/>
          <p:nvPr/>
        </p:nvSpPr>
        <p:spPr>
          <a:xfrm>
            <a:off x="5284800" y="5589720"/>
            <a:ext cx="3851280" cy="1152360"/>
          </a:xfrm>
          <a:prstGeom prst="rect">
            <a:avLst/>
          </a:prstGeom>
          <a:solidFill>
            <a:srgbClr val="e3d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бъединённый архивный фонд № 59 «Участники Великой Отечественной Войны»;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пись №2 «Меркулов Сергей Николаевич» – участник Великой Отечественной войны; единица хранения №6, лист №5,6;  1981-1988 год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29" name="Рисунок 7" descr=""/>
          <p:cNvPicPr/>
          <p:nvPr/>
        </p:nvPicPr>
        <p:blipFill>
          <a:blip r:embed="rId2"/>
          <a:stretch/>
        </p:blipFill>
        <p:spPr>
          <a:xfrm>
            <a:off x="4640400" y="2492280"/>
            <a:ext cx="4495680" cy="3024360"/>
          </a:xfrm>
          <a:prstGeom prst="rect">
            <a:avLst/>
          </a:prstGeom>
          <a:ln w="0">
            <a:noFill/>
          </a:ln>
        </p:spPr>
      </p:pic>
      <p:pic>
        <p:nvPicPr>
          <p:cNvPr id="530" name="Объект 6" descr=""/>
          <p:cNvPicPr/>
          <p:nvPr/>
        </p:nvPicPr>
        <p:blipFill>
          <a:blip r:embed="rId3"/>
          <a:stretch/>
        </p:blipFill>
        <p:spPr>
          <a:xfrm>
            <a:off x="0" y="2386080"/>
            <a:ext cx="4471920" cy="277164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4"/>
          <a:stretch/>
        </p:blipFill>
        <p:spPr>
          <a:xfrm>
            <a:off x="698400" y="2247480"/>
            <a:ext cx="7747200" cy="3878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698400" y="2247480"/>
            <a:ext cx="7747200" cy="387828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534" name="Picture 5" descr="\\Priemnaya\обмен\305 КАБИНЕТ\фон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5" descr="\\Priemnaya\обмен\305 КАБИНЕТ\фон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99080" y="-243360"/>
            <a:ext cx="4464000" cy="32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95d1d"/>
                </a:solidFill>
                <a:latin typeface="Times New Roman"/>
              </a:rPr>
              <a:t>Благодарственное письмо в честь Победы С.Н. Меркулова.</a:t>
            </a:r>
            <a:endParaRPr b="0" lang="en-US" sz="44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537" name="Объект 4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4311720" cy="6048720"/>
          </a:xfrm>
          <a:prstGeom prst="rect">
            <a:avLst/>
          </a:prstGeom>
          <a:ln w="0">
            <a:noFill/>
          </a:ln>
        </p:spPr>
      </p:pic>
      <p:sp>
        <p:nvSpPr>
          <p:cNvPr id="538" name="Текст 4"/>
          <p:cNvSpPr/>
          <p:nvPr/>
        </p:nvSpPr>
        <p:spPr>
          <a:xfrm>
            <a:off x="4788000" y="5705640"/>
            <a:ext cx="4356000" cy="1152360"/>
          </a:xfrm>
          <a:prstGeom prst="rect">
            <a:avLst/>
          </a:prstGeom>
          <a:solidFill>
            <a:srgbClr val="e3d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бъединённый архивный фонд № 59 «Участники Великой Отечественной Войны»;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65040" indent="-365040" algn="r">
              <a:lnSpc>
                <a:spcPct val="100000"/>
              </a:lnSpc>
              <a:spcBef>
                <a:spcPts val="2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пись №2 «Меркулов Сергей Николаевич» – участник Великой Отечественной войны; единица хранения №4, лист №1, 1982 год</a:t>
            </a:r>
            <a:r>
              <a:rPr b="0" lang="ru-RU" sz="800" spc="-1" strike="noStrike">
                <a:solidFill>
                  <a:srgbClr val="262626"/>
                </a:solidFill>
                <a:latin typeface="Times New Roman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6" descr="\\Priemnaya\обмен\305 КАБИНЕТ\фон 2.jpg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6736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0908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95d1d"/>
                </a:solidFill>
                <a:latin typeface="Times New Roman"/>
              </a:rPr>
              <a:t>Удостоверения к медалям С.Н Меркулова.</a:t>
            </a:r>
            <a:endParaRPr b="0" lang="en-US" sz="4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41" name="Текст 4"/>
          <p:cNvSpPr/>
          <p:nvPr/>
        </p:nvSpPr>
        <p:spPr>
          <a:xfrm>
            <a:off x="5292720" y="5732640"/>
            <a:ext cx="3851280" cy="1081080"/>
          </a:xfrm>
          <a:prstGeom prst="rect">
            <a:avLst/>
          </a:prstGeom>
          <a:solidFill>
            <a:srgbClr val="e3d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бъединённый архивный фонд № 59 «Участники Великой Отечественной Войны»;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пись №2 «Меркулов Сергей Николаевич» – участник Великой Отечественной войны; единица хранения №6, лист №7,8;  1953 год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42" name="Рисунок 7" descr=""/>
          <p:cNvPicPr/>
          <p:nvPr/>
        </p:nvPicPr>
        <p:blipFill>
          <a:blip r:embed="rId2"/>
          <a:stretch/>
        </p:blipFill>
        <p:spPr>
          <a:xfrm>
            <a:off x="4494240" y="2398680"/>
            <a:ext cx="4649760" cy="28306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3"/>
          <a:stretch/>
        </p:blipFill>
        <p:spPr>
          <a:xfrm>
            <a:off x="698400" y="2247480"/>
            <a:ext cx="7747200" cy="3878280"/>
          </a:xfrm>
          <a:prstGeom prst="rect">
            <a:avLst/>
          </a:prstGeom>
          <a:ln w="0">
            <a:noFill/>
          </a:ln>
        </p:spPr>
      </p:pic>
      <p:pic>
        <p:nvPicPr>
          <p:cNvPr id="544" name="Объект 6" descr=""/>
          <p:cNvPicPr/>
          <p:nvPr/>
        </p:nvPicPr>
        <p:blipFill>
          <a:blip r:embed="rId4"/>
          <a:stretch/>
        </p:blipFill>
        <p:spPr>
          <a:xfrm>
            <a:off x="19080" y="2430360"/>
            <a:ext cx="4697280" cy="3146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6" descr="\\Priemnaya\обмен\305 КАБИНЕТ\фон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5487840" y="6308280"/>
            <a:ext cx="365616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47" name="Rectangle 1"/>
          <p:cNvSpPr/>
          <p:nvPr/>
        </p:nvSpPr>
        <p:spPr>
          <a:xfrm>
            <a:off x="250920" y="-54000"/>
            <a:ext cx="864216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00"/>
                </a:solidFill>
                <a:uFillTx/>
                <a:latin typeface="Times New Roman"/>
                <a:ea typeface="Calibri"/>
              </a:rPr>
              <a:t>Послевоенная жизнь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6 году Сергей Николаевич вернулся на Родину, в свой родной край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6 по 1955 годы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ботал учителем физического воспитания в 7-летней школе, с 1955 по 1961 годы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бы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едателем поселкового сельского совета, участвовал в восстановлении народного хозяйства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61 году переехал,  с 1961 по 1969 годы работал слесарем Салаватского нефтехимзавода, а затем - инженером по снабжению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 Нефтеюганске  приехал в 1969 году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л до 1972 года в нефтегазодобывающем управлении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инскнефть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чальником жилищно-коммунального комплека, с 1972 по 1988 год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есарем по ремонту двигателей внутреннего сгорания, затем переведен инженером по снабжению. С 1988 по 1991 годы работал инструктором пневматического тира ДАСААФ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6" descr="\\Priemnaya\обмен\305 КАБИНЕТ\фон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95d1d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50" name="Текст 4"/>
          <p:cNvSpPr/>
          <p:nvPr/>
        </p:nvSpPr>
        <p:spPr>
          <a:xfrm>
            <a:off x="4859280" y="5659560"/>
            <a:ext cx="3960720" cy="1198440"/>
          </a:xfrm>
          <a:prstGeom prst="rect">
            <a:avLst/>
          </a:prstGeom>
          <a:solidFill>
            <a:srgbClr val="e3d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бъединённый архивный фонд № 59 «Участники Великой Отечественной Войны»;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пись №2 «Меркулов Сергей Николаевич»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276360" y="1125000"/>
            <a:ext cx="561636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Славный путь за плечами  Сергея Николаевича: героическая, боевая молодость и самоотверженный, добросовестный труд в тяжелы годы послевоенного восстановления, освоения Сибирского края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pic>
        <p:nvPicPr>
          <p:cNvPr id="552" name="Picture 2" descr="\\192.168.203.25\обмен\305 КАБИНЕТ\Меркулов.jpg"/>
          <p:cNvPicPr/>
          <p:nvPr/>
        </p:nvPicPr>
        <p:blipFill>
          <a:blip r:embed="rId2"/>
          <a:stretch/>
        </p:blipFill>
        <p:spPr>
          <a:xfrm>
            <a:off x="468360" y="981000"/>
            <a:ext cx="2925720" cy="4291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6" descr="\\Priemnaya\обмен\305 КАБИНЕТ\фон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4" name="Объект 3" descr=""/>
          <p:cNvPicPr/>
          <p:nvPr/>
        </p:nvPicPr>
        <p:blipFill>
          <a:blip r:embed="rId2"/>
          <a:stretch/>
        </p:blipFill>
        <p:spPr>
          <a:xfrm>
            <a:off x="5076720" y="1916280"/>
            <a:ext cx="3456000" cy="465588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95d1d"/>
                </a:solidFill>
                <a:latin typeface="Times New Roman"/>
              </a:rPr>
              <a:t>     </a:t>
            </a:r>
            <a:r>
              <a:rPr b="0" lang="ru-RU" sz="3600" spc="-1" strike="noStrike">
                <a:solidFill>
                  <a:srgbClr val="895d1d"/>
                </a:solidFill>
                <a:latin typeface="Times New Roman"/>
              </a:rPr>
              <a:t>Грамоты С.Н.Меркулова за высокие производственные показатели</a:t>
            </a:r>
            <a:endParaRPr b="0" lang="en-US" sz="36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556" name="Рисунок 4" descr=""/>
          <p:cNvPicPr/>
          <p:nvPr/>
        </p:nvPicPr>
        <p:blipFill>
          <a:blip r:embed="rId3"/>
          <a:stretch/>
        </p:blipFill>
        <p:spPr>
          <a:xfrm>
            <a:off x="150840" y="1916280"/>
            <a:ext cx="3571920" cy="4608360"/>
          </a:xfrm>
          <a:prstGeom prst="rect">
            <a:avLst/>
          </a:prstGeom>
          <a:ln w="0">
            <a:noFill/>
          </a:ln>
        </p:spPr>
      </p:pic>
      <p:sp>
        <p:nvSpPr>
          <p:cNvPr id="557" name="Текст 4"/>
          <p:cNvSpPr/>
          <p:nvPr/>
        </p:nvSpPr>
        <p:spPr>
          <a:xfrm>
            <a:off x="5172120" y="5659560"/>
            <a:ext cx="3960720" cy="1198440"/>
          </a:xfrm>
          <a:prstGeom prst="rect">
            <a:avLst/>
          </a:prstGeom>
          <a:solidFill>
            <a:srgbClr val="e3d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бъединённый архивный фонд № 59 «Участники Великой Отечественной Войны»;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пись №2 «Меркулов Сергей Николаевич»; единица хранения №2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6" descr="\\Priemnaya\обмен\305 КАБИНЕТ\фон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95d1d"/>
                </a:solidFill>
                <a:latin typeface="Times New Roman"/>
              </a:rPr>
              <a:t>Грамоты С.Н.Меркулова за высокие производственные показатели</a:t>
            </a:r>
            <a:endParaRPr b="0" lang="en-US" sz="36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560" name="Объект 5" descr=""/>
          <p:cNvPicPr/>
          <p:nvPr/>
        </p:nvPicPr>
        <p:blipFill>
          <a:blip r:embed="rId2"/>
          <a:stretch/>
        </p:blipFill>
        <p:spPr>
          <a:xfrm>
            <a:off x="5076720" y="1827360"/>
            <a:ext cx="3527640" cy="446544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6" descr=""/>
          <p:cNvPicPr/>
          <p:nvPr/>
        </p:nvPicPr>
        <p:blipFill>
          <a:blip r:embed="rId3"/>
          <a:stretch/>
        </p:blipFill>
        <p:spPr>
          <a:xfrm>
            <a:off x="539640" y="1843200"/>
            <a:ext cx="3456000" cy="4464000"/>
          </a:xfrm>
          <a:prstGeom prst="rect">
            <a:avLst/>
          </a:prstGeom>
          <a:ln w="0">
            <a:noFill/>
          </a:ln>
        </p:spPr>
      </p:pic>
      <p:sp>
        <p:nvSpPr>
          <p:cNvPr id="562" name="Текст 4"/>
          <p:cNvSpPr/>
          <p:nvPr/>
        </p:nvSpPr>
        <p:spPr>
          <a:xfrm>
            <a:off x="4572000" y="5805360"/>
            <a:ext cx="4556160" cy="1052640"/>
          </a:xfrm>
          <a:prstGeom prst="rect">
            <a:avLst/>
          </a:prstGeom>
          <a:solidFill>
            <a:srgbClr val="e3d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бъединённый архивный фонд № 59 «Участники Великой Отечественной Войны»;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пись №2 «Меркулов Сергей Николаевич»; единица хранения №2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6" descr="\\Priemnaya\обмен\305 КАБИНЕТ\фон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4" name="Объект 3" descr=""/>
          <p:cNvPicPr/>
          <p:nvPr/>
        </p:nvPicPr>
        <p:blipFill>
          <a:blip r:embed="rId2"/>
          <a:stretch/>
        </p:blipFill>
        <p:spPr>
          <a:xfrm>
            <a:off x="3780000" y="1916280"/>
            <a:ext cx="5157720" cy="354312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748720" cy="119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95d1d"/>
                </a:solidFill>
                <a:latin typeface="Times New Roman"/>
              </a:rPr>
              <a:t>Поздравление в связи </a:t>
            </a:r>
            <a:br>
              <a:rPr sz="4400"/>
            </a:br>
            <a:r>
              <a:rPr b="0" lang="ru-RU" sz="4400" spc="-1" strike="noStrike">
                <a:solidFill>
                  <a:srgbClr val="895d1d"/>
                </a:solidFill>
                <a:latin typeface="Times New Roman"/>
              </a:rPr>
              <a:t>с 60-летием С.Н.Меркулова </a:t>
            </a:r>
            <a:endParaRPr b="0" lang="en-US" sz="44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566" name="Рисунок 4" descr=""/>
          <p:cNvPicPr/>
          <p:nvPr/>
        </p:nvPicPr>
        <p:blipFill>
          <a:blip r:embed="rId3"/>
          <a:stretch/>
        </p:blipFill>
        <p:spPr>
          <a:xfrm>
            <a:off x="179280" y="1889280"/>
            <a:ext cx="3476880" cy="4956120"/>
          </a:xfrm>
          <a:prstGeom prst="rect">
            <a:avLst/>
          </a:prstGeom>
          <a:ln w="0">
            <a:noFill/>
          </a:ln>
        </p:spPr>
      </p:pic>
      <p:sp>
        <p:nvSpPr>
          <p:cNvPr id="567" name="Текст 4"/>
          <p:cNvSpPr/>
          <p:nvPr/>
        </p:nvSpPr>
        <p:spPr>
          <a:xfrm>
            <a:off x="5076720" y="5775480"/>
            <a:ext cx="3996000" cy="1069920"/>
          </a:xfrm>
          <a:prstGeom prst="rect">
            <a:avLst/>
          </a:prstGeom>
          <a:solidFill>
            <a:srgbClr val="e3d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бъединённый архивный фонд № 59 «Участники Великой Отечественной Войны»;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пись №2 «Меркулов Сергей Николаевич»; единица хранения №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5" descr="\\Priemnaya\обмен\305 КАБИНЕТ\фон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32000" y="2997360"/>
            <a:ext cx="410364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Сергей Николаевич Меркулов (справа)  на открытии памятника «Воину-освободителю» на площади города Нефтеюганска </a:t>
            </a:r>
            <a:endParaRPr b="0" lang="en-US" sz="24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570" name="Объект 4" descr=""/>
          <p:cNvPicPr/>
          <p:nvPr/>
        </p:nvPicPr>
        <p:blipFill>
          <a:blip r:embed="rId2"/>
          <a:stretch/>
        </p:blipFill>
        <p:spPr>
          <a:xfrm>
            <a:off x="1258920" y="765000"/>
            <a:ext cx="4005360" cy="5567400"/>
          </a:xfrm>
          <a:prstGeom prst="rect">
            <a:avLst/>
          </a:prstGeom>
          <a:ln w="0">
            <a:noFill/>
          </a:ln>
        </p:spPr>
      </p:pic>
      <p:sp>
        <p:nvSpPr>
          <p:cNvPr id="571" name="Текст 4"/>
          <p:cNvSpPr/>
          <p:nvPr/>
        </p:nvSpPr>
        <p:spPr>
          <a:xfrm>
            <a:off x="5487840" y="5802480"/>
            <a:ext cx="3656160" cy="1019160"/>
          </a:xfrm>
          <a:prstGeom prst="rect">
            <a:avLst/>
          </a:prstGeom>
          <a:solidFill>
            <a:srgbClr val="e3d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бъединённый архивный фонд № 59 «Участники Великой Отечественной Войны»;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пись №2 «Меркулов Сергей Николаевич»; единица хранения №10,  1984 год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6" descr="\\Priemnaya\обмен\305 КАБИНЕТ\фон 2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766280" cy="64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95d1d"/>
                </a:solidFill>
                <a:latin typeface="Times New Roman"/>
              </a:rPr>
              <a:t>Автобиография</a:t>
            </a:r>
            <a:endParaRPr b="0" lang="en-US" sz="4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487840" y="6308280"/>
            <a:ext cx="365616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262626"/>
              </a:solidFill>
              <a:latin typeface="Times New Roman"/>
            </a:endParaRPr>
          </a:p>
        </p:txBody>
      </p:sp>
      <p:pic>
        <p:nvPicPr>
          <p:cNvPr id="436" name="Рисунок 6" descr=""/>
          <p:cNvPicPr/>
          <p:nvPr/>
        </p:nvPicPr>
        <p:blipFill>
          <a:blip r:embed="rId2"/>
          <a:stretch/>
        </p:blipFill>
        <p:spPr>
          <a:xfrm>
            <a:off x="1763640" y="549360"/>
            <a:ext cx="4692600" cy="6165720"/>
          </a:xfrm>
          <a:prstGeom prst="rect">
            <a:avLst/>
          </a:prstGeom>
          <a:ln w="0">
            <a:noFill/>
          </a:ln>
        </p:spPr>
      </p:pic>
      <p:sp>
        <p:nvSpPr>
          <p:cNvPr id="437" name="Текст 4"/>
          <p:cNvSpPr/>
          <p:nvPr/>
        </p:nvSpPr>
        <p:spPr>
          <a:xfrm>
            <a:off x="5796000" y="4365720"/>
            <a:ext cx="3348000" cy="1871640"/>
          </a:xfrm>
          <a:prstGeom prst="rect">
            <a:avLst/>
          </a:prstGeom>
          <a:solidFill>
            <a:srgbClr val="e3d88c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ctr">
              <a:lnSpc>
                <a:spcPct val="10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Объединённый архивный фонд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65040" indent="-365040" algn="ctr">
              <a:lnSpc>
                <a:spcPct val="10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№ 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59 «Участники Великой Отечественной Войны»;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65040" indent="-365040" algn="r">
              <a:lnSpc>
                <a:spcPct val="10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опись №2 «Меркулов Сергей Николаевич»;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65040" indent="-365040" algn="r">
              <a:lnSpc>
                <a:spcPct val="10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единица хранения №2, лист №1 1987 год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5" descr="\\Priemnaya\обмен\305 КАБИНЕТ\фон 2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76360" y="2781000"/>
            <a:ext cx="3527640" cy="258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95d1d"/>
                </a:solidFill>
                <a:latin typeface="Times New Roman"/>
              </a:rPr>
              <a:t>С.Н.Меркулов среди участников похода по местам боевой славы в г.Волгограде</a:t>
            </a:r>
            <a:endParaRPr b="0" lang="en-US" sz="40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574" name="Объект 7" descr=""/>
          <p:cNvPicPr/>
          <p:nvPr/>
        </p:nvPicPr>
        <p:blipFill>
          <a:blip r:embed="rId2"/>
          <a:stretch/>
        </p:blipFill>
        <p:spPr>
          <a:xfrm>
            <a:off x="395280" y="836640"/>
            <a:ext cx="4176720" cy="5214960"/>
          </a:xfrm>
          <a:prstGeom prst="rect">
            <a:avLst/>
          </a:prstGeom>
          <a:ln w="0">
            <a:noFill/>
          </a:ln>
        </p:spPr>
      </p:pic>
      <p:sp>
        <p:nvSpPr>
          <p:cNvPr id="575" name="Текст 4"/>
          <p:cNvSpPr/>
          <p:nvPr/>
        </p:nvSpPr>
        <p:spPr>
          <a:xfrm>
            <a:off x="5487840" y="5732640"/>
            <a:ext cx="3656160" cy="1123920"/>
          </a:xfrm>
          <a:prstGeom prst="rect">
            <a:avLst/>
          </a:prstGeom>
          <a:solidFill>
            <a:srgbClr val="e3d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бъединённый архивный фонд № 59 «Участники Великой Отечественной Войны»;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пись №2 «Меркулов Сергей Николаевич»; единица хранения №11, 1984 год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circl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6" descr="\\Priemnaya\обмен\305 КАБИНЕТ\фон 2.jpg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7564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700000" y="606600"/>
            <a:ext cx="3887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578" name="Объект 1" descr=""/>
          <p:cNvPicPr/>
          <p:nvPr/>
        </p:nvPicPr>
        <p:blipFill>
          <a:blip r:embed="rId2"/>
          <a:stretch/>
        </p:blipFill>
        <p:spPr>
          <a:xfrm>
            <a:off x="108000" y="981000"/>
            <a:ext cx="4032360" cy="522756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211280" y="1047240"/>
            <a:ext cx="493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6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В 1942 году добровольно ушел в действующую армию. 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За мужество и военную доблесть награжден орденами: Красной звезды и Отечественной войны </a:t>
            </a:r>
            <a:r>
              <a:rPr b="0" lang="en-US" sz="1600" spc="-1" strike="noStrike">
                <a:solidFill>
                  <a:srgbClr val="262626"/>
                </a:solidFill>
                <a:latin typeface="Book Antiqua"/>
              </a:rPr>
              <a:t>I </a:t>
            </a: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степени.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День Победы встретил в Восточной Пруссии.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В 1946 году демобилизовался в звании Гвардии лейтенант.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С 1991 года находился на заслуженном отдыхе.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аходясь на пенсии, проводил большую общественную работу по воспитанию молодежи, активный участник работы Совета Ветеранов.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Ветеран труда. За многолетний добросовестный труд награжден юбилейными медалями, почетными грамотами и памятными листами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Из Нефтеюганска по состоянию здоровья переехал к родственникам в г.Тюмень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80" name="Текст 4"/>
          <p:cNvSpPr/>
          <p:nvPr/>
        </p:nvSpPr>
        <p:spPr>
          <a:xfrm>
            <a:off x="19080" y="5805360"/>
            <a:ext cx="3656160" cy="1052640"/>
          </a:xfrm>
          <a:prstGeom prst="rect">
            <a:avLst/>
          </a:prstGeom>
          <a:solidFill>
            <a:srgbClr val="e3d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бъединённый архивный фонд № 59 «Участники Великой Отечественной Войны»;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65040" indent="-365040">
              <a:lnSpc>
                <a:spcPct val="100000"/>
              </a:lnSpc>
              <a:spcBef>
                <a:spcPts val="2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пись №2 «Меркулов Сергей Николаевич»; единица хранения №14, 1990 год</a:t>
            </a:r>
            <a:r>
              <a:rPr b="0" lang="ru-RU" sz="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5" descr="\\Priemnaya\обмен\305 КАБИНЕТ\фон 2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16000" y="115560"/>
            <a:ext cx="784872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95d1d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895d1d"/>
                </a:solidFill>
                <a:latin typeface="Times New Roman"/>
              </a:rPr>
              <a:t>Сергей Николаевич Меркулов среди женщин-ветеранов ВОВ в день чествования 8 Марта</a:t>
            </a:r>
            <a:endParaRPr b="0" lang="en-US" sz="24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583" name="Объект 1" descr=""/>
          <p:cNvPicPr/>
          <p:nvPr/>
        </p:nvPicPr>
        <p:blipFill>
          <a:blip r:embed="rId2"/>
          <a:stretch/>
        </p:blipFill>
        <p:spPr>
          <a:xfrm>
            <a:off x="1187280" y="1347840"/>
            <a:ext cx="6769440" cy="4960800"/>
          </a:xfrm>
          <a:prstGeom prst="rect">
            <a:avLst/>
          </a:prstGeom>
          <a:ln w="0">
            <a:noFill/>
          </a:ln>
        </p:spPr>
      </p:pic>
      <p:sp>
        <p:nvSpPr>
          <p:cNvPr id="584" name="Текст 4"/>
          <p:cNvSpPr/>
          <p:nvPr/>
        </p:nvSpPr>
        <p:spPr>
          <a:xfrm>
            <a:off x="5487840" y="5859360"/>
            <a:ext cx="3656160" cy="1008000"/>
          </a:xfrm>
          <a:prstGeom prst="rect">
            <a:avLst/>
          </a:prstGeom>
          <a:solidFill>
            <a:srgbClr val="e3d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бъединённый архивный фонд № 59 «Участники Великой Отечественной Войны»;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пись №2 «Меркулов Сергей Николаевич» – участник Великой Отечественной войны; единица хранения № 1.1993 год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6" descr="\\Priemnaya\обмен\305 КАБИНЕТ\фон 2.jpg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7564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763640" y="620280"/>
            <a:ext cx="662472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5d1d"/>
                </a:solidFill>
                <a:latin typeface="Times New Roman"/>
              </a:rPr>
              <a:t>Почетные грамоты </a:t>
            </a:r>
            <a:br>
              <a:rPr sz="3200"/>
            </a:br>
            <a:r>
              <a:rPr b="1" lang="ru-RU" sz="3200" spc="-1" strike="noStrike">
                <a:solidFill>
                  <a:srgbClr val="895d1d"/>
                </a:solidFill>
                <a:latin typeface="Times New Roman"/>
              </a:rPr>
              <a:t>Сергея Николаевича Меркулова </a:t>
            </a:r>
            <a:endParaRPr b="0" lang="en-US" sz="32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587" name="Объект 1" descr=""/>
          <p:cNvPicPr/>
          <p:nvPr/>
        </p:nvPicPr>
        <p:blipFill>
          <a:blip r:embed="rId2"/>
          <a:stretch/>
        </p:blipFill>
        <p:spPr>
          <a:xfrm>
            <a:off x="4775040" y="2276640"/>
            <a:ext cx="4343400" cy="3186000"/>
          </a:xfrm>
          <a:prstGeom prst="rect">
            <a:avLst/>
          </a:prstGeom>
          <a:ln w="0">
            <a:noFill/>
          </a:ln>
        </p:spPr>
      </p:pic>
      <p:sp>
        <p:nvSpPr>
          <p:cNvPr id="588" name="Текст 4"/>
          <p:cNvSpPr/>
          <p:nvPr/>
        </p:nvSpPr>
        <p:spPr>
          <a:xfrm>
            <a:off x="3203640" y="6066000"/>
            <a:ext cx="3655800" cy="792000"/>
          </a:xfrm>
          <a:prstGeom prst="rect">
            <a:avLst/>
          </a:prstGeom>
          <a:solidFill>
            <a:srgbClr val="e3d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бъединённый архивный фонд № 59 «Участники Великой Отечественной Войны»;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пись № 2 «Меркулов Сергей Николаевич»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89" name="Рисунок 2" descr=""/>
          <p:cNvPicPr/>
          <p:nvPr/>
        </p:nvPicPr>
        <p:blipFill>
          <a:blip r:embed="rId3"/>
          <a:stretch/>
        </p:blipFill>
        <p:spPr>
          <a:xfrm>
            <a:off x="-33480" y="2276640"/>
            <a:ext cx="482472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5" descr="\\Priemnaya\обмен\305 КАБИНЕТ\фон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1378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95d1d"/>
                </a:solidFill>
                <a:latin typeface="Times New Roman"/>
              </a:rPr>
              <a:t>Сергей Николаевич Меркулов  - участник возложения цветов к памятнику «Воину-освободителю»</a:t>
            </a:r>
            <a:endParaRPr b="0" lang="en-US" sz="24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592" name="Picture 6" descr="C:\ДОКУМЕНТЫ\ОБРАЗЦЫ ДОКУМЕНТОВ\ЛП\59 Ветераны\печатали про них\59-2  Меркулов\DSC_0150.JPG"/>
          <p:cNvPicPr/>
          <p:nvPr/>
        </p:nvPicPr>
        <p:blipFill>
          <a:blip r:embed="rId2"/>
          <a:stretch/>
        </p:blipFill>
        <p:spPr>
          <a:xfrm>
            <a:off x="1332000" y="1700280"/>
            <a:ext cx="6408720" cy="4262400"/>
          </a:xfrm>
          <a:prstGeom prst="rect">
            <a:avLst/>
          </a:prstGeom>
          <a:ln w="0">
            <a:noFill/>
          </a:ln>
        </p:spPr>
      </p:pic>
      <p:sp>
        <p:nvSpPr>
          <p:cNvPr id="593" name="Текст 4"/>
          <p:cNvSpPr/>
          <p:nvPr/>
        </p:nvSpPr>
        <p:spPr>
          <a:xfrm>
            <a:off x="5510160" y="5850000"/>
            <a:ext cx="3656160" cy="1008000"/>
          </a:xfrm>
          <a:prstGeom prst="rect">
            <a:avLst/>
          </a:prstGeom>
          <a:solidFill>
            <a:srgbClr val="e3d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бъединённый архивный фонд № 59 «Участники Великой Отечественной Войны»;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пись №2 «Меркулов Сергей Николаевич» – участник Великой Отечественной войны; единица хранения №13. 2009 год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circl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5" descr="\\Priemnaya\обмен\305 КАБИНЕТ\фон 2.jpg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55280" y="115560"/>
            <a:ext cx="7777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95d1d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895d1d"/>
                </a:solidFill>
                <a:latin typeface="Times New Roman"/>
              </a:rPr>
              <a:t>Вырезка из публикации  о </a:t>
            </a:r>
            <a:br>
              <a:rPr sz="2400"/>
            </a:br>
            <a:r>
              <a:rPr b="1" lang="ru-RU" sz="2400" spc="-1" strike="noStrike">
                <a:solidFill>
                  <a:srgbClr val="895d1d"/>
                </a:solidFill>
                <a:latin typeface="Times New Roman"/>
              </a:rPr>
              <a:t>Сергее Николаевиче Меркулове </a:t>
            </a:r>
            <a:endParaRPr b="0" lang="en-US" sz="2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96" name="Текст 4"/>
          <p:cNvSpPr/>
          <p:nvPr/>
        </p:nvSpPr>
        <p:spPr>
          <a:xfrm>
            <a:off x="5076720" y="2997360"/>
            <a:ext cx="3598920" cy="502920"/>
          </a:xfrm>
          <a:prstGeom prst="rect">
            <a:avLst/>
          </a:prstGeom>
          <a:solidFill>
            <a:srgbClr val="e3d88c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Книга: «Поклонимся  Великим тем годам»,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65040" indent="-365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г. Нефтеюганск, 2005, С.8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97" name="Picture 2" descr="C:\ДОКУМЕНТЫ\ОБРАЗЦЫ ДОКУМЕНТОВ\ЛП\59 Ветераны\печатали про них\59-2  Меркулов\Ф.59 оп.2 Меркулов С.Н. док-ы скан\Доп. док-ы\Вырезки из газет\ф. 59 оп. 2  доп. док-ы лист 2.jpg"/>
          <p:cNvPicPr/>
          <p:nvPr/>
        </p:nvPicPr>
        <p:blipFill>
          <a:blip r:embed="rId2"/>
          <a:stretch/>
        </p:blipFill>
        <p:spPr>
          <a:xfrm>
            <a:off x="755640" y="981000"/>
            <a:ext cx="4116240" cy="5473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5" descr="\\Priemnaya\обмен\305 КАБИНЕТ\фон 2.jpg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9" name="Объект 1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7848360" cy="5391360"/>
          </a:xfrm>
          <a:prstGeom prst="rect">
            <a:avLst/>
          </a:prstGeom>
          <a:ln w="0">
            <a:noFill/>
          </a:ln>
        </p:spPr>
      </p:pic>
      <p:sp>
        <p:nvSpPr>
          <p:cNvPr id="600" name="Текст 4"/>
          <p:cNvSpPr/>
          <p:nvPr/>
        </p:nvSpPr>
        <p:spPr>
          <a:xfrm>
            <a:off x="2700360" y="6237360"/>
            <a:ext cx="4319640" cy="620640"/>
          </a:xfrm>
          <a:prstGeom prst="rect">
            <a:avLst/>
          </a:prstGeom>
          <a:solidFill>
            <a:srgbClr val="e3d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бъединённый архивный фонд № 59 «Участники Великой Отечественной Войны»;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пись №  2 «Меркулов Сергей Николаевич» 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1" name="Заголовок 4"/>
          <p:cNvSpPr/>
          <p:nvPr/>
        </p:nvSpPr>
        <p:spPr>
          <a:xfrm>
            <a:off x="755640" y="115920"/>
            <a:ext cx="77770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95d1d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895d1d"/>
                </a:solidFill>
                <a:latin typeface="Times New Roman"/>
              </a:rPr>
              <a:t>Вырезка из публикации  о </a:t>
            </a:r>
            <a:br>
              <a:rPr sz="2400"/>
            </a:br>
            <a:r>
              <a:rPr b="1" lang="ru-RU" sz="2400" spc="-1" strike="noStrike">
                <a:solidFill>
                  <a:srgbClr val="895d1d"/>
                </a:solidFill>
                <a:latin typeface="Times New Roman"/>
              </a:rPr>
              <a:t>Сергее Николаевиче Меркулове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circl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5" descr="\\Priemnaya\обмен\305 КАБИНЕТ\фон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95d1d"/>
                </a:solidFill>
                <a:latin typeface="Times New Roman"/>
              </a:rPr>
              <a:t>                    </a:t>
            </a:r>
            <a:r>
              <a:rPr b="1" lang="ru-RU" sz="2400" spc="-1" strike="noStrike">
                <a:solidFill>
                  <a:srgbClr val="895d1d"/>
                </a:solidFill>
                <a:latin typeface="Times New Roman"/>
              </a:rPr>
              <a:t>Сергей Николаевич Меркулов (шестой слева) </a:t>
            </a:r>
            <a:br>
              <a:rPr sz="2400"/>
            </a:br>
            <a:r>
              <a:rPr b="1" lang="ru-RU" sz="2400" spc="-1" strike="noStrike">
                <a:solidFill>
                  <a:srgbClr val="895d1d"/>
                </a:solidFill>
                <a:latin typeface="Times New Roman"/>
              </a:rPr>
              <a:t>                     среди ветеранов ВОВ на площади города </a:t>
            </a:r>
            <a:br>
              <a:rPr sz="2400"/>
            </a:br>
            <a:r>
              <a:rPr b="1" lang="ru-RU" sz="2400" spc="-1" strike="noStrike">
                <a:solidFill>
                  <a:srgbClr val="895d1d"/>
                </a:solidFill>
                <a:latin typeface="Times New Roman"/>
              </a:rPr>
              <a:t>у памятника неизвестному солдату</a:t>
            </a:r>
            <a:endParaRPr b="0" lang="en-US" sz="24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604" name="Объект 9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7093080" cy="4616280"/>
          </a:xfrm>
          <a:prstGeom prst="rect">
            <a:avLst/>
          </a:prstGeom>
          <a:ln w="0">
            <a:noFill/>
          </a:ln>
        </p:spPr>
      </p:pic>
      <p:sp>
        <p:nvSpPr>
          <p:cNvPr id="605" name="Текст 4"/>
          <p:cNvSpPr/>
          <p:nvPr/>
        </p:nvSpPr>
        <p:spPr>
          <a:xfrm>
            <a:off x="5487840" y="5848200"/>
            <a:ext cx="3656160" cy="1009800"/>
          </a:xfrm>
          <a:prstGeom prst="rect">
            <a:avLst/>
          </a:prstGeom>
          <a:solidFill>
            <a:srgbClr val="e3d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бъединённый архивный фонд № 59 «Участники Великой Отечественной Войны»;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65040" indent="-365040" algn="r">
              <a:lnSpc>
                <a:spcPct val="100000"/>
              </a:lnSpc>
              <a:spcBef>
                <a:spcPts val="3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Опись № 2 «Меркулов Сергей Николаевич»;  единица хранения № 16,  1993 год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6" name="Заголовок 4"/>
          <p:cNvSpPr/>
          <p:nvPr/>
        </p:nvSpPr>
        <p:spPr>
          <a:xfrm>
            <a:off x="0" y="4581360"/>
            <a:ext cx="9144000" cy="1251000"/>
          </a:xfrm>
          <a:prstGeom prst="rect">
            <a:avLst/>
          </a:prstGeom>
          <a:solidFill>
            <a:srgbClr val="ece5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95d1d"/>
                </a:solidFill>
                <a:latin typeface="Times New Roman"/>
              </a:rPr>
              <a:t>Ежегодно приходят ветераны к памятнику неизвестному солдату, чтобы со слезами на глазах и с болью в сердце почить память погибших солдат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95d1d"/>
                </a:solidFill>
                <a:latin typeface="Times New Roman"/>
              </a:rPr>
              <a:t>Это священный долг всех выживших в этой страшной войне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95d1d"/>
                </a:solidFill>
                <a:latin typeface="Times New Roman"/>
              </a:rPr>
              <a:t>Это и наш священный долг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circl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5" descr="\\Priemnaya\обмен\305 КАБИНЕТ\фон 2.jpg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9"/>
          <p:cNvSpPr/>
          <p:nvPr/>
        </p:nvSpPr>
        <p:spPr>
          <a:xfrm>
            <a:off x="2556000" y="115920"/>
            <a:ext cx="3743280" cy="6626160"/>
          </a:xfrm>
          <a:prstGeom prst="rect">
            <a:avLst/>
          </a:prstGeom>
          <a:solidFill>
            <a:srgbClr val="c00000"/>
          </a:solidFill>
          <a:ln w="76320">
            <a:solidFill>
              <a:srgbClr val="8736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Подвиг солдата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Меркулова Сергея Николаевича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навсегда останется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в истории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города Нефтеюганска,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хранясь в архивных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документах ветерана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на полках архивохранилищ.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Будущие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поколения посредством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документов личного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происхождения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знатных горожан, земляков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смогут изучать страницы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истории  нашего государства,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нашего края, города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Нефтеюганска,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изучая подлинные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документы очевидцев истории: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их воспоминания,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удостоверения,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фотодокументы.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Подвиг солдат в годы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Великой Отечественной войны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1941-1945 годов должен стать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Book Antiqua"/>
              </a:rPr>
              <a:t>вечной памятью живущих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09" name="Picture 4" descr="\\Priemnaya\обмен\305 КАБИНЕТ\Сделано\59-2  Меркулов\Копия DSC_0121.JPG"/>
          <p:cNvPicPr/>
          <p:nvPr/>
        </p:nvPicPr>
        <p:blipFill>
          <a:blip r:embed="rId2"/>
          <a:stretch/>
        </p:blipFill>
        <p:spPr>
          <a:xfrm>
            <a:off x="6300720" y="692280"/>
            <a:ext cx="2641680" cy="39751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" descr=""/>
          <p:cNvPicPr/>
          <p:nvPr/>
        </p:nvPicPr>
        <p:blipFill>
          <a:blip r:embed="rId3"/>
          <a:stretch/>
        </p:blipFill>
        <p:spPr>
          <a:xfrm>
            <a:off x="108000" y="1255680"/>
            <a:ext cx="2440080" cy="285768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33880" y="1677600"/>
            <a:ext cx="3422880" cy="18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612" name="Rectangle 9"/>
          <p:cNvSpPr/>
          <p:nvPr/>
        </p:nvSpPr>
        <p:spPr>
          <a:xfrm>
            <a:off x="0" y="4221000"/>
            <a:ext cx="2511360" cy="1016280"/>
          </a:xfrm>
          <a:prstGeom prst="rect">
            <a:avLst/>
          </a:prstGeom>
          <a:solidFill>
            <a:srgbClr val="c00000"/>
          </a:solidFill>
          <a:ln w="76320">
            <a:solidFill>
              <a:srgbClr val="8736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1945 год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3" name="Rectangle 9"/>
          <p:cNvSpPr/>
          <p:nvPr/>
        </p:nvSpPr>
        <p:spPr>
          <a:xfrm>
            <a:off x="6300720" y="4508640"/>
            <a:ext cx="2592360" cy="1017360"/>
          </a:xfrm>
          <a:prstGeom prst="rect">
            <a:avLst/>
          </a:prstGeom>
          <a:solidFill>
            <a:srgbClr val="c00000"/>
          </a:solidFill>
          <a:ln w="76320">
            <a:solidFill>
              <a:srgbClr val="8736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009 год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circl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3" descr="\\Priemnaya\обмен\305 КАБИНЕТ\фон 11.jpg"/>
          <p:cNvPicPr/>
          <p:nvPr/>
        </p:nvPicPr>
        <p:blipFill>
          <a:blip r:embed="rId1"/>
          <a:stretch/>
        </p:blipFill>
        <p:spPr>
          <a:xfrm>
            <a:off x="15840" y="-15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5" name="Скругленный прямоугольник 1"/>
          <p:cNvSpPr/>
          <p:nvPr/>
        </p:nvSpPr>
        <p:spPr>
          <a:xfrm>
            <a:off x="2195640" y="260280"/>
            <a:ext cx="6553080" cy="3384720"/>
          </a:xfrm>
          <a:prstGeom prst="roundRect">
            <a:avLst>
              <a:gd name="adj" fmla="val 16667"/>
            </a:avLst>
          </a:prstGeom>
          <a:solidFill>
            <a:srgbClr val="f8f7e9"/>
          </a:solidFill>
          <a:ln w="25560">
            <a:solidFill>
              <a:srgbClr val="622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Times New Roman"/>
              </a:rPr>
              <a:t>Ваш  подвиг в сердце сохраним…</a:t>
            </a:r>
            <a:endParaRPr b="0" lang="en-US" sz="8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6" name="Скругленный прямоугольник 4"/>
          <p:cNvSpPr/>
          <p:nvPr/>
        </p:nvSpPr>
        <p:spPr>
          <a:xfrm>
            <a:off x="2195640" y="291960"/>
            <a:ext cx="6553080" cy="3384720"/>
          </a:xfrm>
          <a:prstGeom prst="roundRect">
            <a:avLst>
              <a:gd name="adj" fmla="val 16667"/>
            </a:avLst>
          </a:prstGeom>
          <a:solidFill>
            <a:srgbClr val="f8f7e9"/>
          </a:solidFill>
          <a:ln w="25560">
            <a:solidFill>
              <a:srgbClr val="622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Times New Roman"/>
              </a:rPr>
              <a:t>Ваш  подвиг в сердце сохраним…</a:t>
            </a:r>
            <a:endParaRPr b="0" lang="en-US" sz="8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7" name="Скругленный прямоугольник 5"/>
          <p:cNvSpPr/>
          <p:nvPr/>
        </p:nvSpPr>
        <p:spPr>
          <a:xfrm>
            <a:off x="4500720" y="3933720"/>
            <a:ext cx="4225680" cy="2594160"/>
          </a:xfrm>
          <a:prstGeom prst="roundRect">
            <a:avLst>
              <a:gd name="adj" fmla="val 16667"/>
            </a:avLst>
          </a:prstGeom>
          <a:solidFill>
            <a:srgbClr val="a36520"/>
          </a:solidFill>
          <a:ln w="25560">
            <a:solidFill>
              <a:srgbClr val="8736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я подготовлена на основании  архивных документов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АФ № 59 «Участники Великой Отечественной войны», опись № 2 «Меркулов Сергей Николаевич», фотодокументов фотофонда  отдела по делам архивов департамента по делам администрации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ода Нефтеюганска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6" descr="\\Priemnaya\обмен\305 КАБИНЕТ\фон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1"/>
          <p:cNvSpPr/>
          <p:nvPr/>
        </p:nvSpPr>
        <p:spPr>
          <a:xfrm>
            <a:off x="250920" y="488160"/>
            <a:ext cx="8893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Calibri"/>
              </a:rPr>
              <a:t>                                                          </a:t>
            </a:r>
            <a:r>
              <a:rPr b="1" lang="ru-RU" sz="1800" spc="-1" strike="noStrike" u="sng">
                <a:solidFill>
                  <a:srgbClr val="800000"/>
                </a:solidFill>
                <a:uFillTx/>
                <a:latin typeface="Times New Roman"/>
                <a:ea typeface="Calibri"/>
              </a:rPr>
              <a:t>А Н К Е Т Н А Я    И Н Ф О Р М А Ц И Я 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Calibri"/>
              </a:rPr>
              <a:t>              </a:t>
            </a:r>
            <a:r>
              <a:rPr b="1" lang="ru-RU" sz="1800" spc="-1" strike="noStrike" u="sng">
                <a:solidFill>
                  <a:srgbClr val="800000"/>
                </a:solidFill>
                <a:uFillTx/>
                <a:latin typeface="Times New Roman"/>
                <a:ea typeface="Calibri"/>
              </a:rPr>
              <a:t> </a:t>
            </a:r>
            <a:r>
              <a:rPr b="1" lang="ru-RU" sz="1800" spc="-1" strike="noStrike" u="sng">
                <a:solidFill>
                  <a:srgbClr val="800000"/>
                </a:solidFill>
                <a:uFillTx/>
                <a:latin typeface="Times New Roman"/>
                <a:ea typeface="Calibri"/>
              </a:rPr>
              <a:t>Дата рождения: 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Calibri"/>
              </a:rPr>
              <a:t>12 августа 1921 года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Times New Roman"/>
                <a:ea typeface="Calibri"/>
              </a:rPr>
              <a:t>Место рождения: 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Calibri"/>
              </a:rPr>
              <a:t>д. Самаро-Ивановка Мелеузовского района Башкирской АССР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Times New Roman"/>
                <a:ea typeface="Calibri"/>
              </a:rPr>
              <a:t>Служба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Calibri"/>
              </a:rPr>
              <a:t>Мобилизация в Красную Армию : март 1942 года Мелеусовским райвоенкоматом Башкирской АССР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Calibri"/>
              </a:rPr>
              <a:t>Демобилизован в июле 1946 года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Times New Roman"/>
                <a:ea typeface="Calibri"/>
              </a:rPr>
              <a:t>Военное звание: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Calibri"/>
              </a:rPr>
              <a:t> гвардии лейтенант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Боевой путь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: Западный фронт,  Центральный фронт, 1-й Прибалтийский фронт, 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-й Белорусский  фронт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оевал в составе 11-й гвардейской армии, был участником битв под Москвой, на Курско-Орловском направлении, освобождал Прибалтику и земли Восточной Пруссии, участвовал в штурме Кенигсберга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Ранения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был четырежды ранен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Награды: 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рден Отечественной войны  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степени (№1485591), орден Красной Звезды (№1796757), медали: </a:t>
            </a:r>
            <a:r>
              <a:rPr b="1" lang="ru-RU" sz="1800" spc="-1" strike="noStrike">
                <a:solidFill>
                  <a:srgbClr val="800000"/>
                </a:solidFill>
                <a:latin typeface="Book Antiqua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 взятие Кенигсберга</a:t>
            </a:r>
            <a:r>
              <a:rPr b="1" lang="ru-RU" sz="1800" spc="-1" strike="noStrike">
                <a:solidFill>
                  <a:srgbClr val="800000"/>
                </a:solidFill>
                <a:latin typeface="Book Antiqua"/>
                <a:ea typeface="Times New Roman"/>
              </a:rPr>
              <a:t>»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(1967 г.), </a:t>
            </a:r>
            <a:r>
              <a:rPr b="1" lang="ru-RU" sz="1800" spc="-1" strike="noStrike">
                <a:solidFill>
                  <a:srgbClr val="800000"/>
                </a:solidFill>
                <a:latin typeface="Book Antiqua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 победу над Германией в Великой Отечественной войне 1941-1945 г.г.</a:t>
            </a:r>
            <a:r>
              <a:rPr b="1" lang="ru-RU" sz="1800" spc="-1" strike="noStrike">
                <a:solidFill>
                  <a:srgbClr val="800000"/>
                </a:solidFill>
                <a:latin typeface="Book Antiqua"/>
                <a:ea typeface="Times New Roman"/>
              </a:rPr>
              <a:t>»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,  благодарность от И.В.Сталина за отличные боевые действия при овладении городами Ландсверг и Бартенштайн (приказ № 269)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Calibri"/>
              </a:rPr>
              <a:t>                   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Calibri"/>
              </a:rPr>
              <a:t>Закончил боевой путь в г. Пиллау  Восточной Пруссии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6" descr="\\Priemnaya\обмен\305 КАБИНЕТ\фон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" descr="C:\Users\User\Desktop\1373135071_a0000523.jpg"/>
          <p:cNvPicPr/>
          <p:nvPr/>
        </p:nvPicPr>
        <p:blipFill>
          <a:blip r:embed="rId2">
            <a:lum bright="70000"/>
          </a:blip>
          <a:stretch/>
        </p:blipFill>
        <p:spPr>
          <a:xfrm>
            <a:off x="0" y="1924200"/>
            <a:ext cx="7715160" cy="493380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                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Почти четыре года пришлось ходить под пулями молодому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кузнецу. За это время Сергей Меркулов испытал на себе все трудности  военного лихолетья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</a:rPr>
              <a:t>Боевое крещение приял под Москвой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</a:rPr>
              <a:t>Пройдя ускоренные курсы, Меркулов получил офицерское звание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800000"/>
                </a:solidFill>
                <a:uFillTx/>
                <a:latin typeface="Times New Roman"/>
              </a:rPr>
              <a:t>Из воспоминаний С.Н.Меркулова: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</a:rPr>
              <a:t>«Возле деревеньки Кубань, расположенной между Калугой и Брянском, лыжный батальон должен был проникнуть в тыл врага  и произвести разведку боем  одного из важных пунктов. Но батальон  нарвался на засаду.  Завязался бой. Наши солдаты перерезали провода немецкой связи и уничтожили фашистов, захватив при этом в трофеи вражеское оружие. Потом мы  переоделись в немецкую форму и кинулись в атаку на немецкие танки. Враг был обескуражен. Так мы вышли из боя победителями»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6" descr="\\Priemnaya\обмен\305 КАБИНЕТ\фон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2"/>
          <p:cNvSpPr/>
          <p:nvPr/>
        </p:nvSpPr>
        <p:spPr>
          <a:xfrm>
            <a:off x="826920" y="1452240"/>
            <a:ext cx="7921800" cy="46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9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bfbfbf"/>
                </a:solidFill>
                <a:latin typeface="Linux Libertine"/>
              </a:rPr>
              <a:t>Курская</a:t>
            </a:r>
            <a:endParaRPr b="0" lang="en-US" sz="15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bfbfbf"/>
                </a:solidFill>
                <a:latin typeface="Linux Libertine"/>
              </a:rPr>
              <a:t> </a:t>
            </a:r>
            <a:r>
              <a:rPr b="1" lang="ru-RU" sz="15000" spc="-1" strike="noStrike">
                <a:solidFill>
                  <a:srgbClr val="bfbfbf"/>
                </a:solidFill>
                <a:latin typeface="Linux Libertine"/>
              </a:rPr>
              <a:t>битва</a:t>
            </a:r>
            <a:endParaRPr b="0" lang="en-US" sz="15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45" name="Picture 3" descr="Памятник маршалу Г.К. Жукову в Курске.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2147484240"/>
            <a:ext cx="2857680" cy="36291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" descr="Флаг СССР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785880" y="-214748424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Красный флаг, в центре которого находится белый круг с чёрной свастикой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5572120" y="-2147484240"/>
            <a:ext cx="209520" cy="1238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" descr="Флаг СССР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5592640" y="-214748424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Флаг СССР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5618200" y="-214748424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Флаг СССР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5638720" y="-214748424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9" descr="Флаг СССР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55659240" y="-214748424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0" descr="Красный флаг, в центре которого находится белый круг с чёрной свастикой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55680120" y="-2147484240"/>
            <a:ext cx="209520" cy="123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1" descr="Красный флаг, в центре которого находится белый круг с чёрной свастикой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55700640" y="-2147484240"/>
            <a:ext cx="209520" cy="1238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2" descr="Красный флаг, в центре которого находится белый круг с чёрной свастикой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55725840" y="-2147484240"/>
            <a:ext cx="209880" cy="1238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3" descr="Красный флаг, в центре которого находится белый круг с чёрной свастикой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55751400" y="-2147484240"/>
            <a:ext cx="209520" cy="123840"/>
          </a:xfrm>
          <a:prstGeom prst="rect">
            <a:avLst/>
          </a:prstGeom>
          <a:ln w="0">
            <a:noFill/>
          </a:ln>
        </p:spPr>
      </p:pic>
      <p:sp>
        <p:nvSpPr>
          <p:cNvPr id="456" name="Прямоугольник 19"/>
          <p:cNvSpPr/>
          <p:nvPr/>
        </p:nvSpPr>
        <p:spPr>
          <a:xfrm>
            <a:off x="2484360" y="189000"/>
            <a:ext cx="6480360" cy="1008000"/>
          </a:xfrm>
          <a:prstGeom prst="rect">
            <a:avLst/>
          </a:prstGeom>
          <a:solidFill>
            <a:srgbClr val="873624"/>
          </a:solidFill>
          <a:ln w="25560">
            <a:solidFill>
              <a:srgbClr val="622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2 августа 1943 года Сергей Меркулов встретил свое 22-летие, а через 10 дней началась одно из важнейших сражений в годы Великой Отечественной войны – Курская битва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7" name="Прямоугольник 21"/>
          <p:cNvSpPr/>
          <p:nvPr/>
        </p:nvSpPr>
        <p:spPr>
          <a:xfrm>
            <a:off x="250920" y="1341360"/>
            <a:ext cx="5833800" cy="3385800"/>
          </a:xfrm>
          <a:prstGeom prst="rect">
            <a:avLst/>
          </a:prstGeom>
          <a:noFill/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1800" spc="-1" strike="noStrike" u="sng">
                <a:solidFill>
                  <a:srgbClr val="800000"/>
                </a:solidFill>
                <a:uFillTx/>
                <a:latin typeface="Book Antiqua"/>
              </a:rPr>
              <a:t>Из воспоминаний С.Н.Меркулова: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«В начале Курской битвы наше месторасположение было в относительно спокойном месте. Еще в конце июля 11-ю гвардейскую армию под командованием генерала баграмяна  с Центрального фронта перебросили на Брянский. В зоне относительного затишья русские солдаты даже не боялись спускаться по узким тропинкам к речке, чтобы искупаться в жару и за водой. Но вскоре одиночные выстрелы быстро переросли в шквалистые перестрелки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58" name="Picture 14" descr="C:\Users\User\Desktop\13759341871belgord-karta.jpeg"/>
          <p:cNvPicPr/>
          <p:nvPr/>
        </p:nvPicPr>
        <p:blipFill>
          <a:blip r:embed="rId24"/>
          <a:stretch/>
        </p:blipFill>
        <p:spPr>
          <a:xfrm>
            <a:off x="6649920" y="3357720"/>
            <a:ext cx="2494080" cy="3500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6" descr="\\Priemnaya\обмен\305 КАБИНЕТ\фон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2"/>
          <p:cNvSpPr/>
          <p:nvPr/>
        </p:nvSpPr>
        <p:spPr>
          <a:xfrm>
            <a:off x="395280" y="1189080"/>
            <a:ext cx="8497800" cy="5152680"/>
          </a:xfrm>
          <a:prstGeom prst="rect">
            <a:avLst/>
          </a:prstGeom>
          <a:solidFill>
            <a:srgbClr val="ece5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96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атериал из Википедии           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у́рская би́тва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  <a:ea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6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3"/>
              </a:rPr>
              <a:t>5 июля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  <a:ea typeface="Arial"/>
              </a:rPr>
              <a:t> — </a:t>
            </a:r>
            <a:r>
              <a:rPr b="0" lang="ru-RU" sz="16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4"/>
              </a:rPr>
              <a:t>23 августа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  <a:ea typeface="Arial"/>
              </a:rPr>
              <a:t> </a:t>
            </a:r>
            <a:r>
              <a:rPr b="0" lang="ru-RU" sz="16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5"/>
              </a:rPr>
              <a:t>1943</a:t>
            </a:r>
            <a:r>
              <a:rPr b="0" lang="ru-RU" sz="16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6"/>
              </a:rPr>
              <a:t> </a:t>
            </a:r>
            <a:r>
              <a:rPr b="0" lang="ru-RU" sz="16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7"/>
              </a:rPr>
              <a:t>год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 также известна как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  <a:ea typeface="Arial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итва на Курской дуг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 по своим масштабам, задействованным силам и средствам, напряжённости, результатам и военно-политическим последствиям является одним из ключевых сражений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  <a:ea typeface="Arial"/>
              </a:rPr>
              <a:t> </a:t>
            </a:r>
            <a:r>
              <a:rPr b="0" lang="ru-RU" sz="16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8"/>
              </a:rPr>
              <a:t>Второй мировой войны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  <a:ea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  <a:ea typeface="Arial"/>
              </a:rPr>
              <a:t> </a:t>
            </a:r>
            <a:r>
              <a:rPr b="0" lang="ru-RU" sz="16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9"/>
              </a:rPr>
              <a:t>Великой Отечественной вой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. Самое крупное танковое сражение в истории; в нём участвовали около двух миллионов человек, шесть тысяч танков, четыре тысячи самолётов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ражение является важнейшей частью стратегического плана летне-осенней кампании 1943 года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результате наступления по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  <a:ea typeface="Arial"/>
              </a:rPr>
              <a:t> </a:t>
            </a:r>
            <a:r>
              <a:rPr b="0" lang="ru-RU" sz="16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0"/>
              </a:rPr>
              <a:t>плану </a:t>
            </a:r>
            <a:r>
              <a:rPr b="0" lang="ru-RU" sz="16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1"/>
              </a:rPr>
              <a:t>«</a:t>
            </a:r>
            <a:r>
              <a:rPr b="0" lang="ru-RU" sz="16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2"/>
              </a:rPr>
              <a:t>Кутузов</a:t>
            </a:r>
            <a:r>
              <a:rPr b="0" lang="ru-RU" sz="16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3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  <a:ea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ыла разгромлена орловская группировка немецких войск и ликвидирован занимаемый ею орловский стратегический плацдарм. В итоге операции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  <a:ea typeface="Arial"/>
              </a:rPr>
              <a:t> </a:t>
            </a:r>
            <a:r>
              <a:rPr b="0" lang="ru-RU" sz="1600" spc="-1" strike="noStrike" u="sng">
                <a:solidFill>
                  <a:srgbClr val="cc9900"/>
                </a:solidFill>
                <a:uFillTx/>
                <a:latin typeface="Book Antiqua"/>
                <a:ea typeface="Arial"/>
                <a:hlinkClick r:id="rId14"/>
              </a:rPr>
              <a:t>«</a:t>
            </a:r>
            <a:r>
              <a:rPr b="0" lang="ru-RU" sz="16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5"/>
              </a:rPr>
              <a:t>Полководец Румянцев</a:t>
            </a:r>
            <a:r>
              <a:rPr b="0" lang="ru-RU" sz="16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6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  <a:ea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екратила своё существование белгородско-харьковская группировка немцев и был ликвидирован этот важнейший плацдарм.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  <a:ea typeface="Arial"/>
              </a:rPr>
              <a:t> </a:t>
            </a:r>
            <a:r>
              <a:rPr b="0" lang="ru-RU" sz="16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7"/>
              </a:rPr>
              <a:t>Коренной перелом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  <a:ea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ходе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  <a:ea typeface="Arial"/>
              </a:rPr>
              <a:t> </a:t>
            </a:r>
            <a:r>
              <a:rPr b="0" lang="ru-RU" sz="16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8"/>
              </a:rPr>
              <a:t>Великой Отечественной вой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начатый под Сталинградом, был завершен в Курской битве.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сле завершения битвы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  <a:ea typeface="Arial"/>
              </a:rPr>
              <a:t> </a:t>
            </a:r>
            <a:r>
              <a:rPr b="0" lang="ru-RU" sz="16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19"/>
              </a:rPr>
              <a:t>стратегическая инициатива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  <a:ea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кончательно перешла на сторону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  <a:ea typeface="Arial"/>
              </a:rPr>
              <a:t> </a:t>
            </a:r>
            <a:r>
              <a:rPr b="0" lang="ru-RU" sz="16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20"/>
              </a:rPr>
              <a:t>Красной арм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которая продолжала освобождать страну от немецких захватчиков и до окончания войны проводила в основном наступательные операции.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  <a:ea typeface="Arial"/>
              </a:rPr>
              <a:t> </a:t>
            </a:r>
            <a:r>
              <a:rPr b="0" lang="ru-RU" sz="16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21"/>
              </a:rPr>
              <a:t>Вермахт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  <a:ea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ходе отступления с территории СССР проводил политику</a:t>
            </a:r>
            <a:r>
              <a:rPr b="0" lang="ru-RU" sz="16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22"/>
              </a:rPr>
              <a:t>«</a:t>
            </a:r>
            <a:r>
              <a:rPr b="0" lang="ru-RU" sz="16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23"/>
              </a:rPr>
              <a:t>выжженной земли</a:t>
            </a:r>
            <a:r>
              <a:rPr b="0" lang="ru-RU" sz="16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24"/>
              </a:rPr>
              <a:t>»</a:t>
            </a:r>
            <a:r>
              <a:rPr b="0" lang="ru-RU" sz="1600" spc="-1" strike="noStrike" u="sng" baseline="30000">
                <a:solidFill>
                  <a:srgbClr val="cc9900"/>
                </a:solidFill>
                <a:uFillTx/>
                <a:latin typeface="Arial"/>
                <a:ea typeface="Arial"/>
                <a:hlinkClick r:id="rId25"/>
              </a:rPr>
              <a:t>[10]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3 августа является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  <a:ea typeface="Arial"/>
              </a:rPr>
              <a:t> </a:t>
            </a:r>
            <a:r>
              <a:rPr b="0" lang="ru-RU" sz="16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26"/>
              </a:rPr>
              <a:t>Днём воинской славы России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  <a:ea typeface="Arial"/>
              </a:rPr>
              <a:t> —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День разгрома советскими войсками немецко-фашистских войск в Курской битве 1943 года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61" name="Picture 3" descr="Памятник маршалу Г.К. Жукову в Курске..jpg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0" y="-2147484240"/>
            <a:ext cx="2857680" cy="36291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" descr="Флаг СССР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27785880" y="-214748424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5" descr="Красный флаг, в центре которого находится белый круг с чёрной свастикой"/>
          <p:cNvPicPr/>
          <p:nvPr/>
        </p:nvPicPr>
        <p:blipFill>
          <a:blip r:embed="rId31"/>
          <a:stretch/>
        </p:blipFill>
        <p:spPr>
          <a:xfrm>
            <a:off x="55572120" y="-2147484240"/>
            <a:ext cx="209520" cy="1238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6" descr="Флаг СССР"/>
          <p:cNvPicPr/>
          <p:nvPr/>
        </p:nvPicPr>
        <p:blipFill>
          <a:blip r:embed="rId32"/>
          <a:stretch/>
        </p:blipFill>
        <p:spPr>
          <a:xfrm>
            <a:off x="55592640" y="-214748424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7" descr="Флаг СССР"/>
          <p:cNvPicPr/>
          <p:nvPr/>
        </p:nvPicPr>
        <p:blipFill>
          <a:blip r:embed="rId33"/>
          <a:stretch/>
        </p:blipFill>
        <p:spPr>
          <a:xfrm>
            <a:off x="55618200" y="-214748424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8" descr="Флаг СССР"/>
          <p:cNvPicPr/>
          <p:nvPr/>
        </p:nvPicPr>
        <p:blipFill>
          <a:blip r:embed="rId34"/>
          <a:stretch/>
        </p:blipFill>
        <p:spPr>
          <a:xfrm>
            <a:off x="55638720" y="-214748424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9" descr="Флаг СССР"/>
          <p:cNvPicPr/>
          <p:nvPr/>
        </p:nvPicPr>
        <p:blipFill>
          <a:blip r:embed="rId35"/>
          <a:stretch/>
        </p:blipFill>
        <p:spPr>
          <a:xfrm>
            <a:off x="55659240" y="-214748424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0" descr="Красный флаг, в центре которого находится белый круг с чёрной свастикой"/>
          <p:cNvPicPr/>
          <p:nvPr/>
        </p:nvPicPr>
        <p:blipFill>
          <a:blip r:embed="rId36"/>
          <a:stretch/>
        </p:blipFill>
        <p:spPr>
          <a:xfrm>
            <a:off x="55680120" y="-2147484240"/>
            <a:ext cx="209520" cy="12384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1" descr="Красный флаг, в центре которого находится белый круг с чёрной свастикой"/>
          <p:cNvPicPr/>
          <p:nvPr/>
        </p:nvPicPr>
        <p:blipFill>
          <a:blip r:embed="rId37"/>
          <a:stretch/>
        </p:blipFill>
        <p:spPr>
          <a:xfrm>
            <a:off x="55700640" y="-2147484240"/>
            <a:ext cx="209520" cy="1238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2" descr="Красный флаг, в центре которого находится белый круг с чёрной свастикой"/>
          <p:cNvPicPr/>
          <p:nvPr/>
        </p:nvPicPr>
        <p:blipFill>
          <a:blip r:embed="rId38"/>
          <a:stretch/>
        </p:blipFill>
        <p:spPr>
          <a:xfrm>
            <a:off x="55725840" y="-2147484240"/>
            <a:ext cx="209880" cy="1238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3" descr="Красный флаг, в центре которого находится белый круг с чёрной свастикой"/>
          <p:cNvPicPr/>
          <p:nvPr/>
        </p:nvPicPr>
        <p:blipFill>
          <a:blip r:embed="rId39"/>
          <a:stretch/>
        </p:blipFill>
        <p:spPr>
          <a:xfrm>
            <a:off x="55751400" y="-2147484240"/>
            <a:ext cx="209520" cy="123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6" descr="\\Priemnaya\обмен\305 КАБИНЕТ\фон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5487840" y="6308280"/>
            <a:ext cx="365616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74" name="Прямоугольник 4"/>
          <p:cNvSpPr/>
          <p:nvPr/>
        </p:nvSpPr>
        <p:spPr>
          <a:xfrm>
            <a:off x="1908000" y="115920"/>
            <a:ext cx="7056720" cy="2288520"/>
          </a:xfrm>
          <a:prstGeom prst="rect">
            <a:avLst/>
          </a:prstGeom>
          <a:noFill/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1800" spc="-1" strike="noStrike" u="sng">
                <a:solidFill>
                  <a:srgbClr val="800000"/>
                </a:solidFill>
                <a:uFillTx/>
                <a:latin typeface="Book Antiqua"/>
              </a:rPr>
              <a:t>Из воспоминаний С.Н.Меркулова: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«Настоящие битвы для меня начались, когда войска трех фронтов: Западного, Брянского и Центрального двинулись в наступление на Орел. У немцев оборона была не хуже нашей, глубоко эшелонированная. Но мы не плоховали, поготовились к встрече с врагом: плотность артиллерии на каждый километр территории  - 38 орудий, а где и того больше»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75" name="Picture 2" descr="C:\Users\User\Desktop\1373866750_0028.720x480.jpeg"/>
          <p:cNvPicPr/>
          <p:nvPr/>
        </p:nvPicPr>
        <p:blipFill>
          <a:blip r:embed="rId2"/>
          <a:stretch/>
        </p:blipFill>
        <p:spPr>
          <a:xfrm>
            <a:off x="179280" y="2492280"/>
            <a:ext cx="5545080" cy="3697560"/>
          </a:xfrm>
          <a:prstGeom prst="rect">
            <a:avLst/>
          </a:prstGeom>
          <a:ln w="0">
            <a:noFill/>
          </a:ln>
        </p:spPr>
      </p:pic>
      <p:sp>
        <p:nvSpPr>
          <p:cNvPr id="476" name="Текст 4"/>
          <p:cNvSpPr/>
          <p:nvPr/>
        </p:nvSpPr>
        <p:spPr>
          <a:xfrm>
            <a:off x="3780000" y="6237360"/>
            <a:ext cx="3348000" cy="431640"/>
          </a:xfrm>
          <a:prstGeom prst="rect">
            <a:avLst/>
          </a:prstGeom>
          <a:solidFill>
            <a:srgbClr val="e3d88c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ctr">
              <a:lnSpc>
                <a:spcPct val="10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Фото из сети Интернет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6" descr="\\Priemnaya\обмен\305 КАБИНЕТ\фон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5487840" y="6308280"/>
            <a:ext cx="365616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79" name="Прямоугольник 4"/>
          <p:cNvSpPr/>
          <p:nvPr/>
        </p:nvSpPr>
        <p:spPr>
          <a:xfrm>
            <a:off x="1908000" y="115920"/>
            <a:ext cx="7056720" cy="2837160"/>
          </a:xfrm>
          <a:prstGeom prst="rect">
            <a:avLst/>
          </a:prstGeom>
          <a:noFill/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1800" spc="-1" strike="noStrike" u="sng">
                <a:solidFill>
                  <a:srgbClr val="800000"/>
                </a:solidFill>
                <a:uFillTx/>
                <a:latin typeface="Book Antiqua"/>
              </a:rPr>
              <a:t>Из воспоминаний С.Н.Меркулова: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«Мы лежали на земле, а  над нами целыми роями летят от наших орудий снаряды в сторону противника. Такой грохот стоял, что  соседа, который кричал прямо в ухо не было слышно. Это называлось артподготовка нападения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Потом  пехота поднимается и мы,пригибаясь, под разрывами снарядов бежим в атаку. Ориентировались по красным флажкам, ограждающим минные поля вокруг »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0" name="Прямоугольник 7"/>
          <p:cNvSpPr/>
          <p:nvPr/>
        </p:nvSpPr>
        <p:spPr>
          <a:xfrm>
            <a:off x="179280" y="2565360"/>
            <a:ext cx="7056720" cy="2014200"/>
          </a:xfrm>
          <a:prstGeom prst="rect">
            <a:avLst/>
          </a:prstGeom>
          <a:noFill/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1800" spc="-1" strike="noStrike" u="sng">
                <a:solidFill>
                  <a:srgbClr val="800000"/>
                </a:solidFill>
                <a:uFillTx/>
                <a:latin typeface="Book Antiqua"/>
              </a:rPr>
              <a:t>Из воспоминаний С.Н.Меркулова: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«Небо было черное от дыма и пыли,  так что солнца не было видно. Мы займем очередную оборонительную полосу противника - потом опять проводится артподготовка.  Потом опять – атака. И так  продолжалось очень долго. Очень ожесточенные бои тогда были. Наших солдат тоже много погибло»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1" name="Прямоугольник 8"/>
          <p:cNvSpPr/>
          <p:nvPr/>
        </p:nvSpPr>
        <p:spPr>
          <a:xfrm>
            <a:off x="2195640" y="4797360"/>
            <a:ext cx="6480000" cy="1008000"/>
          </a:xfrm>
          <a:prstGeom prst="rect">
            <a:avLst/>
          </a:prstGeom>
          <a:solidFill>
            <a:srgbClr val="873624"/>
          </a:solidFill>
          <a:ln w="25560">
            <a:solidFill>
              <a:srgbClr val="622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 годы войны Сергей Николаевич Меркулов был ранен четырежды. Несколько тяжелых «царапин» он получил в том числе на Курской дуге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4-08T12:11:34Z</dcterms:modified>
  <cp:revision>38</cp:revision>
  <dc:subject/>
  <dc:title>Меркулов Сергей Николаеви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c4e0000000000010262800207f7000400038000</vt:lpwstr>
  </property>
</Properties>
</file>