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A984-B315-4CD4-B4AD-D8FC38F743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93E9-0871-47F4-BA5C-5DB9A509CA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9076-9057-434D-BDE1-C165C22451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A988-B3CA-42E0-9826-E3A061CBC1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8041-4F56-450C-AF96-44B174E486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65D-EFBC-4CC1-9A6F-A57BC95F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9960" y="271728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579-A71D-43CC-8B61-1A8C7DC2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6184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5C0-582C-480D-8359-C4A61900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5960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4924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996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5960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4924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83A-0228-4718-987F-0427E46A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50DD-0513-4ADE-A074-67840959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DC9B-BFAE-447E-9B7B-3BA02018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4CE9-5658-4A0E-B207-BD29B642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8CCF-5BE6-4F7F-89F0-9C5FC7D8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FDDA-E099-4425-BB68-8A48CEF1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7ACC-8EB1-4F5E-AF08-6D565B3B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E478-8512-4004-BF8B-6F812263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86D-C652-4A15-AE23-C9AC9C8E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6184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C759-5F03-4915-BD79-928A60F1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3FF1-B3C2-4A95-AD97-C1A8B583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69960" y="271728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F1A2-BFBF-4EA6-9B8D-6D75A6C6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6184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F2AC-386B-45D2-8190-60DF1DBA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5960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04924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6996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5960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04924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2EEB-40C0-4092-A7BA-590636FD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08A51-6BE1-4ECA-B917-F68327E9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C3D89-0709-46D1-93DE-CBF09CBF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BEC5-EB80-45CC-AA2C-BB49D5C8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B6C1-9428-45F0-91B6-EBC47E84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4441-D1B2-4A5A-8423-8A5D6070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B99-0A39-4A81-A956-7F2C7DD4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B4F2-C38C-4228-A604-DC98FB45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45B9-F37A-4104-9E82-B5097B94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184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91CB-4280-4E82-8EAE-105BD37E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71133-5559-4318-AF48-4B91C0E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9960" y="271728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DD81-F406-429C-BE84-32FB097C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6184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6A8A-B7B1-475A-8F04-2ED839EA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5960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4924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6996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5960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4924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3271-62D0-462F-8A86-0679E065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5FCF1-75C3-4ECA-8DE5-F2D65794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57811-66FD-4FDD-98ED-A95F51C0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BACD-1439-4616-94EF-5E767A86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32B-6A4F-4CAE-BD96-94CBAB74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EF7AD-7D03-4DAD-8CCF-60FC3B94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299E-61BC-40EB-975C-4D0936C6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57B0A-594A-468D-B55E-F2A848DE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402F3-B9C2-4C41-BB60-D971A412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184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C2395-2378-4D5A-8359-A322DD9E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F27E4-AA98-4963-8E89-98BD5F94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9960" y="271728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B6B87-2ECB-497E-9AB4-875C9325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6184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6A81-0244-463A-96C2-99FA1434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5960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4924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6996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5960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4924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FCFD-4E01-42AB-A561-0F8F5499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FE0E-2361-4FEA-84BE-7E0DBB8A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72A-C68D-42C1-A8E0-8DE5F846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B2496-8CB7-42B7-A42E-45D7BCD8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C4352-C306-471A-8423-4F0DA148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F6394-8E37-442B-A796-8231E818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8D95D-F9FC-421F-B78C-19C18EDB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70656-BFAF-4CBB-A7D6-69E9E7FE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A82A9-A52E-41BE-9AB0-E75002F7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6184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6C14D-6CE8-432F-B68B-5F544F6C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A0B0B-DBB4-4D40-970E-2D1D70B4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9960" y="271728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E8759-F92E-4C41-B522-1A6DD788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6184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9B40E-052B-4663-9839-A600CD15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9960" y="4986000"/>
            <a:ext cx="109123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2A2-9647-464F-B7F6-1D84CD5A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5960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49240" y="52992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996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5960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49240" y="2717280"/>
            <a:ext cx="35136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5781-4D84-451C-9D34-352B0B38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35D-9C1D-42BC-918E-C54E647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1840" y="271728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A58-A339-47CA-920D-C2F8D797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996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1840" y="529920"/>
            <a:ext cx="53251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9960" y="2717280"/>
            <a:ext cx="109123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CB3-94AB-4DEF-97C5-B678060D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406440" y="328680"/>
            <a:ext cx="1137600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554040" y="426960"/>
            <a:ext cx="11084040" cy="5497560"/>
            <a:chOff x="554040" y="426960"/>
            <a:chExt cx="1108404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554040" y="426960"/>
              <a:ext cx="1108404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592200" y="468360"/>
              <a:ext cx="110077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35680" y="6111360"/>
            <a:ext cx="3047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083080" y="6111360"/>
            <a:ext cx="3048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1131200" y="6111360"/>
            <a:ext cx="609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F79F-BD3F-4DD4-9B40-58CF821398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406440" y="328680"/>
            <a:ext cx="1137600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554040" y="426960"/>
            <a:ext cx="11084040" cy="3121200"/>
            <a:chOff x="554040" y="426960"/>
            <a:chExt cx="1108404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554040" y="426960"/>
              <a:ext cx="1108404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00120" y="476280"/>
              <a:ext cx="1099188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035680" y="6111360"/>
            <a:ext cx="3047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8083080" y="6111360"/>
            <a:ext cx="3048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1131200" y="6111360"/>
            <a:ext cx="609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E2D8-DCA8-4A84-A015-3BF093BC47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406440" y="328680"/>
            <a:ext cx="1137600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554040" y="426960"/>
            <a:ext cx="11084040" cy="4353120"/>
            <a:chOff x="554040" y="426960"/>
            <a:chExt cx="1108404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554040" y="426960"/>
              <a:ext cx="110840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85720" y="461880"/>
              <a:ext cx="110203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035680" y="6111360"/>
            <a:ext cx="3047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083080" y="6111360"/>
            <a:ext cx="3048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1131200" y="6111360"/>
            <a:ext cx="609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C6F2-1482-4B63-8314-AB6C91A741C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406440" y="328680"/>
            <a:ext cx="1137600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5035680" y="6111360"/>
            <a:ext cx="3047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8083080" y="6111360"/>
            <a:ext cx="3048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11131200" y="6111360"/>
            <a:ext cx="609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9A31-B037-4FC5-B97F-AFBB17A724F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406440" y="328680"/>
            <a:ext cx="1137600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8534520" y="433440"/>
            <a:ext cx="3098520" cy="4343400"/>
          </a:xfrm>
          <a:custGeom>
            <a:avLst/>
            <a:gdLst>
              <a:gd name="textAreaLeft" fmla="*/ 0 w 3098520"/>
              <a:gd name="textAreaRight" fmla="*/ 3073680 w 309852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3098800" h="4343400">
                <a:moveTo>
                  <a:pt x="0" y="0"/>
                </a:moveTo>
                <a:lnTo>
                  <a:pt x="3013645" y="0"/>
                </a:lnTo>
                <a:lnTo>
                  <a:pt x="3013645" y="0"/>
                </a:lnTo>
                <a:arcTo wR="85155" hR="85155" stAng="-5400000" swAng="5400000"/>
                <a:lnTo>
                  <a:pt x="30988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9960" y="4986000"/>
            <a:ext cx="109123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9960" y="529920"/>
            <a:ext cx="1091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035680" y="6111360"/>
            <a:ext cx="3047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8083080" y="6111360"/>
            <a:ext cx="3048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1131200" y="6111360"/>
            <a:ext cx="609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D79E-1200-4BAF-BC7D-1556A6BF081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7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с двумя скругленными противолежащими углами 1"/>
          <p:cNvSpPr/>
          <p:nvPr/>
        </p:nvSpPr>
        <p:spPr>
          <a:xfrm>
            <a:off x="6154560" y="409680"/>
            <a:ext cx="5515200" cy="2260440"/>
          </a:xfrm>
          <a:prstGeom prst="pie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О человеке может рассказать многое, о человеке могут рассказать многие. Друзья, родственники, знакомые, а так же фотографии, публикации, удостоверения и многое другое. Сегодня о судьбе нашего героя расскажут архивные документы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Прямоугольник с двумя скругленными противолежащими углами 3"/>
          <p:cNvSpPr/>
          <p:nvPr/>
        </p:nvSpPr>
        <p:spPr>
          <a:xfrm>
            <a:off x="4397400" y="3962520"/>
            <a:ext cx="7794720" cy="2489040"/>
          </a:xfrm>
          <a:prstGeom prst="pie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Участнику Великой Отечественной войны Морозову  Ивану Андреевичу посвящается…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Прямоугольник с двумя скругленными противолежащими углами 2"/>
          <p:cNvSpPr/>
          <p:nvPr/>
        </p:nvSpPr>
        <p:spPr>
          <a:xfrm>
            <a:off x="884160" y="798480"/>
            <a:ext cx="5067360" cy="3527280"/>
          </a:xfrm>
          <a:prstGeom prst="pie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Ваш подвиг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в сердце сохраним…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Объект 3" descr=""/>
          <p:cNvPicPr/>
          <p:nvPr/>
        </p:nvPicPr>
        <p:blipFill>
          <a:blip r:embed="rId2"/>
          <a:stretch/>
        </p:blipFill>
        <p:spPr>
          <a:xfrm>
            <a:off x="725400" y="368280"/>
            <a:ext cx="4430880" cy="62434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"/>
          <p:cNvPicPr/>
          <p:nvPr/>
        </p:nvPicPr>
        <p:blipFill>
          <a:blip r:embed="rId3"/>
          <a:stretch/>
        </p:blipFill>
        <p:spPr>
          <a:xfrm>
            <a:off x="5064120" y="1849320"/>
            <a:ext cx="5751360" cy="3797280"/>
          </a:xfrm>
          <a:prstGeom prst="rect">
            <a:avLst/>
          </a:prstGeom>
          <a:ln w="0">
            <a:noFill/>
          </a:ln>
        </p:spPr>
      </p:pic>
      <p:sp>
        <p:nvSpPr>
          <p:cNvPr id="267" name="Объект 5"/>
          <p:cNvSpPr/>
          <p:nvPr/>
        </p:nvSpPr>
        <p:spPr>
          <a:xfrm>
            <a:off x="4998960" y="5435640"/>
            <a:ext cx="5392800" cy="9795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4, лист №1,2; 1942-1945 годы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73520" y="363240"/>
            <a:ext cx="719928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Verdana"/>
              </a:rPr>
              <a:t>Удостоверения  о наградах И.А. Морозова  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"/>
          <p:cNvSpPr/>
          <p:nvPr/>
        </p:nvSpPr>
        <p:spPr>
          <a:xfrm>
            <a:off x="212760" y="609480"/>
            <a:ext cx="75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Verdana"/>
              </a:rPr>
              <a:t>УДОСТОВЕРЕНИЯ К МЕДАЛЯМ И.А. МОРОЗОВ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1" name="Рисунок 2" descr=""/>
          <p:cNvPicPr/>
          <p:nvPr/>
        </p:nvPicPr>
        <p:blipFill>
          <a:blip r:embed="rId2"/>
          <a:stretch/>
        </p:blipFill>
        <p:spPr>
          <a:xfrm>
            <a:off x="1744560" y="1844640"/>
            <a:ext cx="5724720" cy="33876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"/>
          <p:cNvPicPr/>
          <p:nvPr/>
        </p:nvPicPr>
        <p:blipFill>
          <a:blip r:embed="rId3"/>
          <a:stretch/>
        </p:blipFill>
        <p:spPr>
          <a:xfrm>
            <a:off x="7529400" y="95400"/>
            <a:ext cx="4662720" cy="31446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4" descr=""/>
          <p:cNvPicPr/>
          <p:nvPr/>
        </p:nvPicPr>
        <p:blipFill>
          <a:blip r:embed="rId4"/>
          <a:stretch/>
        </p:blipFill>
        <p:spPr>
          <a:xfrm>
            <a:off x="7529400" y="3519360"/>
            <a:ext cx="4662720" cy="3156120"/>
          </a:xfrm>
          <a:prstGeom prst="rect">
            <a:avLst/>
          </a:prstGeom>
          <a:ln w="0">
            <a:noFill/>
          </a:ln>
        </p:spPr>
      </p:pic>
      <p:sp>
        <p:nvSpPr>
          <p:cNvPr id="274" name="Объект 5"/>
          <p:cNvSpPr/>
          <p:nvPr/>
        </p:nvSpPr>
        <p:spPr>
          <a:xfrm>
            <a:off x="2349360" y="5369040"/>
            <a:ext cx="5067360" cy="94428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4, лист №3,4,5;1968-1977 годы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Объект 5"/>
          <p:cNvSpPr/>
          <p:nvPr/>
        </p:nvSpPr>
        <p:spPr>
          <a:xfrm>
            <a:off x="5065560" y="3606840"/>
            <a:ext cx="2337120" cy="257652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4, лист №6,7,8,9; 1947-1995 годы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6" name="Рисунок 3" descr=""/>
          <p:cNvPicPr/>
          <p:nvPr/>
        </p:nvPicPr>
        <p:blipFill>
          <a:blip r:embed="rId1"/>
          <a:stretch/>
        </p:blipFill>
        <p:spPr>
          <a:xfrm>
            <a:off x="7448400" y="3166920"/>
            <a:ext cx="4765680" cy="31719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"/>
          <p:cNvPicPr/>
          <p:nvPr/>
        </p:nvPicPr>
        <p:blipFill>
          <a:blip r:embed="rId2"/>
          <a:stretch/>
        </p:blipFill>
        <p:spPr>
          <a:xfrm>
            <a:off x="0" y="3060720"/>
            <a:ext cx="4834080" cy="32893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5" descr=""/>
          <p:cNvPicPr/>
          <p:nvPr/>
        </p:nvPicPr>
        <p:blipFill>
          <a:blip r:embed="rId3"/>
          <a:stretch/>
        </p:blipFill>
        <p:spPr>
          <a:xfrm>
            <a:off x="7448400" y="0"/>
            <a:ext cx="4743720" cy="3114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"/>
          <p:cNvPicPr/>
          <p:nvPr/>
        </p:nvPicPr>
        <p:blipFill>
          <a:blip r:embed="rId4"/>
          <a:stretch/>
        </p:blipFill>
        <p:spPr>
          <a:xfrm>
            <a:off x="2946240" y="414360"/>
            <a:ext cx="4502160" cy="31543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"/>
          <p:cNvSpPr/>
          <p:nvPr/>
        </p:nvSpPr>
        <p:spPr>
          <a:xfrm>
            <a:off x="0" y="1204920"/>
            <a:ext cx="419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Verdana"/>
              </a:rPr>
              <a:t>УДОСТОВЕРЕНИЯ К ЮБИЛЕЙНЫМ МЕДАЛЯМ        И.А. МОРОЗОВ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3" descr=""/>
          <p:cNvPicPr/>
          <p:nvPr/>
        </p:nvPicPr>
        <p:blipFill>
          <a:blip r:embed="rId1"/>
          <a:stretch/>
        </p:blipFill>
        <p:spPr>
          <a:xfrm>
            <a:off x="7080120" y="3354480"/>
            <a:ext cx="5112000" cy="3557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"/>
          <p:cNvPicPr/>
          <p:nvPr/>
        </p:nvPicPr>
        <p:blipFill>
          <a:blip r:embed="rId2"/>
          <a:stretch/>
        </p:blipFill>
        <p:spPr>
          <a:xfrm>
            <a:off x="7080120" y="0"/>
            <a:ext cx="5112000" cy="3354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5" descr=""/>
          <p:cNvPicPr/>
          <p:nvPr/>
        </p:nvPicPr>
        <p:blipFill>
          <a:blip r:embed="rId3"/>
          <a:stretch/>
        </p:blipFill>
        <p:spPr>
          <a:xfrm>
            <a:off x="0" y="1525680"/>
            <a:ext cx="6886440" cy="4773600"/>
          </a:xfrm>
          <a:prstGeom prst="rect">
            <a:avLst/>
          </a:prstGeom>
          <a:ln w="0">
            <a:noFill/>
          </a:ln>
        </p:spPr>
      </p:pic>
      <p:sp>
        <p:nvSpPr>
          <p:cNvPr id="284" name="Объект 5"/>
          <p:cNvSpPr/>
          <p:nvPr/>
        </p:nvSpPr>
        <p:spPr>
          <a:xfrm>
            <a:off x="0" y="5545080"/>
            <a:ext cx="3294000" cy="131292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4, лист №10,11,12; 1979-1997 годы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Прямоугольник 7"/>
          <p:cNvSpPr/>
          <p:nvPr/>
        </p:nvSpPr>
        <p:spPr>
          <a:xfrm>
            <a:off x="392040" y="3189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Verdana"/>
              </a:rPr>
              <a:t>УДОСТОВЕРЕНИЯ К ЮБИЛЕЙНЫМ МЕДАЛЯМ        И.А. МОРОЗОВ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5511960" y="522360"/>
            <a:ext cx="54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рденские книжки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.А Морозова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8" name="Рисунок 5" descr=""/>
          <p:cNvPicPr/>
          <p:nvPr/>
        </p:nvPicPr>
        <p:blipFill>
          <a:blip r:embed="rId2"/>
          <a:stretch/>
        </p:blipFill>
        <p:spPr>
          <a:xfrm>
            <a:off x="6558120" y="2028960"/>
            <a:ext cx="5634000" cy="387036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5475240" cy="387036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3" descr=""/>
          <p:cNvPicPr/>
          <p:nvPr/>
        </p:nvPicPr>
        <p:blipFill>
          <a:blip r:embed="rId4"/>
          <a:stretch/>
        </p:blipFill>
        <p:spPr>
          <a:xfrm>
            <a:off x="1887480" y="3038400"/>
            <a:ext cx="5562720" cy="3819600"/>
          </a:xfrm>
          <a:prstGeom prst="rect">
            <a:avLst/>
          </a:prstGeom>
          <a:ln w="0">
            <a:noFill/>
          </a:ln>
        </p:spPr>
      </p:pic>
      <p:sp>
        <p:nvSpPr>
          <p:cNvPr id="291" name="Объект 5"/>
          <p:cNvSpPr/>
          <p:nvPr/>
        </p:nvSpPr>
        <p:spPr>
          <a:xfrm>
            <a:off x="6781680" y="5797440"/>
            <a:ext cx="5410440" cy="10605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6, лист №3,4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4" descr=""/>
          <p:cNvPicPr/>
          <p:nvPr/>
        </p:nvPicPr>
        <p:blipFill>
          <a:blip r:embed="rId2"/>
          <a:stretch/>
        </p:blipFill>
        <p:spPr>
          <a:xfrm>
            <a:off x="5506920" y="1251000"/>
            <a:ext cx="5931000" cy="43927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5"/>
          <p:cNvSpPr/>
          <p:nvPr/>
        </p:nvSpPr>
        <p:spPr>
          <a:xfrm>
            <a:off x="623880" y="770040"/>
            <a:ext cx="106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Verdana"/>
              </a:rPr>
              <a:t>УДОСТОВЕРЕНИЯ К НАГРАДАМ И.А. МОРОЗОВ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5" name="Рисунок 2" descr=""/>
          <p:cNvPicPr/>
          <p:nvPr/>
        </p:nvPicPr>
        <p:blipFill>
          <a:blip r:embed="rId3"/>
          <a:stretch/>
        </p:blipFill>
        <p:spPr>
          <a:xfrm>
            <a:off x="0" y="2824200"/>
            <a:ext cx="5681520" cy="3819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2" descr=""/>
          <p:cNvPicPr/>
          <p:nvPr/>
        </p:nvPicPr>
        <p:blipFill>
          <a:blip r:embed="rId4"/>
          <a:stretch/>
        </p:blipFill>
        <p:spPr>
          <a:xfrm>
            <a:off x="0" y="1235160"/>
            <a:ext cx="5148360" cy="3424320"/>
          </a:xfrm>
          <a:prstGeom prst="rect">
            <a:avLst/>
          </a:prstGeom>
          <a:ln w="0">
            <a:noFill/>
          </a:ln>
        </p:spPr>
      </p:pic>
      <p:sp>
        <p:nvSpPr>
          <p:cNvPr id="297" name="Объект 5"/>
          <p:cNvSpPr/>
          <p:nvPr/>
        </p:nvSpPr>
        <p:spPr>
          <a:xfrm>
            <a:off x="5303880" y="5384880"/>
            <a:ext cx="4116240" cy="101592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ы хранения №4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Объект 5"/>
          <p:cNvSpPr/>
          <p:nvPr/>
        </p:nvSpPr>
        <p:spPr>
          <a:xfrm>
            <a:off x="3951360" y="5127480"/>
            <a:ext cx="4537080" cy="9842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8, лист №1,2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0" name="Рисунок 2" descr=""/>
          <p:cNvPicPr/>
          <p:nvPr/>
        </p:nvPicPr>
        <p:blipFill>
          <a:blip r:embed="rId2"/>
          <a:stretch/>
        </p:blipFill>
        <p:spPr>
          <a:xfrm>
            <a:off x="309600" y="1044720"/>
            <a:ext cx="5948280" cy="406692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3" descr=""/>
          <p:cNvPicPr/>
          <p:nvPr/>
        </p:nvPicPr>
        <p:blipFill>
          <a:blip r:embed="rId3"/>
          <a:stretch/>
        </p:blipFill>
        <p:spPr>
          <a:xfrm>
            <a:off x="6100920" y="1044720"/>
            <a:ext cx="5717880" cy="40669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1886040" y="223920"/>
            <a:ext cx="881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оенный билет И. А. Морозова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"/>
          <p:cNvSpPr/>
          <p:nvPr/>
        </p:nvSpPr>
        <p:spPr>
          <a:xfrm>
            <a:off x="4206960" y="487440"/>
            <a:ext cx="734544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КЕТНАЯ ИНФОРМАЦИЯ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1964 году со своей семьей приезжает в г. Нефтеюганск, Тюменской области, Ханты-Мансийского автономного округа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1966 по 1991 годы работал слесарем в Нефтеюганской базе производственно-технического обслуживания и комплектации оборудованием производственного объединения Юганскнефтегаз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Объект 5"/>
          <p:cNvSpPr/>
          <p:nvPr/>
        </p:nvSpPr>
        <p:spPr>
          <a:xfrm>
            <a:off x="7655040" y="6450120"/>
            <a:ext cx="4537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-участник Великой Отечественной войны, единица хранения №12, лист №1.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6" name="Picture 2" descr="C:\ДОКУМЕНТЫ\ОБРАЗЦЫ ДОКУМЕНТОВ\ЛП\59 Ветераны\59-9  Морозов\ф. 59 оп. 9 Морозов И.А. док-и скан\14 И.А. Морозов (портрет)\ф.59 оп.9 ед.хр.14 лист 1.jpg"/>
          <p:cNvPicPr/>
          <p:nvPr/>
        </p:nvPicPr>
        <p:blipFill>
          <a:blip r:embed="rId2"/>
          <a:stretch/>
        </p:blipFill>
        <p:spPr>
          <a:xfrm>
            <a:off x="657360" y="752400"/>
            <a:ext cx="3519360" cy="3956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770040" y="868320"/>
            <a:ext cx="3641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достоверения, отражающие трудовую деятельность И.А.Морозов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9" name="Рисунок 4" descr=""/>
          <p:cNvPicPr/>
          <p:nvPr/>
        </p:nvPicPr>
        <p:blipFill>
          <a:blip r:embed="rId2"/>
          <a:stretch/>
        </p:blipFill>
        <p:spPr>
          <a:xfrm>
            <a:off x="4027320" y="244440"/>
            <a:ext cx="4069080" cy="58849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3" descr=""/>
          <p:cNvPicPr/>
          <p:nvPr/>
        </p:nvPicPr>
        <p:blipFill>
          <a:blip r:embed="rId3"/>
          <a:stretch/>
        </p:blipFill>
        <p:spPr>
          <a:xfrm>
            <a:off x="3963960" y="3218040"/>
            <a:ext cx="6189840" cy="3639960"/>
          </a:xfrm>
          <a:prstGeom prst="rect">
            <a:avLst/>
          </a:prstGeom>
          <a:ln w="0">
            <a:noFill/>
          </a:ln>
        </p:spPr>
      </p:pic>
      <p:sp>
        <p:nvSpPr>
          <p:cNvPr id="311" name="Объект 5"/>
          <p:cNvSpPr/>
          <p:nvPr/>
        </p:nvSpPr>
        <p:spPr>
          <a:xfrm>
            <a:off x="8408880" y="887400"/>
            <a:ext cx="2613240" cy="20289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ы хранения №6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3" descr=""/>
          <p:cNvPicPr/>
          <p:nvPr/>
        </p:nvPicPr>
        <p:blipFill>
          <a:blip r:embed="rId2"/>
          <a:stretch/>
        </p:blipFill>
        <p:spPr>
          <a:xfrm>
            <a:off x="3556080" y="469800"/>
            <a:ext cx="5054400" cy="3646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2"/>
          <p:cNvSpPr/>
          <p:nvPr/>
        </p:nvSpPr>
        <p:spPr>
          <a:xfrm>
            <a:off x="770040" y="1224000"/>
            <a:ext cx="3109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достоверения, отражающие трудовую деятельность И.А.Морозова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Объект 5"/>
          <p:cNvSpPr/>
          <p:nvPr/>
        </p:nvSpPr>
        <p:spPr>
          <a:xfrm>
            <a:off x="8408880" y="887400"/>
            <a:ext cx="2613240" cy="20289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ы хранения №6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6" name="Рисунок 2" descr=""/>
          <p:cNvPicPr/>
          <p:nvPr/>
        </p:nvPicPr>
        <p:blipFill>
          <a:blip r:embed="rId3"/>
          <a:stretch/>
        </p:blipFill>
        <p:spPr>
          <a:xfrm>
            <a:off x="3568680" y="3147840"/>
            <a:ext cx="4994280" cy="3515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703400" y="1297080"/>
            <a:ext cx="5994360" cy="1735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00000"/>
                </a:solidFill>
                <a:latin typeface="Verdana"/>
              </a:rPr>
              <a:t>Морозов </a:t>
            </a:r>
            <a:br>
              <a:rPr sz="4500"/>
            </a:br>
            <a:r>
              <a:rPr b="1" lang="ru-RU" sz="4500" spc="-1" strike="noStrike">
                <a:solidFill>
                  <a:srgbClr val="c00000"/>
                </a:solidFill>
                <a:latin typeface="Verdana"/>
              </a:rPr>
              <a:t>Иван Андреевич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6" descr="C:\ДОКУМЕНТЫ\ОБРАЗЦЫ ДОКУМЕНТОВ\ЛП\59 Ветераны\59-9  Морозов\Ветеран Морозов.jpg"/>
          <p:cNvPicPr/>
          <p:nvPr/>
        </p:nvPicPr>
        <p:blipFill>
          <a:blip r:embed="rId2"/>
          <a:stretch/>
        </p:blipFill>
        <p:spPr>
          <a:xfrm>
            <a:off x="1474920" y="741240"/>
            <a:ext cx="3112920" cy="411984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6"/>
          <p:cNvSpPr/>
          <p:nvPr/>
        </p:nvSpPr>
        <p:spPr>
          <a:xfrm>
            <a:off x="5105520" y="3346560"/>
            <a:ext cx="609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-участник Великой Отечественной войны,  кавалер орденов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Красной Звезды,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течественной войны </a:t>
            </a:r>
            <a:r>
              <a:rPr b="0" lang="en-US" sz="3200" spc="-1" strike="noStrike">
                <a:solidFill>
                  <a:srgbClr val="c00000"/>
                </a:solidFill>
                <a:latin typeface="Tw Cen MT"/>
              </a:rPr>
              <a:t>II</a:t>
            </a:r>
            <a:r>
              <a:rPr b="0" lang="ru-RU" sz="3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тепени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1" descr=""/>
          <p:cNvPicPr/>
          <p:nvPr/>
        </p:nvPicPr>
        <p:blipFill>
          <a:blip r:embed="rId2"/>
          <a:stretch/>
        </p:blipFill>
        <p:spPr>
          <a:xfrm>
            <a:off x="347760" y="1079640"/>
            <a:ext cx="3408120" cy="524340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2" descr=""/>
          <p:cNvPicPr/>
          <p:nvPr/>
        </p:nvPicPr>
        <p:blipFill>
          <a:blip r:embed="rId3"/>
          <a:stretch/>
        </p:blipFill>
        <p:spPr>
          <a:xfrm>
            <a:off x="4210200" y="1079640"/>
            <a:ext cx="3520800" cy="524340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3" descr=""/>
          <p:cNvPicPr/>
          <p:nvPr/>
        </p:nvPicPr>
        <p:blipFill>
          <a:blip r:embed="rId4"/>
          <a:stretch/>
        </p:blipFill>
        <p:spPr>
          <a:xfrm>
            <a:off x="8313840" y="1079640"/>
            <a:ext cx="3619440" cy="5243400"/>
          </a:xfrm>
          <a:prstGeom prst="rect">
            <a:avLst/>
          </a:prstGeom>
          <a:ln w="0">
            <a:noFill/>
          </a:ln>
        </p:spPr>
      </p:pic>
      <p:sp>
        <p:nvSpPr>
          <p:cNvPr id="321" name="Объект 5"/>
          <p:cNvSpPr/>
          <p:nvPr/>
        </p:nvSpPr>
        <p:spPr>
          <a:xfrm>
            <a:off x="6572160" y="5276880"/>
            <a:ext cx="4950000" cy="110808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-участник Великой Отечественной войны, единица хранения №9, лист №1,2,4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1046160" y="184320"/>
            <a:ext cx="982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четные грамоты И.А. Морозова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616040" y="274680"/>
            <a:ext cx="9234360" cy="764280"/>
          </a:xfrm>
          <a:prstGeom prst="rect">
            <a:avLst/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четные грамоты И.А.Морозова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5"/>
          <p:cNvSpPr/>
          <p:nvPr/>
        </p:nvSpPr>
        <p:spPr>
          <a:xfrm>
            <a:off x="1616040" y="274680"/>
            <a:ext cx="9234360" cy="764280"/>
          </a:xfrm>
          <a:prstGeom prst="rect">
            <a:avLst/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четные грамоты И.А.Морозова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5" name="Рисунок 6" descr=""/>
          <p:cNvPicPr/>
          <p:nvPr/>
        </p:nvPicPr>
        <p:blipFill>
          <a:blip r:embed="rId1"/>
          <a:stretch/>
        </p:blipFill>
        <p:spPr>
          <a:xfrm>
            <a:off x="3983040" y="1062000"/>
            <a:ext cx="4106880" cy="519768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7" descr=""/>
          <p:cNvPicPr/>
          <p:nvPr/>
        </p:nvPicPr>
        <p:blipFill>
          <a:blip r:embed="rId2"/>
          <a:stretch/>
        </p:blipFill>
        <p:spPr>
          <a:xfrm>
            <a:off x="8147160" y="1062000"/>
            <a:ext cx="4044960" cy="519768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8" descr=""/>
          <p:cNvPicPr/>
          <p:nvPr/>
        </p:nvPicPr>
        <p:blipFill>
          <a:blip r:embed="rId3"/>
          <a:stretch/>
        </p:blipFill>
        <p:spPr>
          <a:xfrm>
            <a:off x="0" y="1062000"/>
            <a:ext cx="4060800" cy="5199120"/>
          </a:xfrm>
          <a:prstGeom prst="rect">
            <a:avLst/>
          </a:prstGeom>
          <a:ln w="0">
            <a:noFill/>
          </a:ln>
        </p:spPr>
      </p:pic>
      <p:sp>
        <p:nvSpPr>
          <p:cNvPr id="328" name="Объект 5"/>
          <p:cNvSpPr/>
          <p:nvPr/>
        </p:nvSpPr>
        <p:spPr>
          <a:xfrm>
            <a:off x="3625920" y="6140520"/>
            <a:ext cx="4802040" cy="71748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9, листы №6,7,8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"/>
          <p:cNvPicPr/>
          <p:nvPr/>
        </p:nvPicPr>
        <p:blipFill>
          <a:blip r:embed="rId1"/>
          <a:stretch/>
        </p:blipFill>
        <p:spPr>
          <a:xfrm>
            <a:off x="0" y="596880"/>
            <a:ext cx="5124600" cy="302724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2" descr=""/>
          <p:cNvPicPr/>
          <p:nvPr/>
        </p:nvPicPr>
        <p:blipFill>
          <a:blip r:embed="rId2"/>
          <a:stretch/>
        </p:blipFill>
        <p:spPr>
          <a:xfrm>
            <a:off x="0" y="3624120"/>
            <a:ext cx="5124600" cy="323388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3" descr=""/>
          <p:cNvPicPr/>
          <p:nvPr/>
        </p:nvPicPr>
        <p:blipFill>
          <a:blip r:embed="rId3"/>
          <a:stretch/>
        </p:blipFill>
        <p:spPr>
          <a:xfrm>
            <a:off x="5372280" y="1079640"/>
            <a:ext cx="6572160" cy="4662360"/>
          </a:xfrm>
          <a:prstGeom prst="rect">
            <a:avLst/>
          </a:prstGeom>
          <a:ln w="0">
            <a:noFill/>
          </a:ln>
        </p:spPr>
      </p:pic>
      <p:sp>
        <p:nvSpPr>
          <p:cNvPr id="332" name="Объект 5"/>
          <p:cNvSpPr/>
          <p:nvPr/>
        </p:nvSpPr>
        <p:spPr>
          <a:xfrm>
            <a:off x="5842080" y="5627520"/>
            <a:ext cx="5084640" cy="9860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9, листы №1,3,5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768320" y="0"/>
            <a:ext cx="9036360" cy="76428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четные грамоты И.А.Морозова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Объект 5"/>
          <p:cNvSpPr/>
          <p:nvPr/>
        </p:nvSpPr>
        <p:spPr>
          <a:xfrm>
            <a:off x="7655040" y="6450120"/>
            <a:ext cx="4537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-участник Великой Отечественной войны, единица хранения №9, лист №9,10; 1985 год.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5686560" y="287280"/>
            <a:ext cx="628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четные грамоты     И.А.Морозова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7" name="Рисунок 6" descr=""/>
          <p:cNvPicPr/>
          <p:nvPr/>
        </p:nvPicPr>
        <p:blipFill>
          <a:blip r:embed="rId2"/>
          <a:stretch/>
        </p:blipFill>
        <p:spPr>
          <a:xfrm>
            <a:off x="5479920" y="1668600"/>
            <a:ext cx="6712200" cy="47052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7" descr=""/>
          <p:cNvPicPr/>
          <p:nvPr/>
        </p:nvPicPr>
        <p:blipFill>
          <a:blip r:embed="rId3"/>
          <a:stretch/>
        </p:blipFill>
        <p:spPr>
          <a:xfrm>
            <a:off x="334800" y="666720"/>
            <a:ext cx="5681880" cy="4057560"/>
          </a:xfrm>
          <a:prstGeom prst="rect">
            <a:avLst/>
          </a:prstGeom>
          <a:ln w="0">
            <a:noFill/>
          </a:ln>
        </p:spPr>
      </p:pic>
      <p:sp>
        <p:nvSpPr>
          <p:cNvPr id="339" name="Объект 5"/>
          <p:cNvSpPr/>
          <p:nvPr/>
        </p:nvSpPr>
        <p:spPr>
          <a:xfrm>
            <a:off x="2438280" y="4757760"/>
            <a:ext cx="3276720" cy="16128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9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2"/>
          <p:cNvSpPr/>
          <p:nvPr/>
        </p:nvSpPr>
        <p:spPr>
          <a:xfrm>
            <a:off x="4297320" y="228600"/>
            <a:ext cx="74836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КЕТНАЯ ИНФОРМАЦИЯ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октября 1991 года по июнь 1944 год в той же организации – сторожем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1994 году ушел на заслуженный отдых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дет активную работу по военно-патриотическому воспитанию подрастающего поколения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Объект 5"/>
          <p:cNvSpPr/>
          <p:nvPr/>
        </p:nvSpPr>
        <p:spPr>
          <a:xfrm>
            <a:off x="7655040" y="6450120"/>
            <a:ext cx="4537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-участник Великой Отечественной войны, единица хранения №12, лист №1.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43" name="Picture 6" descr="C:\ДОКУМЕНТЫ\ОБРАЗЦЫ ДОКУМЕНТОВ\ЛП\59 Ветераны\59-9  Морозов\Ветеран Морозов.jpg"/>
          <p:cNvPicPr/>
          <p:nvPr/>
        </p:nvPicPr>
        <p:blipFill>
          <a:blip r:embed="rId2"/>
          <a:stretch/>
        </p:blipFill>
        <p:spPr>
          <a:xfrm>
            <a:off x="1017720" y="588960"/>
            <a:ext cx="3112920" cy="411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"/>
          <p:cNvSpPr/>
          <p:nvPr/>
        </p:nvSpPr>
        <p:spPr>
          <a:xfrm>
            <a:off x="0" y="0"/>
            <a:ext cx="6765840" cy="10083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Вырезки из газет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45" name="Рисунок 2" descr=""/>
          <p:cNvPicPr/>
          <p:nvPr/>
        </p:nvPicPr>
        <p:blipFill>
          <a:blip r:embed="rId1"/>
          <a:stretch/>
        </p:blipFill>
        <p:spPr>
          <a:xfrm>
            <a:off x="0" y="1066680"/>
            <a:ext cx="6597720" cy="57913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3" descr=""/>
          <p:cNvPicPr/>
          <p:nvPr/>
        </p:nvPicPr>
        <p:blipFill>
          <a:blip r:embed="rId2"/>
          <a:stretch/>
        </p:blipFill>
        <p:spPr>
          <a:xfrm>
            <a:off x="6603840" y="0"/>
            <a:ext cx="5588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1" descr=""/>
          <p:cNvPicPr/>
          <p:nvPr/>
        </p:nvPicPr>
        <p:blipFill>
          <a:blip r:embed="rId2"/>
          <a:stretch/>
        </p:blipFill>
        <p:spPr>
          <a:xfrm>
            <a:off x="1946160" y="2562120"/>
            <a:ext cx="4073760" cy="28004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2" descr=""/>
          <p:cNvPicPr/>
          <p:nvPr/>
        </p:nvPicPr>
        <p:blipFill>
          <a:blip r:embed="rId3"/>
          <a:stretch/>
        </p:blipFill>
        <p:spPr>
          <a:xfrm>
            <a:off x="5983200" y="2286000"/>
            <a:ext cx="5659560" cy="379260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1592280" y="579600"/>
            <a:ext cx="9134280" cy="155628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остоверение к медали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А ОСВОЕНИЕ НЕДР И РАЗВИТИЕ НЕФТЕГАЗОВОГО КОМПЛЕКСА ЗАПАДНОЙ СИБИРИ»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Объект 5"/>
          <p:cNvSpPr/>
          <p:nvPr/>
        </p:nvSpPr>
        <p:spPr>
          <a:xfrm>
            <a:off x="3860640" y="6008760"/>
            <a:ext cx="5070600" cy="8492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10; 1988 год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" descr=""/>
          <p:cNvPicPr/>
          <p:nvPr/>
        </p:nvPicPr>
        <p:blipFill>
          <a:blip r:embed="rId2"/>
          <a:stretch/>
        </p:blipFill>
        <p:spPr>
          <a:xfrm>
            <a:off x="1300320" y="625320"/>
            <a:ext cx="7021440" cy="46785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7650000" y="503280"/>
            <a:ext cx="3459240" cy="33858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ван Андреевич Морозов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кругу семьи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первый ряд с права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970 год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Объект 5"/>
          <p:cNvSpPr/>
          <p:nvPr/>
        </p:nvSpPr>
        <p:spPr>
          <a:xfrm>
            <a:off x="7604280" y="4175280"/>
            <a:ext cx="3398760" cy="15858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13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2" descr=""/>
          <p:cNvPicPr/>
          <p:nvPr/>
        </p:nvPicPr>
        <p:blipFill>
          <a:blip r:embed="rId2"/>
          <a:stretch/>
        </p:blipFill>
        <p:spPr>
          <a:xfrm>
            <a:off x="838080" y="797040"/>
            <a:ext cx="7506000" cy="50418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7626240" y="716040"/>
            <a:ext cx="4048200" cy="37508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.А.Морозов во время встречи с учениками Нефтеюганской средней школы № 4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Объект 5"/>
          <p:cNvSpPr/>
          <p:nvPr/>
        </p:nvSpPr>
        <p:spPr>
          <a:xfrm>
            <a:off x="7655040" y="4757760"/>
            <a:ext cx="3867120" cy="129204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динённый архивный фонд №59 «Участники Великой Отечественной войны», опись №9 «Морозов Иван Андреевич», единица хранения №16,  199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год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2" descr=""/>
          <p:cNvPicPr/>
          <p:nvPr/>
        </p:nvPicPr>
        <p:blipFill>
          <a:blip r:embed="rId2"/>
          <a:stretch/>
        </p:blipFill>
        <p:spPr>
          <a:xfrm>
            <a:off x="4008600" y="1338120"/>
            <a:ext cx="7602480" cy="5031000"/>
          </a:xfrm>
          <a:prstGeom prst="rect">
            <a:avLst/>
          </a:prstGeom>
          <a:ln w="0">
            <a:noFill/>
          </a:ln>
        </p:spPr>
      </p:pic>
      <p:sp>
        <p:nvSpPr>
          <p:cNvPr id="362" name="Объект 5"/>
          <p:cNvSpPr/>
          <p:nvPr/>
        </p:nvSpPr>
        <p:spPr>
          <a:xfrm>
            <a:off x="1193760" y="2773440"/>
            <a:ext cx="2890800" cy="16002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динённый архивный фонд №59 «Участники Великой Отечественной войны», опись №9 «Морозов Иван Андреевич», единица хранения №15, 1999 год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644400" y="609480"/>
            <a:ext cx="9779040" cy="1068840"/>
          </a:xfrm>
          <a:prstGeom prst="rect">
            <a:avLst/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.А.Морозов (шестой слева) среди ветеранов ВОВ у здания администрации Нефтеюганского района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7178760" y="5425920"/>
            <a:ext cx="4419360" cy="916920"/>
          </a:xfrm>
          <a:prstGeom prst="rect">
            <a:avLst/>
          </a:prstGeom>
          <a:solidFill>
            <a:srgbClr val="ffffff"/>
          </a:solidFill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ван Андреевич Морозов умер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хоронен на городском кладбище Нефтеюганск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1203480" y="777960"/>
            <a:ext cx="102106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АНКЕТНАЯ ИНФОРМАЦИЯ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розов Иван Андреевич, 1922 года рождения, 14 октября, уроженец с. Белово, Топчихинского района, Алтайского края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Рос в семье крестьян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 1930 по 1937 годы– учеба в школе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сле окончания школы работал в колхозе «Трудовик» в с. Белово, Топчихинского района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Объект 5"/>
          <p:cNvSpPr/>
          <p:nvPr/>
        </p:nvSpPr>
        <p:spPr>
          <a:xfrm>
            <a:off x="7655040" y="6450120"/>
            <a:ext cx="4537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-участник Великой Отечественной войны, единица хранения №12, лист №1.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-23760" y="-22320"/>
            <a:ext cx="12215880" cy="68709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9"/>
          <p:cNvSpPr/>
          <p:nvPr/>
        </p:nvSpPr>
        <p:spPr>
          <a:xfrm>
            <a:off x="2727360" y="369720"/>
            <a:ext cx="6950160" cy="3333960"/>
          </a:xfrm>
          <a:prstGeom prst="rect">
            <a:avLst/>
          </a:prstGeom>
          <a:solidFill>
            <a:srgbClr val="fbcc9a"/>
          </a:solidFill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Память о Морозове Иване Андреевиче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навечно останется  в истории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города Нефтеюганска, хранясь в архивных документах ветерана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на полках архивохранилищ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Будущие поколения посредством документов личного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Происхождения знатных горожан, земляков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смогут изучать страницы истории  нашего государства,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нашего края, города Нефтеюганска, изучая подлинные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документы очевидцев истории, их воспоминания, удостоверения,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фотодокументы. Подвиг солдат в годы Великой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Отечественной войны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w Cen MT"/>
              </a:rPr>
              <a:t>1941-1945 годов должен стать вечной памятью живущих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Рисунок 3" descr=""/>
          <p:cNvPicPr/>
          <p:nvPr/>
        </p:nvPicPr>
        <p:blipFill>
          <a:blip r:embed="rId2"/>
          <a:stretch/>
        </p:blipFill>
        <p:spPr>
          <a:xfrm>
            <a:off x="189000" y="198360"/>
            <a:ext cx="2676600" cy="36385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" descr="2921-107 Морозов И"/>
          <p:cNvPicPr/>
          <p:nvPr/>
        </p:nvPicPr>
        <p:blipFill>
          <a:blip r:embed="rId3"/>
          <a:stretch/>
        </p:blipFill>
        <p:spPr>
          <a:xfrm>
            <a:off x="9371160" y="325440"/>
            <a:ext cx="2531880" cy="394344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9"/>
          <p:cNvSpPr/>
          <p:nvPr/>
        </p:nvSpPr>
        <p:spPr>
          <a:xfrm>
            <a:off x="212760" y="3736800"/>
            <a:ext cx="11598120" cy="971640"/>
          </a:xfrm>
          <a:prstGeom prst="rect">
            <a:avLst/>
          </a:prstGeom>
          <a:solidFill>
            <a:srgbClr val="fbcc9a"/>
          </a:solidFill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w Cen MT"/>
              </a:rPr>
              <a:t>1943 год   Морозов Иван Андреевич   1985 год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12192120" cy="7007040"/>
          </a:xfrm>
          <a:prstGeom prst="rect">
            <a:avLst/>
          </a:prstGeom>
          <a:ln w="0">
            <a:noFill/>
          </a:ln>
        </p:spPr>
      </p:pic>
      <p:sp>
        <p:nvSpPr>
          <p:cNvPr id="371" name="Скругленный прямоугольник 2"/>
          <p:cNvSpPr/>
          <p:nvPr/>
        </p:nvSpPr>
        <p:spPr>
          <a:xfrm>
            <a:off x="7356600" y="4005360"/>
            <a:ext cx="4225680" cy="2593800"/>
          </a:xfrm>
          <a:prstGeom prst="roundRect">
            <a:avLst>
              <a:gd name="adj" fmla="val 16667"/>
            </a:avLst>
          </a:prstGeom>
          <a:solidFill>
            <a:srgbClr val="fbcc9a"/>
          </a:solidFill>
          <a:ln w="42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формация подготовлена на основании  архивных документов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АФ № 59 «Участники Великой Отечественной войны», опись № 9 «Морозов Иван Андреевич», фотодокументов фотофонда  отдела по делам архивов департамента по делам администрации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орода Нефтеюганска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3673440" y="228600"/>
            <a:ext cx="80312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КЕТНАЯ ИНФОРМАЦИЯ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В 1942 году призван в ряды Советской Армии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лужбу начал с 233-й стрелковой дивизии 572-го стрелкового полка в отдельном пулеметном батальоне. Первое боевое крещение получил в кровопролитных боях у ст. Катлубань, на Сталинградском фронте 29 августа 1942 года.Дальнейшая военная служба проходила на Ленинградском фронте, в 18-ой артиллерийской дивизии, 58 гаубичной бригаде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В начале мая 1943 года прибывает со своей частью в Ленинград. После снятия блокады Ленинграда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7 января 1944 года путь лежал на Нарву, Талин, Польшу. С Польши начался отсчет километров до фашистского логова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2 мая 1945 года вошел в Берлин, где и встретил Победу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В мае 1946 году демобилизовался  в звании старшего сержант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0" name="Рисунок 3" descr=""/>
          <p:cNvPicPr/>
          <p:nvPr/>
        </p:nvPicPr>
        <p:blipFill>
          <a:blip r:embed="rId2"/>
          <a:stretch/>
        </p:blipFill>
        <p:spPr>
          <a:xfrm>
            <a:off x="434880" y="1127160"/>
            <a:ext cx="3214800" cy="4371840"/>
          </a:xfrm>
          <a:prstGeom prst="rect">
            <a:avLst/>
          </a:prstGeom>
          <a:ln w="0">
            <a:noFill/>
          </a:ln>
        </p:spPr>
      </p:pic>
      <p:sp>
        <p:nvSpPr>
          <p:cNvPr id="241" name="Объект 5"/>
          <p:cNvSpPr/>
          <p:nvPr/>
        </p:nvSpPr>
        <p:spPr>
          <a:xfrm>
            <a:off x="7655040" y="6450120"/>
            <a:ext cx="4537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-участник Великой Отечественной войны, единица хранения №12, лист №1.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 algn="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4" descr=""/>
          <p:cNvPicPr/>
          <p:nvPr/>
        </p:nvPicPr>
        <p:blipFill>
          <a:blip r:embed="rId2"/>
          <a:stretch/>
        </p:blipFill>
        <p:spPr>
          <a:xfrm>
            <a:off x="6357960" y="0"/>
            <a:ext cx="583416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582200" y="3460680"/>
            <a:ext cx="4643640" cy="11844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txBody>
          <a:bodyPr lIns="182880" tIns="91440" anchor="t">
            <a:normAutofit/>
          </a:bodyPr>
          <a:p>
            <a:pPr marL="90360" indent="-90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1,1985 г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90360" indent="-903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14320" y="1133280"/>
            <a:ext cx="6494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Verdana"/>
              </a:rPr>
              <a:t>Воспоминания 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Verdana"/>
              </a:rPr>
              <a:t>И.А. Морозова 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Verdana"/>
              </a:rPr>
              <a:t>о Великой Отечественной войн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5720" y="0"/>
            <a:ext cx="504036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Verdana"/>
              </a:rPr>
              <a:t>Автобиограф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Объект 3" descr=""/>
          <p:cNvPicPr/>
          <p:nvPr/>
        </p:nvPicPr>
        <p:blipFill>
          <a:blip r:embed="rId2"/>
          <a:stretch/>
        </p:blipFill>
        <p:spPr>
          <a:xfrm>
            <a:off x="7272360" y="506520"/>
            <a:ext cx="4330800" cy="53496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3"/>
          <a:stretch/>
        </p:blipFill>
        <p:spPr>
          <a:xfrm>
            <a:off x="2754360" y="903240"/>
            <a:ext cx="4340160" cy="5330880"/>
          </a:xfrm>
          <a:prstGeom prst="rect">
            <a:avLst/>
          </a:prstGeom>
          <a:ln w="0">
            <a:noFill/>
          </a:ln>
        </p:spPr>
      </p:pic>
      <p:sp>
        <p:nvSpPr>
          <p:cNvPr id="250" name="Объект 5"/>
          <p:cNvSpPr/>
          <p:nvPr/>
        </p:nvSpPr>
        <p:spPr>
          <a:xfrm>
            <a:off x="7242120" y="5935680"/>
            <a:ext cx="4470480" cy="92232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 единица хранения №2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Объект 5"/>
          <p:cNvSpPr/>
          <p:nvPr/>
        </p:nvSpPr>
        <p:spPr>
          <a:xfrm>
            <a:off x="-112680" y="6392880"/>
            <a:ext cx="4537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-участник Великой Отечественной войны, единица хранения №6, лист №1,2.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3" name="Picture 6" descr="C:\ДОКУМЕНТЫ\ОБРАЗЦЫ ДОКУМЕНТОВ\ЛП\59 Ветераны\59-9  Морозов\ф. 59 оп. 9 Морозов И.А. док-и скан\Доп док-ы\ф.59 оп.9 ед.хр. Доп док-ы лист 1.1.jpg"/>
          <p:cNvPicPr/>
          <p:nvPr/>
        </p:nvPicPr>
        <p:blipFill>
          <a:blip r:embed="rId2"/>
          <a:stretch/>
        </p:blipFill>
        <p:spPr>
          <a:xfrm>
            <a:off x="2014560" y="412920"/>
            <a:ext cx="4508640" cy="6215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C:\ДОКУМЕНТЫ\ОБРАЗЦЫ ДОКУМЕНТОВ\ЛП\59 Ветераны\59-9  Морозов\ф. 59 оп. 9 Морозов И.А. док-и скан\Доп док-ы\ф.59 оп.9 ед.хр. Доп док-ы лист 1.2.jpg"/>
          <p:cNvPicPr/>
          <p:nvPr/>
        </p:nvPicPr>
        <p:blipFill>
          <a:blip r:embed="rId3"/>
          <a:stretch/>
        </p:blipFill>
        <p:spPr>
          <a:xfrm>
            <a:off x="6340320" y="409680"/>
            <a:ext cx="4349880" cy="6249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8720" y="610920"/>
            <a:ext cx="9720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Verdana"/>
              </a:rPr>
              <a:t>Благодарственные письма И.А. Морозов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6" name="Объект 4" descr=""/>
          <p:cNvPicPr/>
          <p:nvPr/>
        </p:nvPicPr>
        <p:blipFill>
          <a:blip r:embed="rId1"/>
          <a:stretch/>
        </p:blipFill>
        <p:spPr>
          <a:xfrm>
            <a:off x="809640" y="2198520"/>
            <a:ext cx="5956200" cy="3840480"/>
          </a:xfrm>
          <a:prstGeom prst="rect">
            <a:avLst/>
          </a:prstGeom>
          <a:ln w="0">
            <a:noFill/>
          </a:ln>
        </p:spPr>
      </p:pic>
      <p:pic>
        <p:nvPicPr>
          <p:cNvPr id="257" name="Объект 5" descr=""/>
          <p:cNvPicPr/>
          <p:nvPr/>
        </p:nvPicPr>
        <p:blipFill>
          <a:blip r:embed="rId2"/>
          <a:stretch/>
        </p:blipFill>
        <p:spPr>
          <a:xfrm>
            <a:off x="7721640" y="1504800"/>
            <a:ext cx="3797280" cy="5353200"/>
          </a:xfrm>
          <a:prstGeom prst="rect">
            <a:avLst/>
          </a:prstGeom>
          <a:ln w="0">
            <a:noFill/>
          </a:ln>
        </p:spPr>
      </p:pic>
      <p:sp>
        <p:nvSpPr>
          <p:cNvPr id="258" name="Объект 5"/>
          <p:cNvSpPr/>
          <p:nvPr/>
        </p:nvSpPr>
        <p:spPr>
          <a:xfrm>
            <a:off x="3201840" y="6081840"/>
            <a:ext cx="4214880" cy="77616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,единица хранения №3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3560" y="217440"/>
            <a:ext cx="61214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Verdana"/>
              </a:rPr>
              <a:t>Благодарственные письма И.А. Морозов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0" name="Объект 6" descr=""/>
          <p:cNvPicPr/>
          <p:nvPr/>
        </p:nvPicPr>
        <p:blipFill>
          <a:blip r:embed="rId1"/>
          <a:stretch/>
        </p:blipFill>
        <p:spPr>
          <a:xfrm>
            <a:off x="6708600" y="3562200"/>
            <a:ext cx="5207040" cy="3295800"/>
          </a:xfrm>
          <a:prstGeom prst="rect">
            <a:avLst/>
          </a:prstGeom>
          <a:ln w="0">
            <a:noFill/>
          </a:ln>
        </p:spPr>
      </p:pic>
      <p:pic>
        <p:nvPicPr>
          <p:cNvPr id="261" name="Объект 8" descr=""/>
          <p:cNvPicPr/>
          <p:nvPr/>
        </p:nvPicPr>
        <p:blipFill>
          <a:blip r:embed="rId2"/>
          <a:stretch/>
        </p:blipFill>
        <p:spPr>
          <a:xfrm>
            <a:off x="6688080" y="0"/>
            <a:ext cx="5227560" cy="3562200"/>
          </a:xfrm>
          <a:prstGeom prst="rect">
            <a:avLst/>
          </a:prstGeom>
          <a:ln w="0">
            <a:noFill/>
          </a:ln>
        </p:spPr>
      </p:pic>
      <p:sp>
        <p:nvSpPr>
          <p:cNvPr id="262" name="Объект 5"/>
          <p:cNvSpPr/>
          <p:nvPr/>
        </p:nvSpPr>
        <p:spPr>
          <a:xfrm>
            <a:off x="0" y="5958000"/>
            <a:ext cx="5079960" cy="900000"/>
          </a:xfrm>
          <a:prstGeom prst="rect">
            <a:avLst/>
          </a:prstGeom>
          <a:solidFill>
            <a:srgbClr val="fbcc9a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Объединённый архивный фонд №59 «Участники Великой Отечественной войны», опись №9 «Морозов Иван Андреевич»-участник Великой Отечественной войны, единица хранения №3, лист №3,4,5.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07f0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3" name="Рисунок 9" descr=""/>
          <p:cNvPicPr/>
          <p:nvPr/>
        </p:nvPicPr>
        <p:blipFill>
          <a:blip r:embed="rId3"/>
          <a:stretch/>
        </p:blipFill>
        <p:spPr>
          <a:xfrm>
            <a:off x="0" y="1646280"/>
            <a:ext cx="6815160" cy="419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0:03:50Z</dcterms:created>
  <dc:creator>ARHIV</dc:creator>
  <dc:description/>
  <dc:language>en-US</dc:language>
  <cp:lastModifiedBy>User</cp:lastModifiedBy>
  <dcterms:modified xsi:type="dcterms:W3CDTF">2015-04-08T03:32:35Z</dcterms:modified>
  <cp:revision>26</cp:revision>
  <dc:subject/>
  <dc:title>Морозов Иван Андреевич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20000000000010262800207f7000400038000</vt:lpwstr>
  </property>
</Properties>
</file>