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40.jpeg" ContentType="image/jpeg"/>
  <Override PartName="/ppt/media/image6.png" ContentType="image/png"/>
  <Override PartName="/ppt/media/image22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20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E35-8921-48F2-A3E9-EF79E86F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E2AB-A4AC-43B8-953D-AAAD61D0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A7B-E86F-407B-9A2F-51597B76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C83-3492-4BAF-B3B0-CCB16E85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0A71-FE7D-4A5C-B88F-8294DECC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E89E-CF23-4963-9C0F-B832840D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05E2-85DC-4A51-8E46-3A216027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5941-B09A-47BF-AB2C-A5DE7F22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C806-1B8B-46E6-B59D-4A8603DC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E83C-82A5-4EC1-8764-4F9B000B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E5F2-A698-40CD-9A17-7A66B412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2D1-3C31-4136-817E-FD505946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6DC6-5C7C-4BF6-B719-53D1A172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308D-DFED-4C1C-B0A0-3314A0F9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0EDB-08BE-4F81-9C23-828EE5B0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A979-BB09-4CE0-BE5B-2548FB63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A424-12D3-46A2-B019-956BE6BB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7287-C9DF-4F59-9F7C-B5704D41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5639-A03B-4CFC-84C2-7E4D5CDB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6DBE6-095E-43E9-AFBC-ADADFE5C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EC473-3681-45FE-A4F0-917BFC59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81DB3-E370-4A96-A9B3-4DBD9E5A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E22-CADF-4C5A-A5FF-6956924E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91F48-011E-49FE-9DD9-747F8C76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6DEE3-3D51-4F8E-BDFA-3CC10177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5A4EA-5258-454F-84C1-0DE16197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3D4DB-F931-4FBC-9959-D07B19FB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4CA1-95BA-4946-B86D-46E599E5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0E18B-B48E-4C1A-ADF8-A8C6814B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80AE0-30B1-480F-9C5D-F35B6B80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95286-472F-42AD-A007-2D61E924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AF3A6-F44C-4930-A1F4-62DB8043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0C095-61BC-46C1-929E-9C91A36D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010-992B-4072-A1A6-22D995C5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FF4A0-9466-4E26-BB0B-56E96F24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B9BFF-B71B-442B-91F8-0A1F5034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4DC86-0FD1-47FA-A3A2-93EC79B6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767B1-CB12-4990-BC68-7CB74678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0E33E-F777-422E-8C90-AAAA9158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3FC5E-DC6F-44EB-9226-BB2162FF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9DF9-E584-4F43-B4A7-23C0C664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C5E69-D9D9-4548-B599-1293AD67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E4887-6A0C-4AD4-87F0-90233674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3AD7D-2A7E-4702-883D-E61B1F9D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1FD-B696-4CDA-BB8C-BFCE7AF7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2A014-85B0-40C6-89DF-0580A917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05610-0DF1-4F29-9448-8A6FA51D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98F5A-5AC3-4AFC-844F-A813C9AE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BADF5-531B-48A6-930F-E3D0AE35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79DDD-BCFD-41DE-8297-3C7C1B61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1AC86-A1B2-4721-B7DF-696C9856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8472F-BB92-48DD-B10E-5A3BC9DD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3DEA5-7771-4A7D-B57F-290BC5F2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839F9-9436-4DB2-8184-654E5E75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B8ED7-7CFF-46C2-BEE0-69EF00DF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3F3-EF47-4583-BFBE-74DF0946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9743E-FB97-4DF9-8165-8751E948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81096-2ADA-4131-841D-D50B4EE8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15027-EFBE-4BAC-A1C4-F36DBAC3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6D53C-788D-40A7-9099-4744CC45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619C3-877A-48B0-BD6E-71EFA7E4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A9890-B7EC-4934-BBE5-5DAF3C31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A55EC-8DE9-4D7F-8198-9A17584B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6B424-D80B-478F-9619-3F615932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88DDA4-5CCF-490E-8CBB-DF10AE60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529A3-D47C-4B4B-A8E1-D1FD14A8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BD0-A3EA-4A2D-BA9A-646499A8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A2C1CC-3C2F-4A83-9DDE-05A77D13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6C2CA-E30F-4AD2-97DE-A6ED6A23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F7E4BF-50AE-4316-9C66-10070BB1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40BC9-64E8-401D-AEF4-F358ECA7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DEE9F-2654-47C0-B21C-20BB7373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2A639-9A8B-4EC9-B705-BE0DFC27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8B941-605A-4EE6-99C8-02239820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8B841-55E4-45B7-9A56-8698BD6E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08E8F-FFCD-4042-B2FA-DFA6D9F9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71224-A40C-448D-83BF-AB0ADFEA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B63-2337-4526-B73D-4AA87255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9E065-0CF7-4BB8-A98D-76EC26D2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2192A-11BD-4F2B-A731-83B4208E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24B48-DA79-4268-AABD-020DC4DA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36521-6F43-47F8-99DF-67D901E8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36452-18AC-42D3-B546-E816910C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71F4-61AE-4A2E-82DA-8992D4FD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1568-C1A5-4BAA-9B3F-EAF009EC2D3C}" type="slidenum">
              <a:rPr b="0" lang="ru-RU" sz="1200" spc="-1" strike="noStrike">
                <a:solidFill>
                  <a:srgbClr val="564b3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D3D8-154C-433E-BE3F-D48C0FC29CE1}" type="slidenum">
              <a:rPr b="0" lang="ru-RU" sz="2800" spc="-1" strike="noStrike">
                <a:solidFill>
                  <a:srgbClr val="47534c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E155-2B1F-42ED-B78C-9040E45F2F63}" type="slidenum">
              <a:rPr b="0" lang="ru-RU" sz="1200" spc="-1" strike="noStrike">
                <a:solidFill>
                  <a:srgbClr val="564b3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53F3-58D4-4DA7-AD72-59043069E574}" type="slidenum">
              <a:rPr b="0" lang="ru-RU" sz="1200" spc="-1" strike="noStrike">
                <a:solidFill>
                  <a:srgbClr val="564b3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A6BE-54F8-44B9-9774-FAE9109D652C}" type="slidenum">
              <a:rPr b="0" lang="ru-RU" sz="1200" spc="-1" strike="noStrike">
                <a:solidFill>
                  <a:srgbClr val="564b3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61F4-323A-4D93-83D3-D64FBBAE3BDD}" type="slidenum">
              <a:rPr b="0" lang="ru-RU" sz="1200" spc="-1" strike="noStrike">
                <a:solidFill>
                  <a:srgbClr val="564b3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846C-4414-4254-B200-D13C8EB8DA84}" type="slidenum">
              <a:rPr b="0" lang="ru-RU" sz="1200" spc="-1" strike="noStrike">
                <a:solidFill>
                  <a:srgbClr val="564b3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1752120"/>
            <a:ext cx="8229600" cy="4373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22320" y="0"/>
            <a:ext cx="911376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Скругленный прямоугольник 3"/>
          <p:cNvSpPr/>
          <p:nvPr/>
        </p:nvSpPr>
        <p:spPr>
          <a:xfrm>
            <a:off x="250920" y="189000"/>
            <a:ext cx="6192720" cy="136836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 человеке могут рассказать многие: друзья, родственники, знакомые, а так же фотографии, публикации, удостоверения и многое другое. Сегодня о судьбе нашего героя расскажут архивные докумен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6"/>
          <p:cNvSpPr/>
          <p:nvPr/>
        </p:nvSpPr>
        <p:spPr>
          <a:xfrm>
            <a:off x="179280" y="189000"/>
            <a:ext cx="7921800" cy="136836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О человеке может рассказать многое, о человеке могут рассказать многие. Друзья, родственники, знакомые, а так же фотографии, публикации, удостоверения и многое другое. Сегодня о судьбе нашего героя расскажут архивные документ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Скругленный прямоугольник 7"/>
          <p:cNvSpPr/>
          <p:nvPr/>
        </p:nvSpPr>
        <p:spPr>
          <a:xfrm>
            <a:off x="3311640" y="1773360"/>
            <a:ext cx="4500360" cy="2232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Ваш подвиг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в сердц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сохраним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Скругленный прямоугольник 4"/>
          <p:cNvSpPr/>
          <p:nvPr/>
        </p:nvSpPr>
        <p:spPr>
          <a:xfrm>
            <a:off x="2124000" y="4653000"/>
            <a:ext cx="4392720" cy="2205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entury Gothic"/>
              </a:rPr>
              <a:t>Участнику Великой Отечественной войны Гаянову Нургали Нурлагаяновичу посвящается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6" descr="\\Priemnaya\обмен\305 КАБИНЕТ\фон 9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9" name="Picture 5" descr="DSC01764"/>
          <p:cNvPicPr/>
          <p:nvPr/>
        </p:nvPicPr>
        <p:blipFill>
          <a:blip r:embed="rId2"/>
          <a:stretch/>
        </p:blipFill>
        <p:spPr>
          <a:xfrm>
            <a:off x="0" y="1989000"/>
            <a:ext cx="5676840" cy="558324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5"/>
          <p:cNvSpPr/>
          <p:nvPr/>
        </p:nvSpPr>
        <p:spPr>
          <a:xfrm>
            <a:off x="4716360" y="981000"/>
            <a:ext cx="4427640" cy="5877000"/>
          </a:xfrm>
          <a:prstGeom prst="rect">
            <a:avLst/>
          </a:prstGeom>
          <a:solidFill>
            <a:srgbClr val="e1dfba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День Победы младший сержант Нургали Гаянов встретил в столице Австрии. Победителю был 21 год. Сердце разрывалось от радости. Но с эшелонами победителей Родина Нургали не встретила в 1945 году. Во время бомбёжки Нургали контузило и он попал в госпиталь. А потом ещё долгих 5 лет приходилось Нургали Гаянову помогать своей Родине за ее пределами, до 1950 года продолжал он свою службу в столице Румынии Будапеште. И здесь у него невыполнимых задач у него не было, он выполнял задачи государственной безопасности в вопросах соблюдения цензуры военной переписки, работал в управлении цензуры Министерства Госбезопасности ССС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а родную землю Нургали Нарлагаянович вернулся в 1952 году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2" descr="\\Priemnaya\обмен\305 КАБИНЕТ\фон 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11"/>
          <p:cNvGrpSpPr/>
          <p:nvPr/>
        </p:nvGrpSpPr>
        <p:grpSpPr>
          <a:xfrm>
            <a:off x="2340000" y="1989000"/>
            <a:ext cx="6226920" cy="4868640"/>
            <a:chOff x="2340000" y="1989000"/>
            <a:chExt cx="6226920" cy="4868640"/>
          </a:xfrm>
        </p:grpSpPr>
        <p:pic>
          <p:nvPicPr>
            <p:cNvPr id="383" name="Picture 2" descr="C:\Users\user\Desktop\8 школа Гаянов\7 Удостоверен к боевым медалям и орденам\Изображения 007.jpg"/>
            <p:cNvPicPr/>
            <p:nvPr/>
          </p:nvPicPr>
          <p:blipFill>
            <a:blip r:embed="rId2"/>
            <a:stretch/>
          </p:blipFill>
          <p:spPr>
            <a:xfrm>
              <a:off x="2340000" y="1989000"/>
              <a:ext cx="5143680" cy="33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Рисунок 6" descr=""/>
            <p:cNvPicPr/>
            <p:nvPr/>
          </p:nvPicPr>
          <p:blipFill>
            <a:blip r:embed="rId3"/>
            <a:stretch/>
          </p:blipFill>
          <p:spPr>
            <a:xfrm>
              <a:off x="4245480" y="3381840"/>
              <a:ext cx="4321440" cy="347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Rectangle 15"/>
          <p:cNvSpPr/>
          <p:nvPr/>
        </p:nvSpPr>
        <p:spPr>
          <a:xfrm>
            <a:off x="5292720" y="765000"/>
            <a:ext cx="3851280" cy="1368720"/>
          </a:xfrm>
          <a:prstGeom prst="rect">
            <a:avLst/>
          </a:prstGeom>
          <a:solidFill>
            <a:srgbClr val="e1dfb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ни выстояли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ройдя через ад,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6" name="Picture 6" descr="C:\Users\user\Desktop\8 школа Гаянов\ФОТО\г. Бухарест Румыния 28.03.1949 Когда постареть, тогда вспомнить.jpg"/>
          <p:cNvPicPr/>
          <p:nvPr/>
        </p:nvPicPr>
        <p:blipFill>
          <a:blip r:embed="rId4"/>
          <a:stretch/>
        </p:blipFill>
        <p:spPr>
          <a:xfrm>
            <a:off x="0" y="3284640"/>
            <a:ext cx="25401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2" descr="\\Priemnaya\обмен\305 КАБИНЕТ\фон 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88" name="Объект 3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4122720" cy="3246480"/>
          </a:xfrm>
          <a:prstGeom prst="rect">
            <a:avLst/>
          </a:prstGeom>
          <a:ln w="0">
            <a:noFill/>
          </a:ln>
        </p:spPr>
      </p:pic>
      <p:grpSp>
        <p:nvGrpSpPr>
          <p:cNvPr id="389" name="Group 13"/>
          <p:cNvGrpSpPr/>
          <p:nvPr/>
        </p:nvGrpSpPr>
        <p:grpSpPr>
          <a:xfrm>
            <a:off x="0" y="2781360"/>
            <a:ext cx="9144000" cy="4076640"/>
            <a:chOff x="0" y="2781360"/>
            <a:chExt cx="9144000" cy="4076640"/>
          </a:xfrm>
        </p:grpSpPr>
        <p:grpSp>
          <p:nvGrpSpPr>
            <p:cNvPr id="390" name="Group 12"/>
            <p:cNvGrpSpPr/>
            <p:nvPr/>
          </p:nvGrpSpPr>
          <p:grpSpPr>
            <a:xfrm>
              <a:off x="4500720" y="2781360"/>
              <a:ext cx="4643280" cy="4076640"/>
              <a:chOff x="4500720" y="2781360"/>
              <a:chExt cx="4643280" cy="4076640"/>
            </a:xfrm>
          </p:grpSpPr>
          <p:pic>
            <p:nvPicPr>
              <p:cNvPr id="391" name="Picture 3" descr="C:\Users\user\Desktop\8 школа Гаянов\7 Удостоверен к боевым медалям и орденам\Изображения 008.jpg"/>
              <p:cNvPicPr/>
              <p:nvPr/>
            </p:nvPicPr>
            <p:blipFill>
              <a:blip r:embed="rId3"/>
              <a:stretch/>
            </p:blipFill>
            <p:spPr>
              <a:xfrm>
                <a:off x="4500720" y="2781360"/>
                <a:ext cx="3743280" cy="273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Picture 4" descr="C:\Users\user\Desktop\8 школа Гаянов\7 Удостоверен к боевым медалям и орденам\Изображения 026.jpg"/>
              <p:cNvPicPr/>
              <p:nvPr/>
            </p:nvPicPr>
            <p:blipFill>
              <a:blip r:embed="rId4"/>
              <a:stretch/>
            </p:blipFill>
            <p:spPr>
              <a:xfrm>
                <a:off x="6012000" y="4065480"/>
                <a:ext cx="3132000" cy="2792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93" name="Picture 6" descr="C:\Users\user\Desktop\8 школа Гаянов\ФОТО\г. Бухарест Румыния 28.03.1949 Когда постареть, тогда вспомнить.jpg"/>
            <p:cNvPicPr/>
            <p:nvPr/>
          </p:nvPicPr>
          <p:blipFill>
            <a:blip r:embed="rId5"/>
            <a:stretch/>
          </p:blipFill>
          <p:spPr>
            <a:xfrm>
              <a:off x="0" y="3284640"/>
              <a:ext cx="2540160" cy="357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Rectangle 15"/>
          <p:cNvSpPr/>
          <p:nvPr/>
        </p:nvSpPr>
        <p:spPr>
          <a:xfrm>
            <a:off x="5292720" y="765000"/>
            <a:ext cx="3851280" cy="1368720"/>
          </a:xfrm>
          <a:prstGeom prst="rect">
            <a:avLst/>
          </a:prstGeom>
          <a:solidFill>
            <a:srgbClr val="e1dfb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ни отстоял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мир в боях,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1" descr="\\Priemnaya\обмен\305 КАБИНЕТ\фон 9.jpg"/>
          <p:cNvPicPr/>
          <p:nvPr/>
        </p:nvPicPr>
        <p:blipFill>
          <a:blip r:embed="rId1"/>
          <a:stretch/>
        </p:blipFill>
        <p:spPr>
          <a:xfrm>
            <a:off x="108000" y="-17640"/>
            <a:ext cx="9036000" cy="678816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1"/>
          <p:cNvGrpSpPr/>
          <p:nvPr/>
        </p:nvGrpSpPr>
        <p:grpSpPr>
          <a:xfrm>
            <a:off x="1763640" y="2060640"/>
            <a:ext cx="4788000" cy="3717360"/>
            <a:chOff x="1763640" y="2060640"/>
            <a:chExt cx="4788000" cy="3717360"/>
          </a:xfrm>
        </p:grpSpPr>
        <p:pic>
          <p:nvPicPr>
            <p:cNvPr id="397" name="Рисунок 4" descr=""/>
            <p:cNvPicPr/>
            <p:nvPr/>
          </p:nvPicPr>
          <p:blipFill>
            <a:blip r:embed="rId2"/>
            <a:stretch/>
          </p:blipFill>
          <p:spPr>
            <a:xfrm>
              <a:off x="1763640" y="2060640"/>
              <a:ext cx="3527280" cy="25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3" descr="C:\Users\user\Desktop\8 школа Гаянов\8 удостоверения к юбилейным\Изображения 011.jpg"/>
            <p:cNvPicPr/>
            <p:nvPr/>
          </p:nvPicPr>
          <p:blipFill>
            <a:blip r:embed="rId3"/>
            <a:stretch/>
          </p:blipFill>
          <p:spPr>
            <a:xfrm>
              <a:off x="3311280" y="3257280"/>
              <a:ext cx="3240360" cy="25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Rectangle 15"/>
          <p:cNvSpPr/>
          <p:nvPr/>
        </p:nvSpPr>
        <p:spPr>
          <a:xfrm>
            <a:off x="5292720" y="765000"/>
            <a:ext cx="3851280" cy="1368720"/>
          </a:xfrm>
          <a:prstGeom prst="rect">
            <a:avLst/>
          </a:prstGeom>
          <a:solidFill>
            <a:srgbClr val="e1dfb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ни отдавал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вои жизни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0" name="Picture 7" descr="C:\Users\user\Desktop\8 школа Гаянов\ФОТО\04.jpg"/>
          <p:cNvPicPr/>
          <p:nvPr/>
        </p:nvPicPr>
        <p:blipFill>
          <a:blip r:embed="rId4"/>
          <a:stretch/>
        </p:blipFill>
        <p:spPr>
          <a:xfrm>
            <a:off x="6473880" y="2852640"/>
            <a:ext cx="2670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1" descr="\\Priemnaya\обмен\305 КАБИНЕТ\фон 9.jpg"/>
          <p:cNvPicPr/>
          <p:nvPr/>
        </p:nvPicPr>
        <p:blipFill>
          <a:blip r:embed="rId1"/>
          <a:stretch/>
        </p:blipFill>
        <p:spPr>
          <a:xfrm>
            <a:off x="108000" y="-17640"/>
            <a:ext cx="9036000" cy="678816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3"/>
          <p:cNvGrpSpPr/>
          <p:nvPr/>
        </p:nvGrpSpPr>
        <p:grpSpPr>
          <a:xfrm>
            <a:off x="2556000" y="1844640"/>
            <a:ext cx="6840360" cy="6165720"/>
            <a:chOff x="2556000" y="1844640"/>
            <a:chExt cx="6840360" cy="6165720"/>
          </a:xfrm>
        </p:grpSpPr>
        <p:grpSp>
          <p:nvGrpSpPr>
            <p:cNvPr id="403" name="Group 12"/>
            <p:cNvGrpSpPr/>
            <p:nvPr/>
          </p:nvGrpSpPr>
          <p:grpSpPr>
            <a:xfrm>
              <a:off x="6012000" y="1844640"/>
              <a:ext cx="3384360" cy="6165720"/>
              <a:chOff x="6012000" y="1844640"/>
              <a:chExt cx="3384360" cy="6165720"/>
            </a:xfrm>
          </p:grpSpPr>
          <p:pic>
            <p:nvPicPr>
              <p:cNvPr id="404" name="Picture 7" descr="C:\Users\user\Desktop\8 школа Гаянов\ФОТО\04.jpg"/>
              <p:cNvPicPr/>
              <p:nvPr/>
            </p:nvPicPr>
            <p:blipFill>
              <a:blip r:embed="rId2"/>
              <a:stretch/>
            </p:blipFill>
            <p:spPr>
              <a:xfrm>
                <a:off x="6012000" y="4005360"/>
                <a:ext cx="2879640" cy="40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5" descr="C:\Users\user\Desktop\8 школа Гаянов\8 удостоверения к юбилейным\Изображения 024.jpg"/>
              <p:cNvPicPr/>
              <p:nvPr/>
            </p:nvPicPr>
            <p:blipFill>
              <a:blip r:embed="rId3"/>
              <a:stretch/>
            </p:blipFill>
            <p:spPr>
              <a:xfrm>
                <a:off x="6227640" y="1844640"/>
                <a:ext cx="3168720" cy="2506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6" name="Group 11"/>
            <p:cNvGrpSpPr/>
            <p:nvPr/>
          </p:nvGrpSpPr>
          <p:grpSpPr>
            <a:xfrm>
              <a:off x="2556000" y="1916280"/>
              <a:ext cx="3816360" cy="4941720"/>
              <a:chOff x="2556000" y="1916280"/>
              <a:chExt cx="3816360" cy="4941720"/>
            </a:xfrm>
          </p:grpSpPr>
          <p:pic>
            <p:nvPicPr>
              <p:cNvPr id="407" name="Picture 2" descr="C:\Users\user\Desktop\8 школа Гаянов\8 удостоверения к юбилейным\Изображения 009.jpg"/>
              <p:cNvPicPr/>
              <p:nvPr/>
            </p:nvPicPr>
            <p:blipFill>
              <a:blip r:embed="rId4"/>
              <a:stretch/>
            </p:blipFill>
            <p:spPr>
              <a:xfrm>
                <a:off x="2700360" y="1916280"/>
                <a:ext cx="3672000" cy="27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Picture 4" descr="C:\Users\user\Desktop\8 школа Гаянов\8 удостоверения к юбилейным\Изображения 015.jpg"/>
              <p:cNvPicPr/>
              <p:nvPr/>
            </p:nvPicPr>
            <p:blipFill>
              <a:blip r:embed="rId5"/>
              <a:stretch/>
            </p:blipFill>
            <p:spPr>
              <a:xfrm>
                <a:off x="2556000" y="4160880"/>
                <a:ext cx="3240000" cy="269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9" name="Rectangle 15"/>
          <p:cNvSpPr/>
          <p:nvPr/>
        </p:nvSpPr>
        <p:spPr>
          <a:xfrm>
            <a:off x="5003640" y="620640"/>
            <a:ext cx="3851280" cy="1368360"/>
          </a:xfrm>
          <a:prstGeom prst="rect">
            <a:avLst/>
          </a:prstGeom>
          <a:solidFill>
            <a:srgbClr val="e1dfb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чтобы мы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ознали жизн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7" descr=""/>
          <p:cNvPicPr/>
          <p:nvPr/>
        </p:nvPicPr>
        <p:blipFill>
          <a:blip r:embed="rId1"/>
          <a:stretch/>
        </p:blipFill>
        <p:spPr>
          <a:xfrm>
            <a:off x="324000" y="345960"/>
            <a:ext cx="8496000" cy="1100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Users\user\Desktop\8 школа Гаянов\ФОТО\9 Мая 2009 года.jpg"/>
          <p:cNvPicPr/>
          <p:nvPr/>
        </p:nvPicPr>
        <p:blipFill>
          <a:blip r:embed="rId2"/>
          <a:stretch/>
        </p:blipFill>
        <p:spPr>
          <a:xfrm>
            <a:off x="6372360" y="1989000"/>
            <a:ext cx="2538360" cy="3589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Users\user\Desktop\8 школа Гаянов\сталингр\20090202131106.jpg"/>
          <p:cNvPicPr/>
          <p:nvPr/>
        </p:nvPicPr>
        <p:blipFill>
          <a:blip r:embed="rId3"/>
          <a:stretch/>
        </p:blipFill>
        <p:spPr>
          <a:xfrm>
            <a:off x="468360" y="1449360"/>
            <a:ext cx="6264360" cy="46972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468360" y="4797360"/>
            <a:ext cx="8675640" cy="2060640"/>
          </a:xfrm>
          <a:prstGeom prst="rect">
            <a:avLst/>
          </a:prstGeom>
          <a:solidFill>
            <a:srgbClr val="e1dfb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Из боевой летописи Н.Н.Гаянов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-ушёл на фронт добровольцем  в 1941-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-прошел всю войну боевыми дорогам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-участвовал  в освобождении Украины, Молдавии, Румынии, Венгрии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-победу встретив в столице Австрии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-до 1952-го года выполнял задание Родины на территории Румынии</a:t>
            </a:r>
            <a:r>
              <a:rPr b="0" lang="ru-RU" sz="2000" spc="-1" strike="noStrike">
                <a:solidFill>
                  <a:srgbClr val="000099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8" descr="\\Priemnaya\обмен\305 КАБИНЕТ\фон 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5"/>
          <p:cNvGrpSpPr/>
          <p:nvPr/>
        </p:nvGrpSpPr>
        <p:grpSpPr>
          <a:xfrm>
            <a:off x="0" y="-41040"/>
            <a:ext cx="9094680" cy="6911640"/>
            <a:chOff x="0" y="-41040"/>
            <a:chExt cx="9094680" cy="6911640"/>
          </a:xfrm>
        </p:grpSpPr>
        <p:pic>
          <p:nvPicPr>
            <p:cNvPr id="416" name="Picture 4" descr="C:\Users\user\Desktop\8 школа Гаянов\ФОТО\Н.Н.Гаянов с женой Ралиной Суппуховной.jpg"/>
            <p:cNvPicPr/>
            <p:nvPr/>
          </p:nvPicPr>
          <p:blipFill>
            <a:blip r:embed="rId2"/>
            <a:stretch/>
          </p:blipFill>
          <p:spPr>
            <a:xfrm>
              <a:off x="0" y="2170080"/>
              <a:ext cx="3024360" cy="468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Rectangle 10"/>
            <p:cNvSpPr/>
            <p:nvPr/>
          </p:nvSpPr>
          <p:spPr>
            <a:xfrm>
              <a:off x="3009960" y="5025960"/>
              <a:ext cx="6084720" cy="1844640"/>
            </a:xfrm>
            <a:prstGeom prst="rect">
              <a:avLst/>
            </a:prstGeom>
            <a:solidFill>
              <a:srgbClr val="e1dfb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Times New Roman"/>
                </a:rPr>
                <a:t>Славным был и трудовой путь Нургали 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Times New Roman"/>
                </a:rPr>
                <a:t>Нурлагаяновича, «боролся» на 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Times New Roman"/>
                </a:rPr>
                <a:t>трудовом фронте в городе Нефтеюганске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Times New Roman"/>
                </a:rPr>
                <a:t>Н.Н. Гаянов с 1964-го года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418" name="Picture 2" descr="C:\Users\user\Desktop\8 школа Гаянов\9 удостоверения трудовой деятельности\15 Гаянов 001.jpg"/>
            <p:cNvPicPr/>
            <p:nvPr/>
          </p:nvPicPr>
          <p:blipFill>
            <a:blip r:embed="rId3"/>
            <a:stretch/>
          </p:blipFill>
          <p:spPr>
            <a:xfrm rot="20112000">
              <a:off x="4209840" y="253800"/>
              <a:ext cx="186660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4" descr="C:\Users\user\Desktop\8 школа Гаянов\9 удостоверения трудовой деятельности\15 Гаянов 003.jpg"/>
            <p:cNvPicPr/>
            <p:nvPr/>
          </p:nvPicPr>
          <p:blipFill>
            <a:blip r:embed="rId4"/>
            <a:stretch/>
          </p:blipFill>
          <p:spPr>
            <a:xfrm rot="19917600">
              <a:off x="6164280" y="222120"/>
              <a:ext cx="1619280" cy="20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3" descr="C:\Users\user\Desktop\8 школа Гаянов\9 удостоверения трудовой деятельности\15 Гаянов 002.jpg"/>
            <p:cNvPicPr/>
            <p:nvPr/>
          </p:nvPicPr>
          <p:blipFill>
            <a:blip r:embed="rId5"/>
            <a:stretch/>
          </p:blipFill>
          <p:spPr>
            <a:xfrm>
              <a:off x="4067280" y="2421000"/>
              <a:ext cx="4078080" cy="226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C:\Users\user\Desktop\8 школа Гаянов\13 Поздравления Президентов\15 Гаянов 002.jpg"/>
          <p:cNvPicPr/>
          <p:nvPr/>
        </p:nvPicPr>
        <p:blipFill>
          <a:blip r:embed="rId1"/>
          <a:stretch/>
        </p:blipFill>
        <p:spPr>
          <a:xfrm>
            <a:off x="0" y="0"/>
            <a:ext cx="3038400" cy="21207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er\Desktop\8 школа Гаянов\13 Поздравления Президентов\15 Гаянов 006.jpg"/>
          <p:cNvPicPr/>
          <p:nvPr/>
        </p:nvPicPr>
        <p:blipFill>
          <a:blip r:embed="rId2"/>
          <a:stretch/>
        </p:blipFill>
        <p:spPr>
          <a:xfrm>
            <a:off x="5514840" y="1484280"/>
            <a:ext cx="3629160" cy="24130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er\Desktop\8 школа Гаянов\13 Поздравления Президентов\15 Гаянов.jpg"/>
          <p:cNvPicPr/>
          <p:nvPr/>
        </p:nvPicPr>
        <p:blipFill>
          <a:blip r:embed="rId3"/>
          <a:stretch/>
        </p:blipFill>
        <p:spPr>
          <a:xfrm>
            <a:off x="2627280" y="3860640"/>
            <a:ext cx="3529080" cy="2475000"/>
          </a:xfrm>
          <a:prstGeom prst="rect">
            <a:avLst/>
          </a:prstGeom>
          <a:ln w="0">
            <a:noFill/>
          </a:ln>
        </p:spPr>
      </p:pic>
      <p:grpSp>
        <p:nvGrpSpPr>
          <p:cNvPr id="424" name="Group 16"/>
          <p:cNvGrpSpPr/>
          <p:nvPr/>
        </p:nvGrpSpPr>
        <p:grpSpPr>
          <a:xfrm>
            <a:off x="0" y="404640"/>
            <a:ext cx="9144000" cy="6453360"/>
            <a:chOff x="0" y="404640"/>
            <a:chExt cx="9144000" cy="6453360"/>
          </a:xfrm>
        </p:grpSpPr>
        <p:pic>
          <p:nvPicPr>
            <p:cNvPr id="425" name="Picture 7" descr="C:\Users\user\Desktop\8 школа Гаянов\13 Поздравления Президентов\15 Гаянов11.jpg"/>
            <p:cNvPicPr/>
            <p:nvPr/>
          </p:nvPicPr>
          <p:blipFill>
            <a:blip r:embed="rId4"/>
            <a:stretch/>
          </p:blipFill>
          <p:spPr>
            <a:xfrm>
              <a:off x="5940360" y="3860640"/>
              <a:ext cx="2951280" cy="198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6" name="Group 15"/>
            <p:cNvGrpSpPr/>
            <p:nvPr/>
          </p:nvGrpSpPr>
          <p:grpSpPr>
            <a:xfrm>
              <a:off x="0" y="404640"/>
              <a:ext cx="9144000" cy="6453360"/>
              <a:chOff x="0" y="404640"/>
              <a:chExt cx="9144000" cy="6453360"/>
            </a:xfrm>
          </p:grpSpPr>
          <p:pic>
            <p:nvPicPr>
              <p:cNvPr id="427" name="Picture 13" descr="IMG_2084"/>
              <p:cNvPicPr/>
              <p:nvPr/>
            </p:nvPicPr>
            <p:blipFill>
              <a:blip r:embed="rId5">
                <a:lum bright="12000"/>
              </a:blip>
              <a:stretch/>
            </p:blipFill>
            <p:spPr>
              <a:xfrm>
                <a:off x="0" y="2925720"/>
                <a:ext cx="2622600" cy="393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8" name="Group 14"/>
              <p:cNvGrpSpPr/>
              <p:nvPr/>
            </p:nvGrpSpPr>
            <p:grpSpPr>
              <a:xfrm>
                <a:off x="1692360" y="404640"/>
                <a:ext cx="6767280" cy="3421080"/>
                <a:chOff x="1692360" y="404640"/>
                <a:chExt cx="6767280" cy="3421080"/>
              </a:xfrm>
            </p:grpSpPr>
            <p:pic>
              <p:nvPicPr>
                <p:cNvPr id="429" name="Picture 4" descr="C:\Users\user\Desktop\8 школа Гаянов\13 Поздравления Президентов\15 Гаянов 005.jpg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643280" y="404640"/>
                  <a:ext cx="3816360" cy="20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Picture 3" descr="C:\Users\user\Desktop\8 школа Гаянов\13 Поздравления Президентов\15 Гаянов 003.jpg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692360" y="1413000"/>
                  <a:ext cx="3456000" cy="241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31" name="Rectangle 11"/>
              <p:cNvSpPr/>
              <p:nvPr/>
            </p:nvSpPr>
            <p:spPr>
              <a:xfrm>
                <a:off x="1692360" y="4941720"/>
                <a:ext cx="7451640" cy="1916280"/>
              </a:xfrm>
              <a:prstGeom prst="rect">
                <a:avLst/>
              </a:prstGeom>
              <a:solidFill>
                <a:srgbClr val="e1dfba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99"/>
                    </a:solidFill>
                    <a:latin typeface="Times New Roman"/>
                  </a:rPr>
                  <a:t>Нургали Нурлагаянович Гаянов на празднике – </a:t>
                </a: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99"/>
                    </a:solidFill>
                    <a:latin typeface="Times New Roman"/>
                  </a:rPr>
                  <a:t>белый мундир обвешен орденами и медалями, белая фуражка</a:t>
                </a: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99"/>
                    </a:solidFill>
                    <a:latin typeface="Times New Roman"/>
                  </a:rPr>
                  <a:t>прикрывает седые волосы.   Наплывают воспоминания и…</a:t>
                </a: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99"/>
                    </a:solidFill>
                    <a:latin typeface="Times New Roman"/>
                  </a:rPr>
                  <a:t>он снова  чувствует себя тем 18-летним мальчишкой, слышит </a:t>
                </a: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99"/>
                    </a:solidFill>
                    <a:latin typeface="Times New Roman"/>
                  </a:rPr>
                  <a:t>гул разрывающихся снарядов, вой налетающих истребителей, </a:t>
                </a: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99"/>
                    </a:solidFill>
                    <a:latin typeface="Times New Roman"/>
                  </a:rPr>
                  <a:t>чувствует боль погибших однополчан…</a:t>
                </a: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8" descr="\\Priemnaya\обмен\305 КАБИНЕТ\фон 9.jpg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34" name="Picture 10" descr="IMG_2070"/>
          <p:cNvPicPr/>
          <p:nvPr/>
        </p:nvPicPr>
        <p:blipFill>
          <a:blip r:embed="rId2"/>
          <a:stretch/>
        </p:blipFill>
        <p:spPr>
          <a:xfrm>
            <a:off x="3770280" y="907920"/>
            <a:ext cx="5373720" cy="358308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9"/>
          <p:cNvSpPr/>
          <p:nvPr/>
        </p:nvSpPr>
        <p:spPr>
          <a:xfrm>
            <a:off x="2484360" y="4005360"/>
            <a:ext cx="6120000" cy="2852640"/>
          </a:xfrm>
          <a:prstGeom prst="rect">
            <a:avLst/>
          </a:prstGeom>
          <a:solidFill>
            <a:srgbClr val="e1dfb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До последних дней жизни, участник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еликой Отечественной войны Нургал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урлагаянович Гаянов был в стро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Его воспоминания лучше любог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чебника истории рассказывал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школьникам о тех далеких года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едь сам он, его жизнь –история наро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\\Priemnaya\обмен\305 КАБИНЕТ\финал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9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solidFill>
            <a:srgbClr val="e1dfb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Умер  Н.Н.Гаянов в 2014 году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не дожив до 90-летнего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юбилея всего несколько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дней.</a:t>
            </a:r>
            <a:r>
              <a:rPr b="0" lang="ru-RU" sz="1400" spc="-1" strike="noStrike">
                <a:solidFill>
                  <a:srgbClr val="000099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Память о Гаянове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Нургали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Нурлагаяновиче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навечно останется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в истори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города Нефтеюганска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хранясь в архивны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документах ветерана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на полках архивохранилищ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Будущие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поколения посредством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документов личного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происхождения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знатных горожан, земляков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смогут изучать страницы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Истории  нашего государства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нашего края, город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Нефтеюганска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изучая подлинные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документы очевидцев истории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их воспоминания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удостоверения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Фотодокументы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Подвиг солдат в годы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Великой Отечественной войны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1941-1945 годов должен стать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Constantia"/>
              </a:rPr>
              <a:t>вечной памятью живущи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2" descr="\\Priemnaya\обмен\305 КАБИНЕТ\гаянов.jpg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95280" y="189000"/>
            <a:ext cx="5689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ВОЕВАЛ ОН ЗА ЗЕМЛЮ РОДНУЮ,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ВОЕВАЛ ОН ЗА МИРНЫЕ ДН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ТЫ О ЖИЗНИ ПРОСТОГО ГЕРОЯ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В СЕРДЦЕ ПАМЯТЬ НАВЕК СОХРАНИ…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979280" y="3357720"/>
            <a:ext cx="6629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Book Antiqua"/>
              </a:rPr>
              <a:t>ГАЯНОВ НУРГАЛИ НУРЛАГАЯНОВИЧ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2" name="Picture 2" descr="C:\Users\user\Desktop\8 школа Гаянов\ФОТО\9 Мая 2009 года.jpg"/>
          <p:cNvPicPr/>
          <p:nvPr/>
        </p:nvPicPr>
        <p:blipFill>
          <a:blip r:embed="rId2"/>
          <a:stretch/>
        </p:blipFill>
        <p:spPr>
          <a:xfrm>
            <a:off x="6875640" y="34920"/>
            <a:ext cx="2233440" cy="31910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9"/>
          <p:cNvGrpSpPr/>
          <p:nvPr/>
        </p:nvGrpSpPr>
        <p:grpSpPr>
          <a:xfrm>
            <a:off x="6732720" y="0"/>
            <a:ext cx="2411280" cy="3249720"/>
            <a:chOff x="6732720" y="0"/>
            <a:chExt cx="2411280" cy="3249720"/>
          </a:xfrm>
        </p:grpSpPr>
        <p:sp>
          <p:nvSpPr>
            <p:cNvPr id="344" name="Rectangle 7"/>
            <p:cNvSpPr/>
            <p:nvPr/>
          </p:nvSpPr>
          <p:spPr>
            <a:xfrm>
              <a:off x="6861960" y="118440"/>
              <a:ext cx="2151000" cy="30722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45" name="Rectangle 8"/>
            <p:cNvSpPr/>
            <p:nvPr/>
          </p:nvSpPr>
          <p:spPr>
            <a:xfrm>
              <a:off x="6732720" y="0"/>
              <a:ext cx="2411280" cy="32497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346" name="Rectangle 11" descr=""/>
          <p:cNvPicPr/>
          <p:nvPr/>
        </p:nvPicPr>
        <p:blipFill>
          <a:blip r:embed="rId3"/>
          <a:stretch/>
        </p:blipFill>
        <p:spPr>
          <a:xfrm>
            <a:off x="1871640" y="4761000"/>
            <a:ext cx="5194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39" name="Скругленный прямоугольник 2"/>
          <p:cNvSpPr/>
          <p:nvPr/>
        </p:nvSpPr>
        <p:spPr>
          <a:xfrm>
            <a:off x="5435640" y="4508640"/>
            <a:ext cx="3384360" cy="1944720"/>
          </a:xfrm>
          <a:prstGeom prst="roundRect">
            <a:avLst>
              <a:gd name="adj" fmla="val 16667"/>
            </a:avLst>
          </a:prstGeom>
          <a:solidFill>
            <a:srgbClr val="e1dfba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формация подготовлена на основании  архивных документов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АФ № 59 «Участники Великой Отечественной войны», опись № 15 «Гаянов Нургали Нарлагаянович», фотодокументов фотофонда  отдела по делам архивов департамента по делам администрации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орода Нефтеюганск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5" descr="\\Priemnaya\обмен\305 КАБИНЕТ\фон 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C:\Users\М.видео\Desktop\8 школа Гаянов\ФОТО\15 Гаянов 1995 год.jpg"/>
          <p:cNvPicPr/>
          <p:nvPr/>
        </p:nvPicPr>
        <p:blipFill>
          <a:blip r:embed="rId2"/>
          <a:stretch/>
        </p:blipFill>
        <p:spPr>
          <a:xfrm>
            <a:off x="6443640" y="333360"/>
            <a:ext cx="2476440" cy="281160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6"/>
          <p:cNvSpPr/>
          <p:nvPr/>
        </p:nvSpPr>
        <p:spPr>
          <a:xfrm>
            <a:off x="2124000" y="1628640"/>
            <a:ext cx="3456000" cy="5229360"/>
          </a:xfrm>
          <a:prstGeom prst="rect">
            <a:avLst/>
          </a:prstGeom>
          <a:solidFill>
            <a:srgbClr val="e1dfba"/>
          </a:solidFill>
          <a:ln w="255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Родился Нургали Нурлагаянович Гаян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18 августа  1924 год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емья была многодетной и  жила небогато –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родители, десять детей, своё небольшое   хозяй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тво.   Мать  занималась домом и детьми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отец работал в колхозе скотоводом и был единственным добытчиком.  Кормить большую семью был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нелегко,  поэтому дети быстро взрослели и помо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гали  родителя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Прямоугольник 7"/>
          <p:cNvSpPr/>
          <p:nvPr/>
        </p:nvSpPr>
        <p:spPr>
          <a:xfrm>
            <a:off x="5651640" y="3213000"/>
            <a:ext cx="3492360" cy="3645000"/>
          </a:xfrm>
          <a:prstGeom prst="rect">
            <a:avLst/>
          </a:prstGeom>
          <a:solidFill>
            <a:srgbClr val="e1dfba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В деревне  Шабез Актанышског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района Татарстана,  где  проходило детств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Нургали,   развлечений   было  немного,  поэтому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Нургали   помогая   отцу,   любил  ухаживать  з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животными.  Особенно его тянуло к отцу 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конюшню, где он проводил большую част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време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\\Priemnaya\обмен\305 КАБИНЕТ\фон 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C:\Users\М.видео\Desktop\8 школа Гаянов\ФОТО\15 Гаянов 1995 год.jpg"/>
          <p:cNvPicPr/>
          <p:nvPr/>
        </p:nvPicPr>
        <p:blipFill>
          <a:blip r:embed="rId2"/>
          <a:stretch/>
        </p:blipFill>
        <p:spPr>
          <a:xfrm>
            <a:off x="6443640" y="333360"/>
            <a:ext cx="2476440" cy="281160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7"/>
          <p:cNvSpPr/>
          <p:nvPr/>
        </p:nvSpPr>
        <p:spPr>
          <a:xfrm>
            <a:off x="2484360" y="3213000"/>
            <a:ext cx="6659640" cy="3645000"/>
          </a:xfrm>
          <a:prstGeom prst="rect">
            <a:avLst/>
          </a:prstGeom>
          <a:solidFill>
            <a:srgbClr val="e1dfba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В 7 лет Нургали стал первоклассником дере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венской  школы.    Вначале 30-х  годов  Гаяновы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раскулачили – забрали скот,  зерно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И опять семья собирала всё по кроха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А в  школе Нургали учился не плохо. После окончания школы в свои 16 лет Нургали решил стать зоотехником и поступи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в    Мензелинский    ветеринарный    технику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В это время началась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Великая Отечественная война…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\\Priemnaya\обмен\305 КАБИНЕТ\фон 9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73840"/>
          </a:xfrm>
          <a:prstGeom prst="rect">
            <a:avLst/>
          </a:prstGeom>
          <a:ln w="0">
            <a:noFill/>
          </a:ln>
        </p:spPr>
      </p:pic>
      <p:pic>
        <p:nvPicPr>
          <p:cNvPr id="355" name="Объект 3" descr=""/>
          <p:cNvPicPr/>
          <p:nvPr/>
        </p:nvPicPr>
        <p:blipFill>
          <a:blip r:embed="rId2"/>
          <a:stretch/>
        </p:blipFill>
        <p:spPr>
          <a:xfrm>
            <a:off x="5970600" y="1628640"/>
            <a:ext cx="3173400" cy="42688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7"/>
          <p:cNvSpPr/>
          <p:nvPr/>
        </p:nvSpPr>
        <p:spPr>
          <a:xfrm>
            <a:off x="1908000" y="1773360"/>
            <a:ext cx="4176720" cy="4103640"/>
          </a:xfrm>
          <a:prstGeom prst="rect">
            <a:avLst/>
          </a:prstGeom>
          <a:solidFill>
            <a:srgbClr val="bfbfb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17-летний Нургал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в декабре 1941 год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со второго курса зоо-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технического техникум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пошёл быть фашистов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Его сразу направил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в  г.Горький учитьс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на радис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9" descr="\\Priemnaya\обмен\305 КАБИНЕТ\фон 9.jp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05440"/>
          </a:xfrm>
          <a:prstGeom prst="rect">
            <a:avLst/>
          </a:prstGeom>
          <a:ln w="0">
            <a:noFill/>
          </a:ln>
        </p:spPr>
      </p:pic>
      <p:grpSp>
        <p:nvGrpSpPr>
          <p:cNvPr id="358" name="Group 11"/>
          <p:cNvGrpSpPr/>
          <p:nvPr/>
        </p:nvGrpSpPr>
        <p:grpSpPr>
          <a:xfrm>
            <a:off x="0" y="-57240"/>
            <a:ext cx="9156600" cy="6904080"/>
            <a:chOff x="0" y="-57240"/>
            <a:chExt cx="9156600" cy="6904080"/>
          </a:xfrm>
        </p:grpSpPr>
        <p:sp>
          <p:nvSpPr>
            <p:cNvPr id="359" name="Rectangle 8"/>
            <p:cNvSpPr/>
            <p:nvPr/>
          </p:nvSpPr>
          <p:spPr>
            <a:xfrm>
              <a:off x="4979880" y="2193840"/>
              <a:ext cx="4176720" cy="4653000"/>
            </a:xfrm>
            <a:prstGeom prst="rect">
              <a:avLst/>
            </a:prstGeom>
            <a:solidFill>
              <a:srgbClr val="e1dfb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Более 3-х с половиною лет,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точнее около 1 322 дней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и ночей пришлось провести на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фронтах Великой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Отечественной войны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Нургали Нурлагалиевичу.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И какие это были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героические дни!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Получив обмундирование и став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новобранцем,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Нургали вместе с другими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безусыми солдатиками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погрузили в вагоны  и через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Москву эшелон отправили на фронт,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на только что образованный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3300"/>
                  </a:solidFill>
                  <a:latin typeface="Times New Roman"/>
                </a:rPr>
                <a:t>Сталинградский фронт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360" name="Group 10"/>
            <p:cNvGrpSpPr/>
            <p:nvPr/>
          </p:nvGrpSpPr>
          <p:grpSpPr>
            <a:xfrm>
              <a:off x="0" y="-57240"/>
              <a:ext cx="9156600" cy="6853320"/>
              <a:chOff x="0" y="-57240"/>
              <a:chExt cx="9156600" cy="6853320"/>
            </a:xfrm>
          </p:grpSpPr>
          <p:grpSp>
            <p:nvGrpSpPr>
              <p:cNvPr id="361" name="Group 9"/>
              <p:cNvGrpSpPr/>
              <p:nvPr/>
            </p:nvGrpSpPr>
            <p:grpSpPr>
              <a:xfrm>
                <a:off x="0" y="116640"/>
                <a:ext cx="5812560" cy="6679440"/>
                <a:chOff x="0" y="116640"/>
                <a:chExt cx="5812560" cy="6679440"/>
              </a:xfrm>
            </p:grpSpPr>
            <p:sp>
              <p:nvSpPr>
                <p:cNvPr id="362" name="Rectangle 7"/>
                <p:cNvSpPr/>
                <p:nvPr/>
              </p:nvSpPr>
              <p:spPr>
                <a:xfrm>
                  <a:off x="0" y="4519440"/>
                  <a:ext cx="5075280" cy="2276640"/>
                </a:xfrm>
                <a:prstGeom prst="rect">
                  <a:avLst/>
                </a:prstGeom>
                <a:solidFill>
                  <a:srgbClr val="e1dfba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1800" spc="-1" strike="noStrike">
                      <a:solidFill>
                        <a:srgbClr val="003300"/>
                      </a:solidFill>
                      <a:latin typeface="Times New Roman"/>
                    </a:rPr>
                    <a:t>Пришёл Нургали в один из  призывных </a:t>
                  </a:r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1800" spc="-1" strike="noStrike">
                      <a:solidFill>
                        <a:srgbClr val="003300"/>
                      </a:solidFill>
                      <a:latin typeface="Times New Roman"/>
                    </a:rPr>
                    <a:t>пунктов Казани в лаптях, вторые лапти </a:t>
                  </a:r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1800" spc="-1" strike="noStrike">
                      <a:solidFill>
                        <a:srgbClr val="003300"/>
                      </a:solidFill>
                      <a:latin typeface="Times New Roman"/>
                    </a:rPr>
                    <a:t>лежали про запас в котомке за спиной. </a:t>
                  </a:r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1800" spc="-1" strike="noStrike">
                      <a:solidFill>
                        <a:srgbClr val="003300"/>
                      </a:solidFill>
                      <a:latin typeface="Times New Roman"/>
                    </a:rPr>
                    <a:t>Нургали записали добровольцем </a:t>
                  </a:r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1800" spc="-1" strike="noStrike">
                      <a:solidFill>
                        <a:srgbClr val="003300"/>
                      </a:solidFill>
                      <a:latin typeface="Times New Roman"/>
                    </a:rPr>
                    <a:t>на фронт. Имея значок </a:t>
                  </a:r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1800" spc="-1" strike="noStrike">
                      <a:solidFill>
                        <a:srgbClr val="003300"/>
                      </a:solidFill>
                      <a:latin typeface="Times New Roman"/>
                    </a:rPr>
                    <a:t>«Ворошиловский стрелок», </a:t>
                  </a:r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1800" spc="-1" strike="noStrike">
                      <a:solidFill>
                        <a:srgbClr val="003300"/>
                      </a:solidFill>
                      <a:latin typeface="Times New Roman"/>
                    </a:rPr>
                    <a:t>Нургали определяют в артиллеристы </a:t>
                  </a:r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pic>
              <p:nvPicPr>
                <p:cNvPr id="363" name="Рисунок 5" descr=""/>
                <p:cNvPicPr/>
                <p:nvPr/>
              </p:nvPicPr>
              <p:blipFill>
                <a:blip r:embed="rId2"/>
                <a:stretch/>
              </p:blipFill>
              <p:spPr>
                <a:xfrm rot="709800">
                  <a:off x="1784160" y="476280"/>
                  <a:ext cx="3791160" cy="2708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64" name="Рисунок 4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1520" y="-57240"/>
                <a:ext cx="3205080" cy="2270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6" descr="\\Priemnaya\обмен\305 КАБИНЕТ\фон 9.jpg"/>
          <p:cNvPicPr/>
          <p:nvPr/>
        </p:nvPicPr>
        <p:blipFill>
          <a:blip r:embed="rId1"/>
          <a:stretch/>
        </p:blipFill>
        <p:spPr>
          <a:xfrm>
            <a:off x="0" y="-92160"/>
            <a:ext cx="9252000" cy="6950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C:\Users\user\Desktop\8 школа Гаянов\ФОТО\г. Вена Австрия 1944 год.jpg"/>
          <p:cNvPicPr/>
          <p:nvPr/>
        </p:nvPicPr>
        <p:blipFill>
          <a:blip r:embed="rId2"/>
          <a:stretch/>
        </p:blipFill>
        <p:spPr>
          <a:xfrm>
            <a:off x="6176880" y="1197000"/>
            <a:ext cx="2967120" cy="539100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5"/>
          <p:cNvSpPr/>
          <p:nvPr/>
        </p:nvSpPr>
        <p:spPr>
          <a:xfrm>
            <a:off x="2340000" y="1841400"/>
            <a:ext cx="387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Нургали был рядовым бойцом- наводчиком, стал младшим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сержантом – командиром отделения реактивной  артиллерии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той  самой знаменитой «катюши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Это был 48-й полк реактивной  артиллер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Под командованием С.К.Тимошенко артиллерийская часть, в которой воевал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Нургали Нурлагалиевич  Гаянов и его расчёт, участвовала в обороне Сталингра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6" descr="\\Priemnaya\обмен\305 КАБИНЕТ\фон 9.jpg"/>
          <p:cNvPicPr/>
          <p:nvPr/>
        </p:nvPicPr>
        <p:blipFill>
          <a:blip r:embed="rId1"/>
          <a:stretch/>
        </p:blipFill>
        <p:spPr>
          <a:xfrm>
            <a:off x="0" y="-92160"/>
            <a:ext cx="9252000" cy="6950160"/>
          </a:xfrm>
          <a:prstGeom prst="rect">
            <a:avLst/>
          </a:prstGeom>
          <a:ln w="0">
            <a:noFill/>
          </a:ln>
        </p:spPr>
      </p:pic>
      <p:pic>
        <p:nvPicPr>
          <p:cNvPr id="369" name="Объект 3" descr=""/>
          <p:cNvPicPr/>
          <p:nvPr/>
        </p:nvPicPr>
        <p:blipFill>
          <a:blip r:embed="rId2"/>
          <a:stretch/>
        </p:blipFill>
        <p:spPr>
          <a:xfrm>
            <a:off x="2627280" y="3860640"/>
            <a:ext cx="3867120" cy="321336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2"/>
          <p:cNvSpPr/>
          <p:nvPr/>
        </p:nvSpPr>
        <p:spPr>
          <a:xfrm>
            <a:off x="3995640" y="1341360"/>
            <a:ext cx="4824360" cy="2448000"/>
          </a:xfrm>
          <a:prstGeom prst="rect">
            <a:avLst/>
          </a:prstGeom>
          <a:solidFill>
            <a:srgbClr val="d9d9d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Шел конец 1942-го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Немец настойчиво рвал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захватить город 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фашисты уже заране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актически праздновал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очередную победу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тавки были высо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1" name="Рисунок 7" descr=""/>
          <p:cNvPicPr/>
          <p:nvPr/>
        </p:nvPicPr>
        <p:blipFill>
          <a:blip r:embed="rId3"/>
          <a:stretch/>
        </p:blipFill>
        <p:spPr>
          <a:xfrm rot="216000">
            <a:off x="2358720" y="3747960"/>
            <a:ext cx="558936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6" descr="\\Priemnaya\обмен\305 КАБИНЕТ\фон 9.jpg"/>
          <p:cNvPicPr/>
          <p:nvPr/>
        </p:nvPicPr>
        <p:blipFill>
          <a:blip r:embed="rId1"/>
          <a:stretch/>
        </p:blipFill>
        <p:spPr>
          <a:xfrm>
            <a:off x="0" y="-92160"/>
            <a:ext cx="9252000" cy="695016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9" descr=""/>
          <p:cNvPicPr/>
          <p:nvPr/>
        </p:nvPicPr>
        <p:blipFill>
          <a:blip r:embed="rId2"/>
          <a:stretch/>
        </p:blipFill>
        <p:spPr>
          <a:xfrm>
            <a:off x="2556000" y="3576600"/>
            <a:ext cx="3635280" cy="32814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12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2879640" cy="30718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7" descr=""/>
          <p:cNvPicPr/>
          <p:nvPr/>
        </p:nvPicPr>
        <p:blipFill>
          <a:blip r:embed="rId4"/>
          <a:stretch/>
        </p:blipFill>
        <p:spPr>
          <a:xfrm rot="20391600">
            <a:off x="-33120" y="3790440"/>
            <a:ext cx="5589720" cy="8002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10"/>
          <p:cNvSpPr/>
          <p:nvPr/>
        </p:nvSpPr>
        <p:spPr>
          <a:xfrm>
            <a:off x="5508720" y="1125360"/>
            <a:ext cx="3816360" cy="5732640"/>
          </a:xfrm>
          <a:prstGeom prst="rect">
            <a:avLst/>
          </a:prstGeom>
          <a:solidFill>
            <a:srgbClr val="e1dfba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entury Gothic"/>
              </a:rPr>
              <a:t>Эти бои были схожи с адом на земле. Об этом много снято фильмов, написано рассказов. Но ни один из них не может передать в полной мере настоящих событий. Эти события остались в сердце участников и в их памяти. Человеческие тела, груды железа, рвы, снег, кровь, стоны, раскаты взрывов – всё это сливалось в единую массу, в единое чудовищное сплетение. Мало в истории случаев таких ожесточённых боёв и в городских условиях: каждый дом – крепость, каждая воронка – укрытие. Противник наступал в сентябре, противник наступал в октябре, противник наступал в октябре. Казалось ещё один раз и силы советских войск иссякнут и горд будет сдан врагу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5:00:59Z</dcterms:created>
  <dc:creator>М.видео</dc:creator>
  <dc:description/>
  <dc:language>en-US</dc:language>
  <cp:lastModifiedBy>Duma</cp:lastModifiedBy>
  <dcterms:modified xsi:type="dcterms:W3CDTF">2015-04-09T09:52:45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180000000000010262800207f7000400038000</vt:lpwstr>
  </property>
</Properties>
</file>