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954-293E-4494-B824-2E3C9297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D0C-F4E7-45F6-918D-ACBE4378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4A6-9D9E-4091-8C46-11A009AF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944-C58F-40A4-819F-7D548EB0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59B4-248B-4AB8-BD20-A8964AFE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1680-8B83-43BA-BD74-EC4B1479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1F43-3630-465E-9E16-014E4BA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41AF-04EA-46BD-A190-0B7B1912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C2FE-487E-4C98-8565-0150AFCE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B0E1-9E1E-45D9-9E73-0B735C9C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35A4-79B0-4E52-A2D6-DBC62C5D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90B-BC62-4C86-8EB8-B5992060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196E-F919-44C7-B13B-09C2BFF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761D-224B-471A-83C1-B6718BDE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DD94-569B-4973-8EB0-116BF02F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570B-FC6E-490C-B72C-517863DC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785B-CB7C-4691-96D2-C7F1CF9B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58CD-6A89-402A-893D-05D24493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0D61-5F50-4567-A2FF-14268833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3BE3-B2D9-4336-80AB-3F4360E0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77D9-BB42-4796-8A88-8E3BDFC8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4FE3-5257-4376-8384-780182D7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42E-8E1B-4F7A-8AE4-6460C215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B89A-A765-460B-A873-7059B0C1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199A-F15C-4056-BF5B-CFC3EA91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9912-2442-47C3-900E-8C552EF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3E8E-8B5E-4DCB-ACA4-F77977C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1C0D-CBC1-4F16-A113-A029813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3FE9-43BA-476A-9410-2B309159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D222-AAE0-406C-82DA-6DDB8E50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0BCBC-E753-403C-96BF-D80CA3AC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36783-42D9-4E4E-9FF4-BA65565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5D818-37CC-4B1C-8EBB-13D7AD65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D3D-E046-4E1A-8973-680A6DFE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6BF27-38F0-4929-95B8-7730219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BB9B0-A436-4986-BB2E-4BC03E0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EECE9-3A14-4090-896A-C71F82D2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65FDC-9DB8-4CA2-B740-8DA304B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B209F-8B88-4E78-81D2-1BA3230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E65EF-EED5-4C53-9DE4-9CBB2B3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5D72A-E2DF-4A21-A793-66ED359C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1C522-FF61-4BE2-9BE7-EC96ADF7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5196B-C5FF-4B2B-81C3-C3E7C848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B2FA-6B27-46AE-83C6-6C84A34A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D7F-BEA3-43D7-A075-7C5CD948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F45C-4341-4D64-B5AD-9A0AAB3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A5177-B342-454A-A4F6-E009D077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0E99F-1F59-4C43-893C-82E09B26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C4797-3A5D-4813-B376-19A0CA42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9855-C6B3-4FA9-98E4-4EAC8A8A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FA98B-4D8B-4A3E-A8E7-7488B9A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164B-7F9A-4689-9E6C-B5D33C62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9F0F-77D1-4A90-BDBF-B1958A0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55C90-3DB1-4B0A-810F-DB8009B8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37E0-12A2-4869-8975-78A85693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2A9-4C10-4BE7-831C-E7F1FF2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BA36-226C-4A6C-9371-5D94AE96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CC0-7A18-47DF-945A-CA041CC9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B3D-8EF0-476E-B73B-DA5F6796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6FA-0F20-494F-979B-D47FBDF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DCC7-62F2-408E-BC82-77417ECA4C05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6998-0CDC-4456-AF02-5E546D917479}" type="datetime">
              <a:rPr b="0" lang="en-US" sz="2400" spc="-1" strike="noStrike">
                <a:solidFill>
                  <a:srgbClr val="fefefe"/>
                </a:solidFill>
                <a:latin typeface="Century Gothic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C94F-EDDD-48BB-8218-1DE1BEDE603D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70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4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78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C4B8-61E8-4770-B07C-0C032C285375}" type="datetime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8EC3-46D7-4469-8F6F-C2E9C0F4204E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1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2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3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4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6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7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8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0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1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2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4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7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8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89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417E-44F0-42DE-AAFE-C8BDC3291208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3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3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7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41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2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3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45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6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7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48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49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0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51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3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B01F-98D7-4ED6-9499-35E4D8304A5C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0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0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-81000" y="-12600"/>
            <a:ext cx="9225000" cy="6870600"/>
          </a:xfrm>
          <a:prstGeom prst="rect">
            <a:avLst/>
          </a:prstGeom>
          <a:ln w="0">
            <a:noFill/>
          </a:ln>
        </p:spPr>
      </p:pic>
      <p:sp>
        <p:nvSpPr>
          <p:cNvPr id="421" name="Скругленный прямоугольник 3"/>
          <p:cNvSpPr/>
          <p:nvPr/>
        </p:nvSpPr>
        <p:spPr>
          <a:xfrm>
            <a:off x="395280" y="260280"/>
            <a:ext cx="5832360" cy="1943280"/>
          </a:xfrm>
          <a:prstGeom prst="roundRect">
            <a:avLst>
              <a:gd name="adj" fmla="val 16667"/>
            </a:avLst>
          </a:prstGeom>
          <a:solidFill>
            <a:srgbClr val="dfff82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О человеке может рассказать многое, о человеке могут рассказать многие. Друзья, родственники, знакомые, а так же фотографии, публикации, удостоверения и многое другое. Сегодня о судьбе нашего героя расскажут архивные документ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Скругленный прямоугольник 4"/>
          <p:cNvSpPr/>
          <p:nvPr/>
        </p:nvSpPr>
        <p:spPr>
          <a:xfrm>
            <a:off x="3059280" y="2492280"/>
            <a:ext cx="5041800" cy="1297080"/>
          </a:xfrm>
          <a:prstGeom prst="roundRect">
            <a:avLst>
              <a:gd name="adj" fmla="val 16667"/>
            </a:avLst>
          </a:prstGeom>
          <a:solidFill>
            <a:srgbClr val="dfff82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Ваш подвиг в сердце сохраним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Скругленный прямоугольник 5"/>
          <p:cNvSpPr/>
          <p:nvPr/>
        </p:nvSpPr>
        <p:spPr>
          <a:xfrm>
            <a:off x="5003640" y="4221000"/>
            <a:ext cx="3740400" cy="2232360"/>
          </a:xfrm>
          <a:prstGeom prst="roundRect">
            <a:avLst>
              <a:gd name="adj" fmla="val 16667"/>
            </a:avLst>
          </a:prstGeom>
          <a:solidFill>
            <a:srgbClr val="dfff82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Участнику Великой Отечественной войны Жарову Павлу Георгиевичу посвящается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72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sp>
        <p:nvSpPr>
          <p:cNvPr id="473" name="TextBox 3"/>
          <p:cNvSpPr/>
          <p:nvPr/>
        </p:nvSpPr>
        <p:spPr>
          <a:xfrm>
            <a:off x="4427640" y="-39600"/>
            <a:ext cx="376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бъединенный архивный фонд №59 «Участники Великой Отечественной войны»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 </a:t>
            </a: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пись №4 «Жаров Павел Григорьевич» - участник Великой Отечественной войны; единица хранения №13, лист №1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4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0" y="0"/>
            <a:ext cx="8904240" cy="6585120"/>
          </a:xfrm>
          <a:prstGeom prst="rect">
            <a:avLst/>
          </a:prstGeom>
          <a:ln w="0">
            <a:noFill/>
          </a:ln>
        </p:spPr>
      </p:pic>
      <p:pic>
        <p:nvPicPr>
          <p:cNvPr id="475" name="Объект 4" descr=""/>
          <p:cNvPicPr/>
          <p:nvPr/>
        </p:nvPicPr>
        <p:blipFill>
          <a:blip r:embed="rId3"/>
          <a:stretch/>
        </p:blipFill>
        <p:spPr>
          <a:xfrm>
            <a:off x="971640" y="1125360"/>
            <a:ext cx="4194000" cy="263232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6"/>
          <p:cNvSpPr/>
          <p:nvPr/>
        </p:nvSpPr>
        <p:spPr>
          <a:xfrm>
            <a:off x="5219640" y="6206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П.Г. Жаров с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фронтовыми друзьям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7" name="Picture 5" descr="C:\ДОКУМЕНТЫ\ОБРАЗЦЫ ДОКУМЕНТОВ\ЛП\59 Ветераны\59-4 Жаров\С однополчанином.jpg"/>
          <p:cNvPicPr/>
          <p:nvPr/>
        </p:nvPicPr>
        <p:blipFill>
          <a:blip r:embed="rId4"/>
          <a:stretch/>
        </p:blipFill>
        <p:spPr>
          <a:xfrm>
            <a:off x="3708360" y="3500280"/>
            <a:ext cx="3959280" cy="30607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8"/>
          <p:cNvSpPr/>
          <p:nvPr/>
        </p:nvSpPr>
        <p:spPr>
          <a:xfrm>
            <a:off x="5076720" y="1341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На снимке: первый ряд, первый  слев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Прямоугольник 10"/>
          <p:cNvSpPr/>
          <p:nvPr/>
        </p:nvSpPr>
        <p:spPr>
          <a:xfrm>
            <a:off x="539640" y="4653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На снимке слев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TextBox 3"/>
          <p:cNvSpPr/>
          <p:nvPr/>
        </p:nvSpPr>
        <p:spPr>
          <a:xfrm>
            <a:off x="468360" y="5013360"/>
            <a:ext cx="33303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2. 1943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TextBox 3"/>
          <p:cNvSpPr/>
          <p:nvPr/>
        </p:nvSpPr>
        <p:spPr>
          <a:xfrm>
            <a:off x="5076720" y="1989000"/>
            <a:ext cx="333072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3. 1945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83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sp>
        <p:nvSpPr>
          <p:cNvPr id="484" name="TextBox 3"/>
          <p:cNvSpPr/>
          <p:nvPr/>
        </p:nvSpPr>
        <p:spPr>
          <a:xfrm>
            <a:off x="4427640" y="-39600"/>
            <a:ext cx="376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бъединенный архивный фонд №59 «Участники Великой Отечественной войны»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 </a:t>
            </a: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пись №4 «Жаров Павел Григорьевич» - участник Великой Отечественной войны; единица хранения №13, лист №1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5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6"/>
          <p:cNvSpPr/>
          <p:nvPr/>
        </p:nvSpPr>
        <p:spPr>
          <a:xfrm>
            <a:off x="4572000" y="8366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П.Г. Жаров с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фронтовыми друзьям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Прямоугольник 8"/>
          <p:cNvSpPr/>
          <p:nvPr/>
        </p:nvSpPr>
        <p:spPr>
          <a:xfrm>
            <a:off x="5076720" y="2276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На снимке: первый ряд, второй  слев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8" name="Picture 2" descr="C:\ДОКУМЕНТЫ\ОБРАЗЦЫ ДОКУМЕНТОВ\ЛП\59 Ветераны\59-4 Жаров\1946 год. 1 ряд, 2 справа Германия.jpg"/>
          <p:cNvPicPr/>
          <p:nvPr/>
        </p:nvPicPr>
        <p:blipFill>
          <a:blip r:embed="rId3"/>
          <a:stretch/>
        </p:blipFill>
        <p:spPr>
          <a:xfrm>
            <a:off x="3851280" y="2924280"/>
            <a:ext cx="4194000" cy="3024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C:\ДОКУМЕНТЫ\ОБРАЗЦЫ ДОКУМЕНТОВ\ЛП\59 Ветераны\59-4 Жаров\21.05.46 г..jpg"/>
          <p:cNvPicPr/>
          <p:nvPr/>
        </p:nvPicPr>
        <p:blipFill>
          <a:blip r:embed="rId4"/>
          <a:stretch/>
        </p:blipFill>
        <p:spPr>
          <a:xfrm>
            <a:off x="1258920" y="476280"/>
            <a:ext cx="2633760" cy="36082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539640" y="4437000"/>
            <a:ext cx="333216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92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239760" y="27288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5"/>
          <p:cNvSpPr/>
          <p:nvPr/>
        </p:nvSpPr>
        <p:spPr>
          <a:xfrm>
            <a:off x="2771640" y="765000"/>
            <a:ext cx="53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Удостоверения о наградах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.Г.Жаро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5" name="Рисунок 6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2951280" cy="4568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9" descr=""/>
          <p:cNvPicPr/>
          <p:nvPr/>
        </p:nvPicPr>
        <p:blipFill>
          <a:blip r:embed="rId4"/>
          <a:stretch/>
        </p:blipFill>
        <p:spPr>
          <a:xfrm>
            <a:off x="3995640" y="1628640"/>
            <a:ext cx="3926160" cy="2745000"/>
          </a:xfrm>
          <a:prstGeom prst="rect">
            <a:avLst/>
          </a:prstGeom>
          <a:ln w="0">
            <a:noFill/>
          </a:ln>
        </p:spPr>
      </p:pic>
      <p:pic>
        <p:nvPicPr>
          <p:cNvPr id="497" name="Объект 8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3745080" cy="25624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3"/>
          <p:cNvSpPr/>
          <p:nvPr/>
        </p:nvSpPr>
        <p:spPr>
          <a:xfrm>
            <a:off x="900000" y="501336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9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00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sp>
        <p:nvSpPr>
          <p:cNvPr id="501" name="TextBox 3"/>
          <p:cNvSpPr/>
          <p:nvPr/>
        </p:nvSpPr>
        <p:spPr>
          <a:xfrm>
            <a:off x="4427640" y="-39600"/>
            <a:ext cx="376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бъединенный архивный фонд №59 «Участники Великой Отечественной войны»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 </a:t>
            </a: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пись №4 «Жаров Павел Григорьевич» - участник Великой Отечественной войны; единица хранения №13, лист №1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2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03" name="Заголовок 1"/>
          <p:cNvSpPr/>
          <p:nvPr/>
        </p:nvSpPr>
        <p:spPr>
          <a:xfrm>
            <a:off x="1908000" y="549360"/>
            <a:ext cx="63914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Удостоверения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.Г. Жарова о награждении юбилейными медалям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4" name="Объект 5" descr=""/>
          <p:cNvPicPr/>
          <p:nvPr/>
        </p:nvPicPr>
        <p:blipFill>
          <a:blip r:embed="rId3"/>
          <a:stretch/>
        </p:blipFill>
        <p:spPr>
          <a:xfrm>
            <a:off x="0" y="2060640"/>
            <a:ext cx="4762440" cy="324000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6" descr=""/>
          <p:cNvPicPr/>
          <p:nvPr/>
        </p:nvPicPr>
        <p:blipFill>
          <a:blip r:embed="rId4"/>
          <a:stretch/>
        </p:blipFill>
        <p:spPr>
          <a:xfrm>
            <a:off x="4525920" y="2133720"/>
            <a:ext cx="4618080" cy="31669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3"/>
          <p:cNvSpPr/>
          <p:nvPr/>
        </p:nvSpPr>
        <p:spPr>
          <a:xfrm>
            <a:off x="900000" y="501336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9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pic>
        <p:nvPicPr>
          <p:cNvPr id="508" name="Объект 4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743280" cy="491328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7"/>
          <p:cNvSpPr/>
          <p:nvPr/>
        </p:nvSpPr>
        <p:spPr>
          <a:xfrm>
            <a:off x="4284720" y="2349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*С 1946 по 1957 годы  Павел Георгиевич Жаров жил и работа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п. Тугулы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*С 1957 года вместе с семьей переехал на жительство в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. Каркатеевы Сургутского район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1961 году избран председателем Чеускинского сельского Совет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2627280" y="549360"/>
            <a:ext cx="6265800" cy="1373760"/>
          </a:xfrm>
          <a:prstGeom prst="rect">
            <a:avLst/>
          </a:prstGeom>
          <a:solidFill>
            <a:srgbClr val="ffff00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entury Gothic"/>
              </a:rPr>
              <a:t>Летопись трудовой жизн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entury Gothic"/>
              </a:rPr>
              <a:t>Павла  Георгиевича Жарова в фотографиях и документа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pic>
        <p:nvPicPr>
          <p:cNvPr id="512" name="Объект 4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743280" cy="491328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7"/>
          <p:cNvSpPr/>
          <p:nvPr/>
        </p:nvSpPr>
        <p:spPr>
          <a:xfrm>
            <a:off x="4572000" y="23493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 Георгиевич Жаров  -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председатель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Чеускинского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сельского Совета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на рабочем месте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1402920" y="1557000"/>
            <a:ext cx="6777000" cy="3508200"/>
          </a:xfrm>
          <a:prstGeom prst="rect">
            <a:avLst/>
          </a:prstGeom>
          <a:ln w="0">
            <a:noFill/>
          </a:ln>
        </p:spPr>
      </p:pic>
      <p:sp>
        <p:nvSpPr>
          <p:cNvPr id="515" name="TextBox 3"/>
          <p:cNvSpPr/>
          <p:nvPr/>
        </p:nvSpPr>
        <p:spPr>
          <a:xfrm>
            <a:off x="4284720" y="4941720"/>
            <a:ext cx="33303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4. 1961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6720" y="1267920"/>
            <a:ext cx="37432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рофсоюзный членский билет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.Г Жаров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18" name="Рисунок 5" descr=""/>
          <p:cNvPicPr/>
          <p:nvPr/>
        </p:nvPicPr>
        <p:blipFill>
          <a:blip r:embed="rId2"/>
          <a:stretch/>
        </p:blipFill>
        <p:spPr>
          <a:xfrm>
            <a:off x="3780000" y="2781360"/>
            <a:ext cx="4105080" cy="3322440"/>
          </a:xfrm>
          <a:prstGeom prst="rect">
            <a:avLst/>
          </a:prstGeom>
          <a:ln w="0">
            <a:noFill/>
          </a:ln>
        </p:spPr>
      </p:pic>
      <p:pic>
        <p:nvPicPr>
          <p:cNvPr id="519" name="Объект 4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4068720" cy="28796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3"/>
          <p:cNvSpPr/>
          <p:nvPr/>
        </p:nvSpPr>
        <p:spPr>
          <a:xfrm>
            <a:off x="684360" y="4724280"/>
            <a:ext cx="33303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4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67280" y="3141360"/>
            <a:ext cx="46814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 Георгиевич  Жаров в рабочем кабиненете Усть-Балыкской нефтеразведочной экспедиции,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Георгиевич - один из первооткрывателей Тюменской нефт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23" name="Объект 4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456000" cy="4911480"/>
          </a:xfrm>
          <a:prstGeom prst="rect">
            <a:avLst/>
          </a:prstGeom>
          <a:ln w="0">
            <a:noFill/>
          </a:ln>
        </p:spPr>
      </p:pic>
      <p:sp>
        <p:nvSpPr>
          <p:cNvPr id="524" name="TextBox 3"/>
          <p:cNvSpPr/>
          <p:nvPr/>
        </p:nvSpPr>
        <p:spPr>
          <a:xfrm>
            <a:off x="4284720" y="4941720"/>
            <a:ext cx="33303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5. 1963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7"/>
          <p:cNvSpPr/>
          <p:nvPr/>
        </p:nvSpPr>
        <p:spPr>
          <a:xfrm>
            <a:off x="2700360" y="47628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 1963 по 1971 годы работал в Усть-Балыкской нефтегазоразведочной экспедиции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 1971 года работал в СУ-10 на должности старшего инженер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7" name="Объект 4" descr=""/>
          <p:cNvPicPr/>
          <p:nvPr/>
        </p:nvPicPr>
        <p:blipFill>
          <a:blip r:embed="rId2"/>
          <a:stretch/>
        </p:blipFill>
        <p:spPr>
          <a:xfrm>
            <a:off x="0" y="2492280"/>
            <a:ext cx="4500720" cy="342576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5" descr=""/>
          <p:cNvPicPr/>
          <p:nvPr/>
        </p:nvPicPr>
        <p:blipFill>
          <a:blip r:embed="rId3"/>
          <a:stretch/>
        </p:blipFill>
        <p:spPr>
          <a:xfrm>
            <a:off x="4284720" y="2492280"/>
            <a:ext cx="4643280" cy="3457800"/>
          </a:xfrm>
          <a:prstGeom prst="rect">
            <a:avLst/>
          </a:prstGeom>
          <a:ln w="0">
            <a:noFill/>
          </a:ln>
        </p:spPr>
      </p:pic>
      <p:sp>
        <p:nvSpPr>
          <p:cNvPr id="529" name="Заголовок 1"/>
          <p:cNvSpPr/>
          <p:nvPr/>
        </p:nvSpPr>
        <p:spPr>
          <a:xfrm>
            <a:off x="826920" y="1700280"/>
            <a:ext cx="77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Записи в трудовой книжке П.Г. Жаро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539640" y="508464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5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32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3"/>
          <p:cNvSpPr/>
          <p:nvPr/>
        </p:nvSpPr>
        <p:spPr>
          <a:xfrm>
            <a:off x="4427640" y="-39600"/>
            <a:ext cx="376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бъединенный архивный фонд №59 «Участники Великой Отечественной войны»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 </a:t>
            </a: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пись №4 «Жаров Павел Григорьевич» - участник Великой Отечественной войны; единица хранения №13, лист №1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4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35" name="Заголовок 1"/>
          <p:cNvSpPr/>
          <p:nvPr/>
        </p:nvSpPr>
        <p:spPr>
          <a:xfrm>
            <a:off x="1258920" y="1052640"/>
            <a:ext cx="770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Записи в трудовой книжке П.Г. Жаро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6" name="Объект 6" descr=""/>
          <p:cNvPicPr/>
          <p:nvPr/>
        </p:nvPicPr>
        <p:blipFill>
          <a:blip r:embed="rId3"/>
          <a:stretch/>
        </p:blipFill>
        <p:spPr>
          <a:xfrm>
            <a:off x="0" y="1989000"/>
            <a:ext cx="4556160" cy="317520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7" descr=""/>
          <p:cNvPicPr/>
          <p:nvPr/>
        </p:nvPicPr>
        <p:blipFill>
          <a:blip r:embed="rId4"/>
          <a:stretch/>
        </p:blipFill>
        <p:spPr>
          <a:xfrm>
            <a:off x="4511520" y="1916280"/>
            <a:ext cx="4632480" cy="3168360"/>
          </a:xfrm>
          <a:prstGeom prst="rect">
            <a:avLst/>
          </a:prstGeom>
          <a:ln w="0">
            <a:noFill/>
          </a:ln>
        </p:spPr>
      </p:pic>
      <p:sp>
        <p:nvSpPr>
          <p:cNvPr id="538" name="TextBox 3"/>
          <p:cNvSpPr/>
          <p:nvPr/>
        </p:nvSpPr>
        <p:spPr>
          <a:xfrm>
            <a:off x="539640" y="508464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5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-17640" y="-22320"/>
            <a:ext cx="9161640" cy="6870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31452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Жаров Павел Георгиевич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6" name="Рисунок 1" descr="Вырезка экрана"/>
          <p:cNvPicPr/>
          <p:nvPr/>
        </p:nvPicPr>
        <p:blipFill>
          <a:blip r:embed="rId2"/>
          <a:stretch/>
        </p:blipFill>
        <p:spPr>
          <a:xfrm>
            <a:off x="6227640" y="333360"/>
            <a:ext cx="2571840" cy="3295800"/>
          </a:xfrm>
          <a:prstGeom prst="rect">
            <a:avLst/>
          </a:prstGeom>
          <a:ln w="0">
            <a:noFill/>
          </a:ln>
        </p:spPr>
      </p:pic>
      <p:pic>
        <p:nvPicPr>
          <p:cNvPr id="427" name="Rectangle 11" descr=""/>
          <p:cNvPicPr/>
          <p:nvPr/>
        </p:nvPicPr>
        <p:blipFill>
          <a:blip r:embed="rId3"/>
          <a:stretch/>
        </p:blipFill>
        <p:spPr>
          <a:xfrm>
            <a:off x="4322880" y="3895560"/>
            <a:ext cx="439416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27236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 Георгиевич  Жаров с сыновьми: Олегом (младший-слева) и Сергеем (старший-справа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41" name="Объект 6" descr=""/>
          <p:cNvPicPr/>
          <p:nvPr/>
        </p:nvPicPr>
        <p:blipFill>
          <a:blip r:embed="rId2"/>
          <a:stretch/>
        </p:blipFill>
        <p:spPr>
          <a:xfrm>
            <a:off x="900000" y="1944720"/>
            <a:ext cx="6912000" cy="4572000"/>
          </a:xfrm>
          <a:prstGeom prst="rect">
            <a:avLst/>
          </a:prstGeom>
          <a:ln w="0">
            <a:noFill/>
          </a:ln>
        </p:spPr>
      </p:pic>
      <p:sp>
        <p:nvSpPr>
          <p:cNvPr id="542" name="TextBox 3"/>
          <p:cNvSpPr/>
          <p:nvPr/>
        </p:nvSpPr>
        <p:spPr>
          <a:xfrm>
            <a:off x="539640" y="508464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7. 1971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 Георгиевич  Жаров (первый справа) среди коллег по работе на Первомайской демонстрации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45" name="Объект 3" descr=""/>
          <p:cNvPicPr/>
          <p:nvPr/>
        </p:nvPicPr>
        <p:blipFill>
          <a:blip r:embed="rId2"/>
          <a:stretch/>
        </p:blipFill>
        <p:spPr>
          <a:xfrm>
            <a:off x="1601640" y="2205000"/>
            <a:ext cx="4878360" cy="322884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7"/>
          <p:cNvSpPr/>
          <p:nvPr/>
        </p:nvSpPr>
        <p:spPr>
          <a:xfrm>
            <a:off x="826920" y="5013360"/>
            <a:ext cx="4105440" cy="916920"/>
          </a:xfrm>
          <a:prstGeom prst="rect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 1971 года работал в СУ-10 на должности старшего инженер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1976 году ушел на пенсию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5148360" y="443700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6. 1970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03640" y="764640"/>
            <a:ext cx="3168720" cy="49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 Георгиевич Жаров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о пути к месту работы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50" name="Объект 4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765600" cy="501948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5003640" y="378936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8. 1971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Рисунок 5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4719600" cy="3013200"/>
          </a:xfrm>
          <a:prstGeom prst="rect">
            <a:avLst/>
          </a:prstGeom>
          <a:ln w="0">
            <a:noFill/>
          </a:ln>
        </p:spPr>
      </p:pic>
      <p:pic>
        <p:nvPicPr>
          <p:cNvPr id="553" name="Объект 4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513540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55" name="Объект 4" descr=""/>
          <p:cNvPicPr/>
          <p:nvPr/>
        </p:nvPicPr>
        <p:blipFill>
          <a:blip r:embed="rId1"/>
          <a:stretch/>
        </p:blipFill>
        <p:spPr>
          <a:xfrm>
            <a:off x="2916360" y="549360"/>
            <a:ext cx="5975280" cy="25207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6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464000" cy="25923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5" descr="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5" descr=""/>
          <p:cNvPicPr/>
          <p:nvPr/>
        </p:nvPicPr>
        <p:blipFill>
          <a:blip r:embed="rId4"/>
          <a:stretch/>
        </p:blipFill>
        <p:spPr>
          <a:xfrm>
            <a:off x="1187280" y="2637000"/>
            <a:ext cx="6877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692360" y="1196640"/>
            <a:ext cx="6480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Георгиевич Жаров с женой Еленой Николаевной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 домашней обстановк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1" name="Объект 5" descr=""/>
          <p:cNvPicPr/>
          <p:nvPr/>
        </p:nvPicPr>
        <p:blipFill>
          <a:blip r:embed="rId2"/>
          <a:stretch/>
        </p:blipFill>
        <p:spPr>
          <a:xfrm>
            <a:off x="1943280" y="2324160"/>
            <a:ext cx="4976640" cy="3508200"/>
          </a:xfrm>
          <a:prstGeom prst="rect">
            <a:avLst/>
          </a:prstGeom>
          <a:ln w="0">
            <a:noFill/>
          </a:ln>
        </p:spPr>
      </p:pic>
      <p:sp>
        <p:nvSpPr>
          <p:cNvPr id="562" name="TextBox 3"/>
          <p:cNvSpPr/>
          <p:nvPr/>
        </p:nvSpPr>
        <p:spPr>
          <a:xfrm>
            <a:off x="5148360" y="443700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9. 1972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92360" y="1196640"/>
            <a:ext cx="6480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Георгиевич Жаров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о время отдыха на природ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5" name="Объект 4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4373640" cy="318924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8"/>
          <p:cNvSpPr/>
          <p:nvPr/>
        </p:nvSpPr>
        <p:spPr>
          <a:xfrm>
            <a:off x="826920" y="5084640"/>
            <a:ext cx="4176720" cy="1191240"/>
          </a:xfrm>
          <a:prstGeom prst="rect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 многолетний добросовестный труд награжден юбилейными медалями, памятными листам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148360" y="443700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20. 1978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492360" y="981000"/>
            <a:ext cx="5151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Вырезки из газет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о П.Г.Жаров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9" name="Объект 4" descr=""/>
          <p:cNvPicPr/>
          <p:nvPr/>
        </p:nvPicPr>
        <p:blipFill>
          <a:blip r:embed="rId1"/>
          <a:stretch/>
        </p:blipFill>
        <p:spPr>
          <a:xfrm>
            <a:off x="477720" y="385920"/>
            <a:ext cx="3038760" cy="54194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5" descr=""/>
          <p:cNvPicPr/>
          <p:nvPr/>
        </p:nvPicPr>
        <p:blipFill>
          <a:blip r:embed="rId2"/>
          <a:stretch/>
        </p:blipFill>
        <p:spPr>
          <a:xfrm>
            <a:off x="3635280" y="3500280"/>
            <a:ext cx="5045040" cy="3025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831708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 Георгиевич  Жаров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(четвертый слева)  среди ветеранов ВОВ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на праздновании Дня Победы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73" name="Объект 4" descr=""/>
          <p:cNvPicPr/>
          <p:nvPr/>
        </p:nvPicPr>
        <p:blipFill>
          <a:blip r:embed="rId2"/>
          <a:stretch/>
        </p:blipFill>
        <p:spPr>
          <a:xfrm>
            <a:off x="1771560" y="2324160"/>
            <a:ext cx="5319720" cy="35082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755280" y="5013000"/>
            <a:ext cx="4032360" cy="108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бъединенный архивный фонд №59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«Участники Великой Отечественной войны»,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пись №4 «Жаров Павел Георгиевич»,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единица хранения  №21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99308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 Георгиевич  Жаров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(шестой слева)  среди ветеранов ВОВ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на встрече с пионерами средней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школы №1 города Нефтеюганск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77" name="Объект 4" descr=""/>
          <p:cNvPicPr/>
          <p:nvPr/>
        </p:nvPicPr>
        <p:blipFill>
          <a:blip r:embed="rId2"/>
          <a:stretch/>
        </p:blipFill>
        <p:spPr>
          <a:xfrm>
            <a:off x="1692360" y="2206800"/>
            <a:ext cx="5904000" cy="3892320"/>
          </a:xfrm>
          <a:prstGeom prst="rect">
            <a:avLst/>
          </a:prstGeom>
          <a:ln w="0">
            <a:noFill/>
          </a:ln>
        </p:spPr>
      </p:pic>
      <p:sp>
        <p:nvSpPr>
          <p:cNvPr id="578" name="TextBox 3"/>
          <p:cNvSpPr/>
          <p:nvPr/>
        </p:nvSpPr>
        <p:spPr>
          <a:xfrm>
            <a:off x="539640" y="5300640"/>
            <a:ext cx="3672000" cy="12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бъединенный архивный фонд №59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пись №4 «Жаров Павел Георгиевич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единица хранения  №23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Объект 3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9100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3"/>
          <p:cNvSpPr/>
          <p:nvPr/>
        </p:nvSpPr>
        <p:spPr>
          <a:xfrm>
            <a:off x="5076720" y="5300640"/>
            <a:ext cx="333072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Gothic"/>
              </a:rPr>
              <a:t>Свидетельство 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Century Gothic"/>
              </a:rPr>
              <a:t>о рождении Жарова Павла Георгиевича (Егоровича)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5" descr="\\192.168.203.25\обмен\305 КАБИНЕТ\Фон на презинтации\10423262.jpg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0920" y="714240"/>
            <a:ext cx="7993080" cy="15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авел Георгиевич Жаров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         (второй слева) среди ветеранов ВОВ 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на встрече с школьниками города Нефтеюганск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81" name="Объект 4" descr=""/>
          <p:cNvPicPr/>
          <p:nvPr/>
        </p:nvPicPr>
        <p:blipFill>
          <a:blip r:embed="rId2"/>
          <a:stretch/>
        </p:blipFill>
        <p:spPr>
          <a:xfrm>
            <a:off x="1932120" y="2324160"/>
            <a:ext cx="4998960" cy="350820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5"/>
          <p:cNvSpPr/>
          <p:nvPr/>
        </p:nvSpPr>
        <p:spPr>
          <a:xfrm>
            <a:off x="539640" y="5516640"/>
            <a:ext cx="5670720" cy="642600"/>
          </a:xfrm>
          <a:prstGeom prst="rect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1993 году Жаров Павел Георгиевич умер. Похоронен в п. Боровский Тюменской облас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5003640" y="2205000"/>
            <a:ext cx="35290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бъединенный архивный фонд №59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«Участники Великой Отечественной войны»,  опись №4 «Жаров Павел Георгиевич», единица хранения  №24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-17640" y="-22320"/>
            <a:ext cx="9161640" cy="68709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C:\ДОКУМЕНТЫ\ОБРАЗЦЫ ДОКУМЕНТОВ\ЛП\59 Ветераны\59-4 Жаров\21.05.46 г..jpg"/>
          <p:cNvPicPr/>
          <p:nvPr/>
        </p:nvPicPr>
        <p:blipFill>
          <a:blip r:embed="rId2"/>
          <a:stretch/>
        </p:blipFill>
        <p:spPr>
          <a:xfrm>
            <a:off x="324000" y="333360"/>
            <a:ext cx="2279520" cy="3122640"/>
          </a:xfrm>
          <a:prstGeom prst="rect">
            <a:avLst/>
          </a:prstGeom>
          <a:ln w="0">
            <a:noFill/>
          </a:ln>
        </p:spPr>
      </p:pic>
      <p:pic>
        <p:nvPicPr>
          <p:cNvPr id="586" name="Объект 4" descr=""/>
          <p:cNvPicPr/>
          <p:nvPr/>
        </p:nvPicPr>
        <p:blipFill>
          <a:blip r:embed="rId3"/>
          <a:stretch/>
        </p:blipFill>
        <p:spPr>
          <a:xfrm>
            <a:off x="5580000" y="260280"/>
            <a:ext cx="3167280" cy="41576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9"/>
          <p:cNvSpPr/>
          <p:nvPr/>
        </p:nvSpPr>
        <p:spPr>
          <a:xfrm>
            <a:off x="4716360" y="3141720"/>
            <a:ext cx="4032360" cy="3311640"/>
          </a:xfrm>
          <a:prstGeom prst="rect">
            <a:avLst/>
          </a:prstGeom>
          <a:solidFill>
            <a:srgbClr val="ffc2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Будущие поколения посредством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документов личного происхождения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знатных горожан, земляков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смогут изучать страницы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истории  нашего государства,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нашего края, город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Нефтеюганска, изучая подлинные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документы очевидцев истории,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их воспоминания, удостоверения,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фотодокументы. Подвиг солдат в год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Великой Отечественной войны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1941-1945 годов должен стать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вечной памятью живущих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2556000" y="404640"/>
            <a:ext cx="3024000" cy="1729080"/>
          </a:xfrm>
          <a:prstGeom prst="rect">
            <a:avLst/>
          </a:prstGeom>
          <a:solidFill>
            <a:srgbClr val="ffc2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Память о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Жарове Павле Гергиевич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навечно останется  в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истории  города Нефтеюганска,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хранясь в архивных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документах ветерана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на полках архивохранилищ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Скругленный прямоугольник 4"/>
          <p:cNvSpPr/>
          <p:nvPr/>
        </p:nvSpPr>
        <p:spPr>
          <a:xfrm>
            <a:off x="5435640" y="450864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ffc299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я подготовлена на основании  архивных документов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АФ № 59 «Участники Великой Отечественной войны», опись № 4 «Жаров Павел Георгиевич», фотодокументов фотофонда  отдела по делам архивов департамента по делам администрации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рода Нефтеюганск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-17640" y="-22320"/>
            <a:ext cx="9161640" cy="6870960"/>
          </a:xfrm>
          <a:prstGeom prst="rect">
            <a:avLst/>
          </a:prstGeom>
          <a:ln w="0">
            <a:noFill/>
          </a:ln>
        </p:spPr>
      </p:pic>
      <p:pic>
        <p:nvPicPr>
          <p:cNvPr id="432" name="Объект 3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3816360" cy="47512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475080" cy="489564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8"/>
          <p:cNvSpPr/>
          <p:nvPr/>
        </p:nvSpPr>
        <p:spPr>
          <a:xfrm>
            <a:off x="5940360" y="620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Автобиографи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(рукопись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2124000" y="544500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37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4427640" y="-39600"/>
            <a:ext cx="376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бъединенный архивный фонд №59 «Участники Великой Отечественной войны»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 </a:t>
            </a: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пись №4 «Жаров Павел Григорьевич» - участник Великой Отечественной войны; единица хранения №13, лист №1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9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7"/>
          <p:cNvSpPr/>
          <p:nvPr/>
        </p:nvSpPr>
        <p:spPr>
          <a:xfrm>
            <a:off x="1979640" y="62064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Биографические сведения о жизни  Павла  Георгиевича Жаров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Скругленный прямоугольник 8"/>
          <p:cNvSpPr/>
          <p:nvPr/>
        </p:nvSpPr>
        <p:spPr>
          <a:xfrm>
            <a:off x="1476360" y="1700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15840">
            <a:solidFill>
              <a:srgbClr val="dff7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Жаров Павел Георгиевич, 28 декабря 1917 года рождения, уроженец деревни Еременко Калининской (ныне - Тверской) област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1925 году пошел в школу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1930 году окончил Дурулинскую школу I ступени. В том же году уехал в п. Тугулым,  Свердловской области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аботал, совмещая труд с учебой , окончил курсы бухгалтер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1938 году был призван в ряды Советской Армии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лужбу проходил на Дальнем Восток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-17640" y="-22320"/>
            <a:ext cx="9161640" cy="687096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8"/>
          <p:cNvSpPr/>
          <p:nvPr/>
        </p:nvSpPr>
        <p:spPr>
          <a:xfrm>
            <a:off x="1187280" y="549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Удостоверение П.Г Жарова об окончании Дурулинской школы первой степен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4" name="Объект 4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4103640" cy="61801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1476360" y="1628640"/>
            <a:ext cx="333072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3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47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3"/>
          <p:cNvSpPr/>
          <p:nvPr/>
        </p:nvSpPr>
        <p:spPr>
          <a:xfrm>
            <a:off x="4427640" y="-39600"/>
            <a:ext cx="376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бъединенный архивный фонд №59 «Участники Великой Отечественной войны»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 </a:t>
            </a: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пись №4 «Жаров Павел Григорьевич» - участник Великой Отечественной войны; единица хранения №13, лист №1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9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pic>
        <p:nvPicPr>
          <p:cNvPr id="450" name="Объект 4" descr=""/>
          <p:cNvPicPr/>
          <p:nvPr/>
        </p:nvPicPr>
        <p:blipFill>
          <a:blip r:embed="rId3"/>
          <a:stretch/>
        </p:blipFill>
        <p:spPr>
          <a:xfrm>
            <a:off x="1042920" y="692280"/>
            <a:ext cx="3168720" cy="47894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3"/>
          <p:cNvSpPr/>
          <p:nvPr/>
        </p:nvSpPr>
        <p:spPr>
          <a:xfrm>
            <a:off x="900000" y="501336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11. 1943 год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Скругленный прямоугольник 7"/>
          <p:cNvSpPr/>
          <p:nvPr/>
        </p:nvSpPr>
        <p:spPr>
          <a:xfrm>
            <a:off x="4211640" y="404640"/>
            <a:ext cx="4176720" cy="568836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5688360"/>
              <a:gd name="textAreaBottom" fmla="*/ 5484600 h 5688360"/>
            </a:gdLst>
            <a:ahLst/>
            <a:rect l="textAreaLeft" t="textAreaTop" r="textAreaRight" b="textAreaBottom"/>
            <a:pathLst>
              <a:path w="21600" h="29417">
                <a:moveTo>
                  <a:pt x="3600" y="0"/>
                </a:moveTo>
                <a:arcTo wR="3600" hR="3600" stAng="16200000" swAng="-5400000"/>
                <a:lnTo>
                  <a:pt x="0" y="25817"/>
                </a:lnTo>
                <a:arcTo wR="3600" hR="3600" stAng="10800000" swAng="-5400000"/>
                <a:lnTo>
                  <a:pt x="18000" y="29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рошел тяжелыми дорогами Великой Отечественной войны с 1942 по 1946 годы: военную присягу принял 15 февраля 1942 года. Был участником боев за взятие Берлина. Дважды тяжело ранен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 мужество и боевые заслуги награжден орденом Отечественной войны II-степени, медалями «За взятие Берлина» , «За Победу над Германией в Великой Отечественной войне»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мае 1946 года в звании сержанта демобилизован из рядов Советской Арми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54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3"/>
          <p:cNvSpPr/>
          <p:nvPr/>
        </p:nvSpPr>
        <p:spPr>
          <a:xfrm>
            <a:off x="4427640" y="-39600"/>
            <a:ext cx="376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бъединенный архивный фонд №59 «Участники Великой Отечественной войны»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 </a:t>
            </a: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пись №4 «Жаров Павел Григорьевич» - участник Великой Отечественной войны; единица хранения №13, лист №1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6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pic>
        <p:nvPicPr>
          <p:cNvPr id="457" name="Объект 6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4762440" cy="3359160"/>
          </a:xfrm>
          <a:prstGeom prst="rect">
            <a:avLst/>
          </a:prstGeom>
          <a:ln w="0">
            <a:noFill/>
          </a:ln>
        </p:spPr>
      </p:pic>
      <p:pic>
        <p:nvPicPr>
          <p:cNvPr id="458" name="Объект 4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657680" cy="333216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7" descr=""/>
          <p:cNvPicPr/>
          <p:nvPr/>
        </p:nvPicPr>
        <p:blipFill>
          <a:blip r:embed="rId5"/>
          <a:stretch/>
        </p:blipFill>
        <p:spPr>
          <a:xfrm>
            <a:off x="3995640" y="3068640"/>
            <a:ext cx="4500720" cy="332280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8"/>
          <p:cNvSpPr/>
          <p:nvPr/>
        </p:nvSpPr>
        <p:spPr>
          <a:xfrm>
            <a:off x="1116000" y="148428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оенный билет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П.Г.Жаро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TextBox 3"/>
          <p:cNvSpPr/>
          <p:nvPr/>
        </p:nvSpPr>
        <p:spPr>
          <a:xfrm>
            <a:off x="5148360" y="515772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6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280" y="837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Со своей семьёй.</a:t>
            </a:r>
            <a:br>
              <a:rPr sz="28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 ( жена Елена Николаевна, сыновья Сергей и Олег, дочь Людмила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63" name="Объект 4" descr=""/>
          <p:cNvPicPr/>
          <p:nvPr/>
        </p:nvPicPr>
        <p:blipFill>
          <a:blip r:embed="rId1"/>
          <a:stretch/>
        </p:blipFill>
        <p:spPr>
          <a:xfrm>
            <a:off x="2297160" y="2575080"/>
            <a:ext cx="4267080" cy="3006720"/>
          </a:xfrm>
          <a:prstGeom prst="rect">
            <a:avLst/>
          </a:prstGeom>
          <a:ln w="0">
            <a:noFill/>
          </a:ln>
        </p:spPr>
      </p:pic>
      <p:sp>
        <p:nvSpPr>
          <p:cNvPr id="464" name="TextBox 3"/>
          <p:cNvSpPr/>
          <p:nvPr/>
        </p:nvSpPr>
        <p:spPr>
          <a:xfrm>
            <a:off x="4427640" y="-39600"/>
            <a:ext cx="376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бъединенный архивный фонд №59 «Участники Великой Отечественной войны»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 </a:t>
            </a:r>
            <a:r>
              <a:rPr b="0" lang="ru-RU" sz="800" spc="-1" strike="noStrike">
                <a:solidFill>
                  <a:srgbClr val="caf278"/>
                </a:solidFill>
                <a:latin typeface="Century Gothic"/>
              </a:rPr>
              <a:t>Опись №4 «Жаров Павел Григорьевич» - участник Великой Отечественной войны; единица хранения №13, лист №1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5" name="Picture 5" descr="\\192.168.203.25\обмен\305 КАБИНЕТ\Фон на презинтации\10423262.jpg"/>
          <p:cNvPicPr/>
          <p:nvPr/>
        </p:nvPicPr>
        <p:blipFill>
          <a:blip r:embed="rId2"/>
          <a:stretch/>
        </p:blipFill>
        <p:spPr>
          <a:xfrm>
            <a:off x="239760" y="0"/>
            <a:ext cx="8904240" cy="6585120"/>
          </a:xfrm>
          <a:prstGeom prst="rect">
            <a:avLst/>
          </a:prstGeom>
          <a:ln w="0">
            <a:noFill/>
          </a:ln>
        </p:spPr>
      </p:pic>
      <p:sp>
        <p:nvSpPr>
          <p:cNvPr id="466" name="Заголовок 1"/>
          <p:cNvSpPr/>
          <p:nvPr/>
        </p:nvSpPr>
        <p:spPr>
          <a:xfrm>
            <a:off x="1187280" y="907920"/>
            <a:ext cx="367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entury Gothic"/>
              </a:rPr>
              <a:t>Орденская книжка П.Г. Жарова</a:t>
            </a:r>
            <a:r>
              <a:rPr b="0" lang="ru-RU" sz="2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7" name="Объект 4" descr=""/>
          <p:cNvPicPr/>
          <p:nvPr/>
        </p:nvPicPr>
        <p:blipFill>
          <a:blip r:embed="rId3"/>
          <a:stretch/>
        </p:blipFill>
        <p:spPr>
          <a:xfrm>
            <a:off x="1403280" y="2060640"/>
            <a:ext cx="2897280" cy="4103640"/>
          </a:xfrm>
          <a:prstGeom prst="rect">
            <a:avLst/>
          </a:prstGeom>
          <a:ln w="0">
            <a:noFill/>
          </a:ln>
        </p:spPr>
      </p:pic>
      <p:pic>
        <p:nvPicPr>
          <p:cNvPr id="468" name="Рисунок 5" descr=""/>
          <p:cNvPicPr/>
          <p:nvPr/>
        </p:nvPicPr>
        <p:blipFill>
          <a:blip r:embed="rId4"/>
          <a:stretch/>
        </p:blipFill>
        <p:spPr>
          <a:xfrm>
            <a:off x="4467240" y="674640"/>
            <a:ext cx="4676760" cy="325116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6" descr=""/>
          <p:cNvPicPr/>
          <p:nvPr/>
        </p:nvPicPr>
        <p:blipFill>
          <a:blip r:embed="rId5"/>
          <a:stretch/>
        </p:blipFill>
        <p:spPr>
          <a:xfrm>
            <a:off x="4460760" y="2924280"/>
            <a:ext cx="4683240" cy="34351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3"/>
          <p:cNvSpPr/>
          <p:nvPr/>
        </p:nvSpPr>
        <p:spPr>
          <a:xfrm>
            <a:off x="900000" y="5013360"/>
            <a:ext cx="333216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ный архивный фонд №59 «Участники Великой Отечественной войны»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ь №4 «Жаров Павел Георгиевич», единица хранения  №8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5:20:01Z</dcterms:created>
  <dc:creator>Пользователь</dc:creator>
  <dc:description/>
  <dc:language>en-US</dc:language>
  <cp:lastModifiedBy>Duma</cp:lastModifiedBy>
  <dcterms:modified xsi:type="dcterms:W3CDTF">2015-04-09T09:54:43Z</dcterms:modified>
  <cp:revision>39</cp:revision>
  <dc:subject/>
  <dc:title>Жаров Павел Георгиеви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230000000000010262800207f7000400038000</vt:lpwstr>
  </property>
</Properties>
</file>