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3.png" ContentType="image/png"/>
  <Override PartName="/ppt/media/image3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20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6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png" ContentType="image/png"/>
  <Override PartName="/ppt/media/image1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C01-D999-4BAA-9B8A-F76FFCDE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1E3-FE29-4CE3-93A3-4FF311DD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AA2-23AC-4BB7-AEDA-F60383CE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F35-3351-42FE-A7DB-15BCB310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3504-FFD2-439B-A651-69B73A97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9871-CB6B-4ED4-BC0F-988C06AA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D173-DDF8-4CB9-87F0-FB12C0A6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7814-4843-46BA-95BA-840A02A3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2E41-0228-43A9-B3FE-53BD3EB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4D24-FE86-4C03-B109-00DD649A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2C11-7D0F-4F20-8FC6-6115070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E65-1A95-41BF-97EF-191E9FA7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5D17-7DF2-4B56-9D9E-DB1EAFA9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2BA9-EE2E-4476-B70F-34ED111C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0DD4-D95D-4ADD-9EEC-3660717A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0D58-9281-4BBF-9225-4BFCA6F0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7547-C1B6-4CFF-AB8A-476B6FC6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7AD6-670F-4777-9EC1-F3E24C1E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F40D-1CDC-41E9-9494-CDA9E9D8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D32B-B5BE-4EB6-8C6A-EFAECE7B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8EE8-A155-47E7-BE8A-F9D49B77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93AB-17BB-4B07-AEB7-BDDB41FC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C15-F556-4605-8D5C-B729624D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8C4F-9554-4DF2-8210-911680BA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D55D-9DA2-4AA1-933D-4627CBB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6454-E0B7-4DF2-99D8-A17D95B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77A2-2781-4514-AE8A-7890A62E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875D-D3FB-4733-A662-658684A5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13579-01BC-47EA-93AC-0013DED0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C930-2F16-496D-8244-002E3962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4814B-414C-4F58-9DA4-E3077AB1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9E06-054B-4815-B069-8C1DC122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FCF6-3EF1-4DB0-9BBA-AC4318A7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95F-5658-4309-A2F6-C5CC1D87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5E938-89DE-494E-81A0-4B69255D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A7A1-CB5F-47A7-88E0-46F6D8B2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EAB5-F210-450D-8795-9EEA22B8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DA0C-BC39-43B8-8706-9C7DAA37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8F4DE-DC3F-4CBC-A18E-ABA9BAF5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0A2C-15FE-4283-BF05-68D9169A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B8B75-CBAF-4F21-B8E2-48B5BA3D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17D3-DD57-4892-8DB2-E595B48C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D619-C706-490D-8874-3DC1F8AA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A5146-E1A5-4C4A-B132-D64278B2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D91-DDE1-4C50-8F1B-B0589837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A8699-45D1-48D9-861B-3310B2A4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940D-A856-4A1C-A488-F78DA1FF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D96A7-D8D5-4A9B-B478-CE0804A3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FCF4-5F61-44C8-8353-03DFF46C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AE3F6-5BEC-4A08-BB12-FD561897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4C641-E6CD-4C6D-8907-F7756C7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79D2-2295-44E6-A63D-19313173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B278-A50B-4A15-ABD8-AAD8767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FC2EC-6DCC-4FD8-BEE0-63BF241B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E8349-C004-4E7B-BF52-C460E483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B29-F1FC-489F-80A9-421C43C0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0478-5D10-4836-A91F-AC5601D9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4F315-2A58-4493-920D-2942D8B5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C669-93E9-426E-8F42-E516A811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8260E-C850-4ADB-98FD-ABE4F952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B878-2819-4593-BE19-11726E70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C3F7-A896-4531-9EB2-4AE9DC7D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5F2C-6856-45ED-AB63-11C17382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47097-2E20-4F68-BEAF-FE8DCFDE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F274B-CBCF-48B1-8B76-80700B6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C80EC-FA6D-4E04-9808-D3ECDC9D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99E-5A83-415C-B9E5-8A5493D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2437-98FA-45DF-878D-CA8D8956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1D06E-C2D9-42EE-A527-9EE8A7BE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C2175-0CDF-482E-900F-3C472C11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C8529-60E3-4988-B4AF-610A9282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87F69-620D-4884-B0ED-E9C24E7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03E5A-C8A1-4451-922B-84DB6367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57E43-814E-4CCB-AE66-00F76B0A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50332-6FA6-4A7A-B292-9DFF861B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EB69C-CE50-4789-B6BF-539DD5E7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000B2-FA04-45C5-BE0E-08227EF0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77D-A24A-4A25-9AC7-03E2DA6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8EF85-F7D1-44B0-9443-C38A9E78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18A7D-6B8E-4D0B-8B5F-DA6E060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F2E2C-D631-4A3E-B998-5DB61955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504A-CC31-45C8-8265-3A1FF381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CA3EA-C2F4-4764-938E-FFE4C8AD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6BE-1CCF-483D-A70C-8C3FC959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F711-6BD9-4F2A-8D3D-A182028FD7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E125-02DE-4DA1-A2BE-D2293D6174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AB29-3EB8-4095-8257-0B3D9B8564A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4ACD-43BF-4DB2-90C1-1CE1D779F3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4282-8BB1-47B1-BA86-939423A02F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0E74-EA74-4C1C-A0C2-52CD565E94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DFDB-C83A-4531-8015-EB0F8AF06C3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3"/>
          <p:cNvSpPr/>
          <p:nvPr/>
        </p:nvSpPr>
        <p:spPr>
          <a:xfrm>
            <a:off x="108000" y="115920"/>
            <a:ext cx="4176720" cy="2376360"/>
          </a:xfrm>
          <a:prstGeom prst="rect">
            <a:avLst/>
          </a:prstGeom>
          <a:solidFill>
            <a:srgbClr val="feb80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О человеке может рассказать многое, о человеке могут рассказать многие. Друзья, родственники, знакомые, а так же фотографии, публикации, удостоверения и многое другое. Сегодня о судьбе нашей героине расскажут архивные документ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Прямоугольник 5"/>
          <p:cNvSpPr/>
          <p:nvPr/>
        </p:nvSpPr>
        <p:spPr>
          <a:xfrm>
            <a:off x="108000" y="3789360"/>
            <a:ext cx="4319640" cy="3021120"/>
          </a:xfrm>
          <a:prstGeom prst="rect">
            <a:avLst/>
          </a:prstGeom>
          <a:solidFill>
            <a:srgbClr val="feb80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Участнику Великой Отечественной войны Вахриной Анне Ильиничне посвящается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4140360" y="2565360"/>
            <a:ext cx="4895640" cy="2102040"/>
          </a:xfrm>
          <a:prstGeom prst="rect">
            <a:avLst/>
          </a:prstGeom>
          <a:solidFill>
            <a:srgbClr val="feb80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rbel"/>
              </a:rPr>
              <a:t>Ваш подвиг в сердце сохраним…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Прямоугольник 7"/>
          <p:cNvSpPr/>
          <p:nvPr/>
        </p:nvSpPr>
        <p:spPr>
          <a:xfrm>
            <a:off x="4572000" y="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войне быть страшновато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 была и вам скажу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ь в пехоте, быть солдатом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ее службы не найду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мню фронт не из газет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 кино, не понаслышке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ошла в кирзовых сапогах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года целых и без передышк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0" y="-171360"/>
            <a:ext cx="9325080" cy="6889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олодость военн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539640" y="1052640"/>
            <a:ext cx="316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импатичные девчонки,  сиюминутно превратившись в чучела, погрузились в военные эшелон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оехали до Орс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 Орске сначала месяц были на карантин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зучали материальную часть, устав, основы строевой подготовк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Здесь, как рядовой Красной Армии, Анна приняла присяг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4" name="Group 5"/>
          <p:cNvGrpSpPr/>
          <p:nvPr/>
        </p:nvGrpSpPr>
        <p:grpSpPr>
          <a:xfrm>
            <a:off x="3708360" y="1125360"/>
            <a:ext cx="2376360" cy="4248360"/>
            <a:chOff x="3708360" y="1125360"/>
            <a:chExt cx="2376360" cy="4248360"/>
          </a:xfrm>
        </p:grpSpPr>
        <p:pic>
          <p:nvPicPr>
            <p:cNvPr id="355" name="Picture 6" descr="Ветеран  Вахрина"/>
            <p:cNvPicPr/>
            <p:nvPr/>
          </p:nvPicPr>
          <p:blipFill>
            <a:blip r:embed="rId2"/>
            <a:stretch/>
          </p:blipFill>
          <p:spPr>
            <a:xfrm>
              <a:off x="3708360" y="1125360"/>
              <a:ext cx="2314800" cy="31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Rectangle 7"/>
            <p:cNvSpPr/>
            <p:nvPr/>
          </p:nvSpPr>
          <p:spPr>
            <a:xfrm>
              <a:off x="3708360" y="4311720"/>
              <a:ext cx="2376360" cy="10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Ефрейтор Анна Каменских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1943 год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57" name="Прямоугольник 8"/>
          <p:cNvSpPr/>
          <p:nvPr/>
        </p:nvSpPr>
        <p:spPr>
          <a:xfrm>
            <a:off x="5975280" y="126828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 на войне быть страшновато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ама была и вам скажу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лужить в пехоте, быть солдатом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руднее службы не найду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0" y="-171360"/>
            <a:ext cx="9325080" cy="68896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енные г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Прямоугольник 11"/>
          <p:cNvSpPr/>
          <p:nvPr/>
        </p:nvSpPr>
        <p:spPr>
          <a:xfrm>
            <a:off x="395280" y="1052640"/>
            <a:ext cx="31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Gill Sans MT"/>
              </a:rPr>
              <a:t>     </a:t>
            </a:r>
            <a:r>
              <a:rPr b="0" lang="ru-RU" sz="1800" spc="-1" strike="noStrike">
                <a:solidFill>
                  <a:srgbClr val="0066ff"/>
                </a:solidFill>
                <a:latin typeface="Gill Sans MT"/>
              </a:rPr>
              <a:t>Зима 42-го выдалас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Gill Sans MT"/>
              </a:rPr>
              <a:t>холодной. И  пришло время её следующей практики, как  учителя географии: в ледяной земле приходилось рыть себе землянки. Было очень голодно. На завтрак – каша, в обед – суп из замороженных помидор, на ужин – чай и 100 гр. хлеба. Что можно было из обмундирования – меняли на хлеб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6" descr="Ветеран  Вахрина"/>
          <p:cNvPicPr/>
          <p:nvPr/>
        </p:nvPicPr>
        <p:blipFill>
          <a:blip r:embed="rId2"/>
          <a:stretch/>
        </p:blipFill>
        <p:spPr>
          <a:xfrm>
            <a:off x="3995640" y="1413000"/>
            <a:ext cx="2089080" cy="28382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9"/>
          <p:cNvSpPr/>
          <p:nvPr/>
        </p:nvSpPr>
        <p:spPr>
          <a:xfrm>
            <a:off x="1116000" y="4869000"/>
            <a:ext cx="52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Gill Sans MT"/>
              </a:rPr>
              <a:t>Вскоре формирование 194 отдельного зенитного артиллерийского девизиона закончилось. В боях под Сталинградом он сыграл свою роль и внёс свою лепту в Сталинградский проры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Прямоугольник 10"/>
          <p:cNvSpPr/>
          <p:nvPr/>
        </p:nvSpPr>
        <p:spPr>
          <a:xfrm>
            <a:off x="6012000" y="1484280"/>
            <a:ext cx="28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Gill Sans MT"/>
              </a:rPr>
              <a:t>В результате тяжёлых боёв девизион был почти разбит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Gill Sans MT"/>
              </a:rPr>
              <a:t>Но сохранилось знамя. И девизион стали докомплектовывать.  Пришло время и  нам дали команду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Gill Sans MT"/>
              </a:rPr>
              <a:t>«По вагонам!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Gill Sans MT"/>
              </a:rPr>
              <a:t>Эшелон отправился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0" y="-31680"/>
            <a:ext cx="9325080" cy="68896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енные г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Прямоугольник 11"/>
          <p:cNvSpPr/>
          <p:nvPr/>
        </p:nvSpPr>
        <p:spPr>
          <a:xfrm>
            <a:off x="395280" y="981000"/>
            <a:ext cx="331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Gill Sans MT"/>
              </a:rPr>
              <a:t>         </a:t>
            </a:r>
            <a:r>
              <a:rPr b="0" lang="ru-RU" sz="1800" spc="-1" strike="noStrike">
                <a:solidFill>
                  <a:srgbClr val="006666"/>
                </a:solidFill>
                <a:latin typeface="Gill Sans MT"/>
              </a:rPr>
              <a:t>«Стояли мы под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ill Sans MT"/>
              </a:rPr>
              <a:t>       </a:t>
            </a:r>
            <a:r>
              <a:rPr b="0" lang="ru-RU" sz="1800" spc="-1" strike="noStrike">
                <a:solidFill>
                  <a:srgbClr val="006666"/>
                </a:solidFill>
                <a:latin typeface="Gill Sans MT"/>
              </a:rPr>
              <a:t>Вологдой, - вспоминае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ill Sans MT"/>
              </a:rPr>
              <a:t>             </a:t>
            </a:r>
            <a:r>
              <a:rPr b="0" lang="ru-RU" sz="1800" spc="-1" strike="noStrike">
                <a:solidFill>
                  <a:srgbClr val="006666"/>
                </a:solidFill>
                <a:latin typeface="Gill Sans MT"/>
              </a:rPr>
              <a:t>Анна Ильинична, -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ill Sans MT"/>
              </a:rPr>
              <a:t>      </a:t>
            </a:r>
            <a:r>
              <a:rPr b="0" lang="ru-RU" sz="1800" spc="-1" strike="noStrike">
                <a:solidFill>
                  <a:srgbClr val="006666"/>
                </a:solidFill>
                <a:latin typeface="Gill Sans MT"/>
              </a:rPr>
              <a:t>мужчин было мало, все были на передовой. Всю работу выполняли девушки. Было очень трудно. Кровавые мозоли не успевали сходить с рук. Бессонные ночи прямо под налётами вражеской авиации. Пережить голод, страх перед смертью в такие молодые годы – это потрясение на всю жизнь. Но мы были патриотами своей Родины. Да и слова данной нами присяги обязывали нас нести бремя войны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6" descr="Ветеран  Вахрина"/>
          <p:cNvPicPr/>
          <p:nvPr/>
        </p:nvPicPr>
        <p:blipFill>
          <a:blip r:embed="rId2"/>
          <a:stretch/>
        </p:blipFill>
        <p:spPr>
          <a:xfrm>
            <a:off x="3564000" y="1125360"/>
            <a:ext cx="2087640" cy="283860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7"/>
          <p:cNvSpPr/>
          <p:nvPr/>
        </p:nvSpPr>
        <p:spPr>
          <a:xfrm>
            <a:off x="5724360" y="1052640"/>
            <a:ext cx="2951280" cy="27709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Gill Sans MT"/>
              </a:rPr>
              <a:t>За годы войны Анне Ильиничне пришлось хорошо разглядеть, что значит фашизм. Вместо деревень стояли горы пепла. Казалось, ветер устал и не в силах больше  развевать его по земле. Оставались только  названия, написанные на фанерных дощечках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3635280" y="3789360"/>
            <a:ext cx="5040360" cy="228420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ill Sans MT"/>
              </a:rPr>
              <a:t>Над головами проносились юнкерсы «Ю-88», «Мессершмидт-110». Юнкерсы летали  вне зоны досягаемости зениток. Можно было только лучами прожекторов сбить их с курса  и тогда они улетали. А в минуты отдыха и затишья между боями Анна Ильинична выходила на брус землянки и затягивала во весь голос:«На позицию девушка провожала бойца…»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9360" y="-31680"/>
            <a:ext cx="9153360" cy="6889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енные г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2" name="Picture 7" descr="Ветеран  Вахрина 001"/>
          <p:cNvPicPr/>
          <p:nvPr/>
        </p:nvPicPr>
        <p:blipFill>
          <a:blip r:embed="rId2"/>
          <a:stretch/>
        </p:blipFill>
        <p:spPr>
          <a:xfrm>
            <a:off x="900000" y="1197000"/>
            <a:ext cx="7344000" cy="497844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468360" y="4581360"/>
            <a:ext cx="7704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ай 1945 года. Город Риг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торой корпус противовоздушной обороны, взвод телеграфистов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фото(слева направо): Лисицина Нина, Кашина Катя, Шарова Аня, лейтенант Смирнов Володя, Исаенко К. Тимофеев А., Дробь Роза, Минеева Аля, Комарова Аня, Каменских Анн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9040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684360" y="1125360"/>
            <a:ext cx="7775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>
                <a:solidFill>
                  <a:srgbClr val="0066ff"/>
                </a:solidFill>
                <a:latin typeface="Corbel"/>
              </a:rPr>
              <a:t>Письма домой писали не часто: радовать было нечем, а расстраивать не стоит. Но домой хотелось очень сильно. Потому что было очень страшно. После тяжелых боёв в столовой за столами собирались не все. Многие оставались там, на поле боя. Как её подруга, Маша Максимова. Подруга, потому что была такой же певуньей, такой же хохотушкой и такой же молодой.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rbel"/>
              </a:rPr>
              <a:t>Позже  путь Анны Каменских пролёг в Прибалтику, сначала в городе Резекне, потом  она была переведена в 262-й отдельный батальон связи, который обеспечивал  связью 2-й корпус противовоздушной обороны. Располагался  штаб корпуса в городе Риг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Corbel"/>
              </a:rPr>
              <a:t>И не знала тогда Анна, что совсем недалеко от неё несёт службу старший брат – Каменских Павел, который перевозил на грузовом автомобиле продукты в блокадный Ленинград. Они были совсем близко друг от друга, но никогда больше не увидятся. Брат погиб во время одной из бомбёжек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Corbel"/>
              </a:rPr>
              <a:t>В Риге Анна Ильинична прослужила с 1944 до конца войн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енные г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9" name="Picture 8" descr="C:\ДОКУМЕНТЫ\ОБРАЗЦЫ ДОКУМЕНТОВ\ЛП\59 Ветераны\печатали про них\59-14  Вахрина А.И северный фронт\Ф. 59 оп. 14 Вахрина А.И. док-и скан\10 Справка о воинском звании\ф.59 оп.14 ед.хр. 10 лист 1.jpg"/>
          <p:cNvPicPr/>
          <p:nvPr/>
        </p:nvPicPr>
        <p:blipFill>
          <a:blip r:embed="rId2"/>
          <a:stretch/>
        </p:blipFill>
        <p:spPr>
          <a:xfrm>
            <a:off x="826920" y="1052640"/>
            <a:ext cx="6967800" cy="49258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8"/>
          <p:cNvSpPr/>
          <p:nvPr/>
        </p:nvSpPr>
        <p:spPr>
          <a:xfrm>
            <a:off x="3419640" y="5373720"/>
            <a:ext cx="3816360" cy="792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диненный архивный фонд №59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частники Великой Отечественной войны»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ь №14 «Вахрина Анна Ильинична»,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ница хранения  №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" descr="C:\ДОКУМЕНТЫ\ОБРАЗЦЫ ДОКУМЕНТОВ\ЛП\59 Ветераны\печатали про них\59-14  Вахрина А.И северный фронт\Ф. 59 оп. 14 Вахрина А.И. док-и скан\12 Приказы,выписки,справка, подтверждающие трудовой стаж\ф.59 оп.14 ед.хр. 12 лист 2.jpg"/>
          <p:cNvPicPr/>
          <p:nvPr/>
        </p:nvPicPr>
        <p:blipFill>
          <a:blip r:embed="rId2"/>
          <a:stretch/>
        </p:blipFill>
        <p:spPr>
          <a:xfrm>
            <a:off x="0" y="2060640"/>
            <a:ext cx="5113440" cy="3081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C:\ДОКУМЕНТЫ\ОБРАЗЦЫ ДОКУМЕНТОВ\ЛП\59 Ветераны\печатали про них\59-14  Вахрина А.И северный фронт\Ф. 59 оп. 14 Вахрина А.И. док-и скан\8 Приложение к диплому\ф.59 оп.14 ед.хр. 8 лист 1.jpg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419640" y="333360"/>
            <a:ext cx="5256000" cy="6191280"/>
          </a:xfrm>
          <a:prstGeom prst="rect">
            <a:avLst/>
          </a:prstGeom>
          <a:ln w="0">
            <a:noFill/>
          </a:ln>
        </p:spPr>
      </p:pic>
      <p:sp>
        <p:nvSpPr>
          <p:cNvPr id="384" name="Объект 2"/>
          <p:cNvSpPr/>
          <p:nvPr/>
        </p:nvSpPr>
        <p:spPr>
          <a:xfrm>
            <a:off x="539640" y="1197000"/>
            <a:ext cx="6553440" cy="86364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азу после демобилизации Анна Ильинична продолжила свою педагогическую деятельность, совмещая работу с учебой и окончанием образования, которое начинала еще до военных лет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Жизнь после войн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78920" y="4437000"/>
            <a:ext cx="6696360" cy="199224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августе 1969 года приехала за мужем на север в город Нефтеюганск и стала работать учителем географии в СШ №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я в школе были молоды, энергичные, увлеченные профессией. К тому времени Анна Ильинична была уже опытным учителем, за свой труд не раз была отличена грамотам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Жизнь после войн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9" name="Picture 4" descr="C:\ДОКУМЕНТЫ\ОБРАЗЦЫ ДОКУМЕНТОВ\ЛП\59 Ветераны\печатали про них\59-14  Вахрина А.И северный фронт\Ф. 59 оп. 14 Вахрина А.И. док-и скан\18 Почётные грамоты за трудовую педагогическую деятельность\ф.59 оп.14 ед.хр. 18 лист 1.jpg"/>
          <p:cNvPicPr/>
          <p:nvPr/>
        </p:nvPicPr>
        <p:blipFill>
          <a:blip r:embed="rId2"/>
          <a:stretch/>
        </p:blipFill>
        <p:spPr>
          <a:xfrm>
            <a:off x="611280" y="1125360"/>
            <a:ext cx="2135160" cy="2997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C:\ДОКУМЕНТЫ\ОБРАЗЦЫ ДОКУМЕНТОВ\ЛП\59 Ветераны\печатали про них\59-14  Вахрина А.И северный фронт\Ф. 59 оп. 14 Вахрина А.И. док-и скан\18 Почётные грамоты за трудовую педагогическую деятельность\ф.59 оп.14 ед.хр. 18 лист 8.jpg"/>
          <p:cNvPicPr/>
          <p:nvPr/>
        </p:nvPicPr>
        <p:blipFill>
          <a:blip r:embed="rId3"/>
          <a:stretch/>
        </p:blipFill>
        <p:spPr>
          <a:xfrm>
            <a:off x="6516720" y="1052640"/>
            <a:ext cx="2122560" cy="30747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C:\ДОКУМЕНТЫ\ОБРАЗЦЫ ДОКУМЕНТОВ\ЛП\59 Ветераны\печатали про них\59-14  Вахрина А.И северный фронт\Ф. 59 оп. 14 Вахрина А.И. док-и скан\18 Почётные грамоты за трудовую педагогическую деятельность\ф.59 оп.14 ед.хр. 18 лист 12.jpg"/>
          <p:cNvPicPr/>
          <p:nvPr/>
        </p:nvPicPr>
        <p:blipFill>
          <a:blip r:embed="rId4"/>
          <a:stretch/>
        </p:blipFill>
        <p:spPr>
          <a:xfrm>
            <a:off x="2771640" y="1268280"/>
            <a:ext cx="3816360" cy="2478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C:\ДОКУМЕНТЫ\ОБРАЗЦЫ ДОКУМЕНТОВ\ЛП\59 Ветераны\печатали про них\59-14  Вахрина А.И северный фронт\Ф. 59 оп. 14 Вахрина А.И. док-и скан\18 Почётные грамоты за трудовую педагогическую деятельность\ф.59 оп.14 ед.хр. 18 лист 9.jpg"/>
          <p:cNvPicPr/>
          <p:nvPr/>
        </p:nvPicPr>
        <p:blipFill>
          <a:blip r:embed="rId5"/>
          <a:stretch/>
        </p:blipFill>
        <p:spPr>
          <a:xfrm>
            <a:off x="2843280" y="3284640"/>
            <a:ext cx="3529080" cy="2068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C:\ДОКУМЕНТЫ\ОБРАЗЦЫ ДОКУМЕНТОВ\ЛП\59 Ветераны\печатали про них\59-14  Вахрина А.И северный фронт\Ф. 59 оп. 14 Вахрина А.И. док-и скан\18 Почётные грамоты за трудовую педагогическую деятельность\ф.59 оп.14 ед.хр. 18 лист 10.jpg"/>
          <p:cNvPicPr/>
          <p:nvPr/>
        </p:nvPicPr>
        <p:blipFill>
          <a:blip r:embed="rId6"/>
          <a:stretch/>
        </p:blipFill>
        <p:spPr>
          <a:xfrm>
            <a:off x="6300720" y="3213000"/>
            <a:ext cx="2303640" cy="3203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C:\ДОКУМЕНТЫ\ОБРАЗЦЫ ДОКУМЕНТОВ\ЛП\59 Ветераны\печатали про них\59-14  Вахрина А.И северный фронт\Ф. 59 оп. 14 Вахрина А.И. док-и скан\18 Почётные грамоты за трудовую педагогическую деятельность\ф.59 оп.14 ед.хр. 18 лист 7.jpg"/>
          <p:cNvPicPr/>
          <p:nvPr/>
        </p:nvPicPr>
        <p:blipFill>
          <a:blip r:embed="rId7"/>
          <a:stretch/>
        </p:blipFill>
        <p:spPr>
          <a:xfrm>
            <a:off x="468360" y="3284640"/>
            <a:ext cx="2374920" cy="30906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2626920" y="5229000"/>
            <a:ext cx="3816360" cy="115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txBody>
          <a:bodyPr anchor="ctr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диненный архивный фонд № 59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частники Великой Отечественной войны»,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ь №14 «Вахрина Анна Ильинична»,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ница хранения  №18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Жизнь после войн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новом месте Анна Ильинична трудилась ответственно, с душой. И за свою безупречную работу тоже была отмечена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численным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ми  и благодарностям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№1 Вахрина Анна Ильинична проработала 7 лет, после чего была вынуждена уволиться по состоянию здоровья.  Анна Ильинична – инвалид 2 группы. Тяжёлые условия её жизни оставили неисправимый след на её физическом состоян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октябре 1975 года по Анна Ильинична ушла на пенс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5" descr="C:\ДОКУМЕНТЫ\ОБРАЗЦЫ ДОКУМЕНТОВ\ЛП\59 Ветераны\печатали про них\59-14  Вахрина А.И северный фронт\ФОтоГРАФИИ\Ветеран  Вахрина 003.jpg"/>
          <p:cNvPicPr/>
          <p:nvPr/>
        </p:nvPicPr>
        <p:blipFill>
          <a:blip r:embed="rId2"/>
          <a:stretch/>
        </p:blipFill>
        <p:spPr>
          <a:xfrm>
            <a:off x="4572000" y="2133720"/>
            <a:ext cx="3672000" cy="2808000"/>
          </a:xfrm>
          <a:prstGeom prst="rect">
            <a:avLst/>
          </a:prstGeom>
          <a:ln w="0">
            <a:noFill/>
          </a:ln>
        </p:spPr>
      </p:pic>
      <p:sp>
        <p:nvSpPr>
          <p:cNvPr id="400" name="Объект 2"/>
          <p:cNvSpPr/>
          <p:nvPr/>
        </p:nvSpPr>
        <p:spPr>
          <a:xfrm>
            <a:off x="900000" y="3357720"/>
            <a:ext cx="3743280" cy="143964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ахрина Анна Ильинична среди учеников на уроке географии в средней школе №1 города Нефтеюганска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отофонд, опись №1, единица хранения №2006, 1970 год. г. Нефтеюганск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89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639720"/>
            <a:ext cx="80661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9647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ахрина ( в девичестве – Каменских) Анна Ильиничн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5" descr="C:\ДОКУМЕНТЫ\ОБРАЗЦЫ ДОКУМЕНТОВ\ЛП\59 Ветераны\печатали про них\59-14  Вахрина А.И северный фронт\ФОтоГРАФИИ\Ветеран  Вахрина.jpg"/>
          <p:cNvPicPr/>
          <p:nvPr/>
        </p:nvPicPr>
        <p:blipFill>
          <a:blip r:embed="rId2"/>
          <a:stretch/>
        </p:blipFill>
        <p:spPr>
          <a:xfrm>
            <a:off x="179280" y="2060640"/>
            <a:ext cx="2987640" cy="454968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7"/>
          <p:cNvSpPr/>
          <p:nvPr/>
        </p:nvSpPr>
        <p:spPr>
          <a:xfrm>
            <a:off x="3132000" y="2060640"/>
            <a:ext cx="5904000" cy="4392720"/>
          </a:xfrm>
          <a:prstGeom prst="rect">
            <a:avLst/>
          </a:prstGeom>
          <a:solidFill>
            <a:srgbClr val="a9d7e2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rbel"/>
              </a:rPr>
              <a:t>АНКЕТНЫЕ СВЕДЕНИЯ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Corbel"/>
              </a:rPr>
              <a:t>Дата рождения - </a:t>
            </a:r>
            <a:r>
              <a:rPr b="1" lang="ru-RU" sz="1600" spc="-1" strike="noStrike">
                <a:solidFill>
                  <a:srgbClr val="002060"/>
                </a:solidFill>
                <a:latin typeface="Corbel"/>
              </a:rPr>
              <a:t>22 декабря 1922 года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Corbel"/>
              </a:rPr>
              <a:t>Место рождения  </a:t>
            </a:r>
            <a:r>
              <a:rPr b="1" lang="ru-RU" sz="1600" spc="-1" strike="noStrike">
                <a:solidFill>
                  <a:srgbClr val="002060"/>
                </a:solidFill>
                <a:latin typeface="Corbel"/>
              </a:rPr>
              <a:t>-  д. Капкан Чернушинского района Пермской области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Corbel"/>
              </a:rPr>
              <a:t>Служба: </a:t>
            </a:r>
            <a:r>
              <a:rPr b="1" lang="ru-RU" sz="1600" spc="-1" strike="noStrike">
                <a:solidFill>
                  <a:srgbClr val="002060"/>
                </a:solidFill>
                <a:latin typeface="Corbel"/>
              </a:rPr>
              <a:t>мобилизация в Красную Армию - 30 ноября 1942 года, Чернушинский районный военкомат Молотовской  (ныне – Пермской) области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rbel"/>
              </a:rPr>
              <a:t>Демобилизация -  июль 1945 года в звании ефрейтора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Corbel"/>
              </a:rPr>
              <a:t>Боевой путь: </a:t>
            </a:r>
            <a:r>
              <a:rPr b="1" lang="ru-RU" sz="1600" spc="-1" strike="noStrike">
                <a:solidFill>
                  <a:srgbClr val="002060"/>
                </a:solidFill>
                <a:latin typeface="Corbel"/>
              </a:rPr>
              <a:t>в г. Орске приняли присягу, служила связисткой на  Прибалтийском фронте, воевала в составе  194-го отдельного зенитно-артиллерийского дивизиона ПВО, затем в качестве экспедитора 262-го отдельного батальона связи. Участвовала в Сталинградском прорыве, освобождении городов Клайпеда, Рига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Corbel"/>
              </a:rPr>
              <a:t>Военные награды</a:t>
            </a:r>
            <a:r>
              <a:rPr b="1" lang="ru-RU" sz="1600" spc="-1" strike="noStrike">
                <a:solidFill>
                  <a:srgbClr val="002060"/>
                </a:solidFill>
                <a:latin typeface="Corbel"/>
              </a:rPr>
              <a:t>: кавалер  ордена Отечественной войны </a:t>
            </a:r>
            <a:r>
              <a:rPr b="1" lang="en-US" sz="1600" spc="-1" strike="noStrike">
                <a:solidFill>
                  <a:srgbClr val="002060"/>
                </a:solidFill>
                <a:latin typeface="Gill Sans MT"/>
              </a:rPr>
              <a:t>II</a:t>
            </a:r>
            <a:r>
              <a:rPr b="1" lang="ru-RU" sz="1600" spc="-1" strike="noStrike">
                <a:solidFill>
                  <a:srgbClr val="002060"/>
                </a:solidFill>
                <a:latin typeface="Corbel"/>
              </a:rPr>
              <a:t>  степени,  награждена медаль «За победу над Германией в Великой Отечественной войне 1941-1945 гг», юбилейными и памятными медалями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ДОКУМЕНТЫ\ОБРАЗЦЫ ДОКУМЕНТОВ\ЛП\59 Ветераны\печатали про них\59-14  Вахрина А.И северный фронт\ФОтоГРАФИИ\Ветеран  Вахрина 017.jpg"/>
          <p:cNvPicPr/>
          <p:nvPr/>
        </p:nvPicPr>
        <p:blipFill>
          <a:blip r:embed="rId2"/>
          <a:stretch/>
        </p:blipFill>
        <p:spPr>
          <a:xfrm>
            <a:off x="468360" y="836640"/>
            <a:ext cx="4103640" cy="268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140000" y="404640"/>
            <a:ext cx="4679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 после ухода на заслуженный отдых, не стала сидеть в стенах квартиры. Избиралась членом Президиума Совета ветеранов города Нефтеюганска, была активным участником в работе Совета ветеранов по месту жительства в городе Нефтеюганске, 10 лет пела в хоре ветеранов города, посещая Клуб фронтовых друзей, собирала документы, вырезки из газет и мечтала открыть с мужем в своей квартире музей фронтовых друзей. Но планам не суждено было осуществиться.  В 1991 году Анна Ильинична стала вдовой. На одного ветерана Великой Отечественной войны стало меньше – умер муж, Егор Степанович Вахрин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Содержимое 18"/>
          <p:cNvSpPr/>
          <p:nvPr/>
        </p:nvSpPr>
        <p:spPr>
          <a:xfrm>
            <a:off x="468360" y="3500280"/>
            <a:ext cx="4032360" cy="1584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хрина Анна Ильинична среди участников парада, в честь Дня Победы. Первый ряд, слева направо: Макарова Анна Лаврентьевна, Вахрина Анна Ильинична, Нестерова Анастасия Григорьевна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второй ряд: не установлены). 2003 год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фонд № 59,  опись №1, ед. хр. №201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Содержимое 4"/>
          <p:cNvSpPr/>
          <p:nvPr/>
        </p:nvSpPr>
        <p:spPr>
          <a:xfrm>
            <a:off x="468360" y="4437000"/>
            <a:ext cx="8136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За свои боевые заслуги перед Родиной и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многолетний добросовестный труд Анна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льинична Вахрина удостоена многочисленных наград, ей вручено множество грамот и благодарностей. Приятно через многие годы после военных лет получать их из рук молодого поколения. Значит, всё было не зря, если о ней помнят. С годами Анне Ильиничне понадобилась помощь родных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 она переехала к сыну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3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1434600" y="404640"/>
            <a:ext cx="71694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Фронтовые награды Анны Ильиничны: Орден Отечественной войны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степени;  медаль «За победу над Германией»; юбилейные медали в честь  годовщин Дня Победы в Отечественной войне; юбилейная медаль «70 лет Вооруженных Сил»; юбилейная медаль «Маршал Советского Союза Жуков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 свою безупречную  педагогическую работу Анна Ильинична Вахрина была удостоена: грамоты Министерства просвещения; награждена значком «Отличник народного просвещения»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несена в «Книгу трудовой славы города»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дминистрациями школ, в которых работала Анна Ильинична постоянно поощрялась за добросовестное отношение к своей работе и творческий подход к преподаванию предмета и вклад в развитие просвещения. Это грамоты  за умелую организаторскую работу; за внедрение кабинетной системы; за распространение своего опыта среди учителей; за успешную  учебно-воспитательную работу на протяжении   многих  лет; за достигнутые успехи в преподавательской деятельности; за активное участие в жизни города Нефтеюганс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499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споминания Анны Ильинично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11280" y="1341000"/>
            <a:ext cx="4032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rbel"/>
              </a:rPr>
              <a:t>        </a:t>
            </a:r>
            <a:r>
              <a:rPr b="1" lang="ru-RU" sz="2800" spc="-1" strike="noStrike">
                <a:solidFill>
                  <a:srgbClr val="000099"/>
                </a:solidFill>
                <a:latin typeface="Corbel"/>
              </a:rPr>
              <a:t>Наше поколение воспитывала школа, комсомол, пионерская организация. Учили любить Родину, быть скромным, уважительным к старшим. Каким нас воспитали – показала Отечественная вой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3" name="Picture 5" descr="C:\ДОКУМЕНТЫ\ОБРАЗЦЫ ДОКУМЕНТОВ\ЛП\59 Ветераны\печатали про них\59-14  Вахрина А.И северный фронт\ФОтоГРАФИИ\Ветеран  Вахрина 013.jpg"/>
          <p:cNvPicPr/>
          <p:nvPr/>
        </p:nvPicPr>
        <p:blipFill>
          <a:blip r:embed="rId2"/>
          <a:stretch/>
        </p:blipFill>
        <p:spPr>
          <a:xfrm>
            <a:off x="539640" y="1351080"/>
            <a:ext cx="34560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97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C:\ДОКУМЕНТЫ\ОБРАЗЦЫ ДОКУМЕНТОВ\ЛП\59 Ветераны\печатали про них\59-14  Вахрина А.И северный фронт\Ф. 59 оп. 14 Вахрина А.И. док-и скан\Доп. фото\2010 год.jpg"/>
          <p:cNvPicPr/>
          <p:nvPr/>
        </p:nvPicPr>
        <p:blipFill>
          <a:blip r:embed="rId2"/>
          <a:stretch/>
        </p:blipFill>
        <p:spPr>
          <a:xfrm>
            <a:off x="5435640" y="333360"/>
            <a:ext cx="3139920" cy="480060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5"/>
          <p:cNvGrpSpPr/>
          <p:nvPr/>
        </p:nvGrpSpPr>
        <p:grpSpPr>
          <a:xfrm>
            <a:off x="684360" y="549360"/>
            <a:ext cx="2874960" cy="5903640"/>
            <a:chOff x="684360" y="549360"/>
            <a:chExt cx="2874960" cy="5903640"/>
          </a:xfrm>
        </p:grpSpPr>
        <p:pic>
          <p:nvPicPr>
            <p:cNvPr id="417" name="Picture 6" descr="Ветеран  Вахрина"/>
            <p:cNvPicPr/>
            <p:nvPr/>
          </p:nvPicPr>
          <p:blipFill>
            <a:blip r:embed="rId3"/>
            <a:stretch/>
          </p:blipFill>
          <p:spPr>
            <a:xfrm>
              <a:off x="684360" y="549360"/>
              <a:ext cx="2874960" cy="43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7"/>
            <p:cNvSpPr/>
            <p:nvPr/>
          </p:nvSpPr>
          <p:spPr>
            <a:xfrm>
              <a:off x="684360" y="4977360"/>
              <a:ext cx="1944000" cy="14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c0000"/>
                  </a:solidFill>
                  <a:latin typeface="Calibri"/>
                </a:rPr>
                <a:t>Ефрейтор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c0000"/>
                  </a:solidFill>
                  <a:latin typeface="Calibri"/>
                </a:rPr>
                <a:t>Каменских Анна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c0000"/>
                  </a:solidFill>
                  <a:latin typeface="Calibri"/>
                </a:rPr>
                <a:t>1943 год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9" name="Rectangle 7"/>
          <p:cNvSpPr/>
          <p:nvPr/>
        </p:nvSpPr>
        <p:spPr>
          <a:xfrm>
            <a:off x="6443640" y="4941720"/>
            <a:ext cx="2160720" cy="14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Calibri"/>
              </a:rPr>
              <a:t>Ветеран Вахрина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Calibri"/>
              </a:rPr>
              <a:t>Анна Ильиничн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Calibri"/>
              </a:rPr>
              <a:t>2003 год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304720" cy="380196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протяжении всех лет жизни Анна Ильинична всегда являлась  примером жизнелюбия, стремления к миру, доброте.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Она предано любила свою Родину, свою землю и людей труда  и верила, что новые поколения подхватят эту любовь и пронесут ее с собой далеко, в будущее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Прямоугольник 12"/>
          <p:cNvSpPr/>
          <p:nvPr/>
        </p:nvSpPr>
        <p:spPr>
          <a:xfrm>
            <a:off x="2627280" y="4076640"/>
            <a:ext cx="3816360" cy="2284200"/>
          </a:xfrm>
          <a:prstGeom prst="rect">
            <a:avLst/>
          </a:prstGeom>
          <a:solidFill>
            <a:srgbClr val="a9d7e2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на войне быть страшноват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а была и вам скажу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жить в пехоте, быть солдатом,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уднее службы не найду!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помню фронт не из газет,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из кино, не понаслышке,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 прошла в кирзовых сапогах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года целых и без передышки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\\Priemnaya\обмен\305 КАБИНЕТ\финал 3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4" name="Скругленный прямоугольник 2"/>
          <p:cNvSpPr/>
          <p:nvPr/>
        </p:nvSpPr>
        <p:spPr>
          <a:xfrm>
            <a:off x="5435640" y="4365720"/>
            <a:ext cx="3384360" cy="2087640"/>
          </a:xfrm>
          <a:prstGeom prst="roundRect">
            <a:avLst>
              <a:gd name="adj" fmla="val 16667"/>
            </a:avLst>
          </a:prstGeom>
          <a:solidFill>
            <a:srgbClr val="eba7a8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я подготовлена на основании  архивных документов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АФ № 59 «Участники Великой Отечественной войны», опись № 14 «Вахрина Анна Ильинична», фотодокументов фотофонда  отдела по делам архивов департамента по делам администрации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орода Нефтеюганска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896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ождение и детство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1163520"/>
            <a:ext cx="788832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89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етс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542880" y="1163520"/>
            <a:ext cx="7918560" cy="114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896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етство и юность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Прямоугольник 11" descr=""/>
          <p:cNvPicPr/>
          <p:nvPr/>
        </p:nvPicPr>
        <p:blipFill>
          <a:blip r:embed="rId2"/>
          <a:stretch/>
        </p:blipFill>
        <p:spPr>
          <a:xfrm>
            <a:off x="506520" y="1176480"/>
            <a:ext cx="788184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896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Юность и молодость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Прямоугольник 11" descr=""/>
          <p:cNvPicPr/>
          <p:nvPr/>
        </p:nvPicPr>
        <p:blipFill>
          <a:blip r:embed="rId2"/>
          <a:stretch/>
        </p:blipFill>
        <p:spPr>
          <a:xfrm>
            <a:off x="506520" y="1176480"/>
            <a:ext cx="7954920" cy="75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89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ДОКУМЕНТЫ\ОБРАЗЦЫ ДОКУМЕНТОВ\ЛП\59 Ветераны\печатали про них\59-14  Вахрина А.И северный фронт\Ф. 59 оп. 14 Вахрина А.И. док-и скан\Доп. фото\Вахрина 003.jpg"/>
          <p:cNvPicPr/>
          <p:nvPr/>
        </p:nvPicPr>
        <p:blipFill>
          <a:blip r:embed="rId2"/>
          <a:stretch/>
        </p:blipFill>
        <p:spPr>
          <a:xfrm>
            <a:off x="1332000" y="549360"/>
            <a:ext cx="2663640" cy="401796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11" descr=""/>
          <p:cNvPicPr/>
          <p:nvPr/>
        </p:nvPicPr>
        <p:blipFill>
          <a:blip r:embed="rId3"/>
          <a:stretch/>
        </p:blipFill>
        <p:spPr>
          <a:xfrm>
            <a:off x="506520" y="1036800"/>
            <a:ext cx="8313480" cy="55832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Студенческая молодость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89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олодость трудов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Прямоугольник 11" descr=""/>
          <p:cNvPicPr/>
          <p:nvPr/>
        </p:nvPicPr>
        <p:blipFill>
          <a:blip r:embed="rId2"/>
          <a:stretch/>
        </p:blipFill>
        <p:spPr>
          <a:xfrm>
            <a:off x="506520" y="1054080"/>
            <a:ext cx="78818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\\Priemnaya\обмен\305 КАБИНЕТ\20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896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498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олодость военн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Прямоугольник 11" descr=""/>
          <p:cNvPicPr/>
          <p:nvPr/>
        </p:nvPicPr>
        <p:blipFill>
          <a:blip r:embed="rId2"/>
          <a:stretch/>
        </p:blipFill>
        <p:spPr>
          <a:xfrm>
            <a:off x="487440" y="835200"/>
            <a:ext cx="790092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9:27:09Z</dcterms:created>
  <dc:creator>Admin</dc:creator>
  <dc:description/>
  <dc:language>en-US</dc:language>
  <cp:lastModifiedBy>Duma</cp:lastModifiedBy>
  <dcterms:modified xsi:type="dcterms:W3CDTF">2015-04-09T09:49:32Z</dcterms:modified>
  <cp:revision>34</cp:revision>
  <dc:subject/>
  <dc:title>Вахрина Анна Ильинич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230000000000010262800207f7000400038000</vt:lpwstr>
  </property>
</Properties>
</file>