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png" ContentType="image/png"/>
  <Override PartName="/ppt/media/image60.jpeg" ContentType="image/jpeg"/>
  <Override PartName="/ppt/media/image63.jpeg" ContentType="image/jpeg"/>
  <Override PartName="/ppt/media/image66.jpeg" ContentType="image/jpeg"/>
  <Override PartName="/ppt/media/image65.jpeg" ContentType="image/jpeg"/>
  <Override PartName="/ppt/media/image8.jpeg" ContentType="image/jpeg"/>
  <Override PartName="/ppt/media/image62.jpeg" ContentType="image/jpeg"/>
  <Override PartName="/ppt/media/image19.png" ContentType="image/png"/>
  <Override PartName="/ppt/media/image21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50.jpeg" ContentType="image/jpeg"/>
  <Override PartName="/ppt/media/image16.jpeg" ContentType="image/jpeg"/>
  <Override PartName="/ppt/media/image26.jpeg" ContentType="image/jpeg"/>
  <Override PartName="/ppt/media/image23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28E-2C25-48DC-9E2B-1008CBD8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33E-A1A8-4EE4-B9AF-B9C0E11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B64-FF02-4A10-815B-1F883956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0DD-F060-42E0-A00B-5326081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B0BD-99C4-4B65-9E70-AB59BADA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8DC-7700-46EB-944E-7C9FCE9B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18B-AF52-48CE-9DA0-9904521C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7AA3-6DFD-434E-8530-5F3857D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61A5-C873-4EF8-AA2E-E0E783D1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1C4-DB70-4D26-BBAB-6735A9E8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28D5-F53D-45EB-B3E8-93C7CE86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672-6767-4BCA-87E9-F1C1C68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9FC-46F9-4C57-AE02-2C170DE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586-3B1B-4F08-95DD-ECEA653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72D2-BC60-4EEA-8200-575949EC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87D-6D10-463D-BD78-E69F8AA0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1DF-E810-4769-80AC-4AE63C31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957B-14E2-4BA4-A692-561BDD76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30E4-F26B-4B49-AAE0-76737E1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DBCE-B25F-467B-99EF-1FC5ED6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F340-9E2A-462B-9B4E-79CD004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09F7-BBC4-49F0-8955-849BB5C9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2FC-CD51-49A7-BCB4-9B3351A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857A-A428-4E07-9BF7-9731C712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30CE-F16B-4D3C-84DE-975553D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662F-530D-4526-A6B5-F3E0E00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29EB-27A8-4CEE-BCEA-F1C318E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C14F-77E3-4390-AB39-AD6E647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0D66-954F-439B-B684-FA6F46C8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FB5B-F265-425D-A059-F94BAF8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A0E6-9B94-43F7-B31E-CF7F0B67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A8CB-6A18-4975-98E4-1B9C3A0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F0D9-F88E-4536-A1D7-D3CB0779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3D5-09CB-47CA-A45E-935E904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80D4-B520-494A-8C40-E595296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7ED7-62DC-4050-893B-B9EEBCD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45FB-EC16-4842-8B38-548AB170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22CB-265F-4BEE-AF68-34C6BD5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1F436-7C20-4E92-9FDE-8B098B3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B0EE-2CDD-4F50-A56D-4C6301D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9B8C-E6F1-4D83-AD15-EA0768E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AF6A-A586-4042-8EE7-7366859D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02EB-70C5-4F18-A555-AC388206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BAD9-2C5D-418F-848B-BF77FA50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574-AB43-4AB7-840A-A959129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D204-0788-453C-8E13-88DA14CD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BA3C-F219-4622-B13A-FE784546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DE5BB-466B-455C-9D69-D43C7BC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C710-5505-4654-810A-AD71245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606B-CF83-4C03-96A3-4F4B7746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9E5D0-37FF-4B7B-B56B-277B2ED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D925-DD48-484D-A4D4-A811F8F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8A80-6F01-4442-9283-B75B4F4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143A-5E0C-4602-8B6A-D0258699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E194-9CD0-46F8-8F25-F076ABD9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033-983E-4D0E-9C70-54EA6DF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DE00-8223-4DF4-A6CC-A5FA1634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342-0F0A-4651-BFBD-ACE265CA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069-D4FB-458B-BE09-F102B2E3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CC9-09A4-4B0C-96AE-FCF703F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B31-586F-4A58-8C2C-332E1EA56EE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ABC4-E42D-4F83-92B4-BA9C4EC98A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9C1-CC84-423C-BBBB-F4737912D15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3A6-A3E5-4D68-A28B-2B76DC8F12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D5FE-6345-439E-803C-53C8649748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250920" y="5057640"/>
            <a:ext cx="5400720" cy="1800360"/>
          </a:xfrm>
          <a:prstGeom prst="roundRect">
            <a:avLst>
              <a:gd name="adj" fmla="val 16667"/>
            </a:avLst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астнику Великой Отечественной войны Макаровой Анне Лаврентьевне посвящается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Скругленный прямоугольник 6"/>
          <p:cNvSpPr/>
          <p:nvPr/>
        </p:nvSpPr>
        <p:spPr>
          <a:xfrm>
            <a:off x="2987640" y="404640"/>
            <a:ext cx="5688000" cy="1944720"/>
          </a:xfrm>
          <a:prstGeom prst="roundRect">
            <a:avLst>
              <a:gd name="adj" fmla="val 16667"/>
            </a:avLst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й героине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2484360" y="2349360"/>
            <a:ext cx="5112000" cy="2664000"/>
          </a:xfrm>
          <a:prstGeom prst="roundRect">
            <a:avLst>
              <a:gd name="adj" fmla="val 16667"/>
            </a:avLst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аш подвиг в сердце сохраним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C:\ДОКУМЕНТЫ\ОБРАЗЦЫ ДОКУМЕНТОВ\ЛП\59 Ветераны\печатали про них\59-12 Макарова А.Л медсестра\ф.59 оп. 12 Макарова А.Л док-и скан\11 Статьи из газет о жизни и трудовой деятельности\ф.59 оп.12 ед.хр. 11 лист 11.jpg"/>
          <p:cNvPicPr/>
          <p:nvPr/>
        </p:nvPicPr>
        <p:blipFill>
          <a:blip r:embed="rId2"/>
          <a:stretch/>
        </p:blipFill>
        <p:spPr>
          <a:xfrm>
            <a:off x="144360" y="189000"/>
            <a:ext cx="8602920" cy="5788080"/>
          </a:xfrm>
          <a:prstGeom prst="rect">
            <a:avLst/>
          </a:prstGeom>
          <a:ln w="0">
            <a:noFill/>
          </a:ln>
        </p:spPr>
      </p:pic>
      <p:sp>
        <p:nvSpPr>
          <p:cNvPr id="264" name="Объект 5"/>
          <p:cNvSpPr/>
          <p:nvPr/>
        </p:nvSpPr>
        <p:spPr>
          <a:xfrm>
            <a:off x="2771640" y="6021360"/>
            <a:ext cx="6193080" cy="836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11 (Записи и исправления сделаны рукой А.Л.Макаровой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19.jpg"/>
          <p:cNvPicPr/>
          <p:nvPr/>
        </p:nvPicPr>
        <p:blipFill>
          <a:blip r:embed="rId2"/>
          <a:stretch/>
        </p:blipFill>
        <p:spPr>
          <a:xfrm>
            <a:off x="0" y="0"/>
            <a:ext cx="5641920" cy="364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1.jpg"/>
          <p:cNvPicPr/>
          <p:nvPr/>
        </p:nvPicPr>
        <p:blipFill>
          <a:blip r:embed="rId3"/>
          <a:stretch/>
        </p:blipFill>
        <p:spPr>
          <a:xfrm>
            <a:off x="2195640" y="2470320"/>
            <a:ext cx="6578640" cy="4387680"/>
          </a:xfrm>
          <a:prstGeom prst="rect">
            <a:avLst/>
          </a:prstGeom>
          <a:ln w="0">
            <a:noFill/>
          </a:ln>
        </p:spPr>
      </p:pic>
      <p:sp>
        <p:nvSpPr>
          <p:cNvPr id="268" name="Объект 5"/>
          <p:cNvSpPr/>
          <p:nvPr/>
        </p:nvSpPr>
        <p:spPr>
          <a:xfrm>
            <a:off x="6227640" y="765000"/>
            <a:ext cx="2521080" cy="2087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2 «Макарова Анна Лаврентьевна», единица хранения №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Объект 5"/>
          <p:cNvSpPr/>
          <p:nvPr/>
        </p:nvSpPr>
        <p:spPr>
          <a:xfrm>
            <a:off x="0" y="3500280"/>
            <a:ext cx="2268360" cy="10083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карова Анна Лаврентьевна (слева) с подруг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503280" y="404640"/>
            <a:ext cx="846144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До 1946 года госпиталь, а вместе с ним и молодая сестричка, «кочевали» за частями Советской Армии, спасая жизни солдата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Из воспоминаний: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«Когда снимали повязки, наложенные в санбате, в ранах солдат зачастую ползали черви. Пару раз я падала в обморок от таких откровений фронтовой медицины. Но потом пришлось привык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мы  привыкли, привыкли, но не очерствели. Кормили раненых, мыли их, брили, стригли, перекладывали с боку на бок, меняли повязки, отдирая кровавые и гнойные бинты, убирали нечистоты, писали письма на родину солдат, ободряли словом, крутили из махорки «козьи ножки» и прикуривали их, давясь ядрёным дымом, пели им песни, выводили на прогулки. И тетка, и мамка, и поломойка... Это была круговерть нашей жизни, в которой  не оставалось времени на себя. Мы принадлежали госпиталю без остатка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тому мы даже спали без сн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Объект 5"/>
          <p:cNvSpPr/>
          <p:nvPr/>
        </p:nvSpPr>
        <p:spPr>
          <a:xfrm>
            <a:off x="3851280" y="5732640"/>
            <a:ext cx="5113440" cy="11253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2 «Макарова Анна Лаврентьевна», единица хранения №4 «Автобиография». Март 2007 г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6.jpg"/>
          <p:cNvPicPr/>
          <p:nvPr/>
        </p:nvPicPr>
        <p:blipFill>
          <a:blip r:embed="rId3"/>
          <a:stretch/>
        </p:blipFill>
        <p:spPr>
          <a:xfrm>
            <a:off x="324000" y="765000"/>
            <a:ext cx="8532720" cy="5886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7"/>
          <p:cNvSpPr/>
          <p:nvPr/>
        </p:nvSpPr>
        <p:spPr>
          <a:xfrm>
            <a:off x="324000" y="260280"/>
            <a:ext cx="8496000" cy="792360"/>
          </a:xfrm>
          <a:prstGeom prst="rect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обеду над фашистами приближали все: командиры и солдаты, труженики тыла и конечно же врачи и медсест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Объект 5"/>
          <p:cNvSpPr/>
          <p:nvPr/>
        </p:nvSpPr>
        <p:spPr>
          <a:xfrm>
            <a:off x="324000" y="6242040"/>
            <a:ext cx="8496000" cy="6159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5.jpg"/>
          <p:cNvPicPr/>
          <p:nvPr/>
        </p:nvPicPr>
        <p:blipFill>
          <a:blip r:embed="rId3"/>
          <a:stretch/>
        </p:blipFill>
        <p:spPr>
          <a:xfrm>
            <a:off x="0" y="-53172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283" name="Объект 5"/>
          <p:cNvSpPr/>
          <p:nvPr/>
        </p:nvSpPr>
        <p:spPr>
          <a:xfrm>
            <a:off x="0" y="5516640"/>
            <a:ext cx="6624720" cy="5443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о трудностей пришлось испытать сестричке Аннушке за годы вой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ждый день, каждый час эти долгие военные годы у нее перед глазами стояли раненные солдаты – это кровь, это боль, это смерть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Из воспоминаний: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«Страшно становилось, когда десятые сутки кряду фронт изрыгал поток раненых, а в госпитале уже кончались медикаменты, лекар­ства, не было перевязочных материалов и анестетиков. Снимали санбатовские бинты, а там в ранах — грязь, земля, трава, шинель­ное сукно, щепки. Жуть! Когда медлить с операцией было нельзя, раненых оперировали на «крикаине»: давали сто граммов спирта, привязывали покрепче за руки, за ноги и — кричи, сколько хочешь. И не только раненые кричали, но и хирурги. Закалка для нервов еще та... Кстати сказать, хорошими хирургами на фронте становились все. Практика была жесткой, послаблений не могло быть..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неных было особенно много после наших наступлений. Сутками стояли у операционных столов врачи и медсёстры. Не хватало бинтов, лекарств, а когда не хватало крови, Анна сдавала сво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Из воспоминаний: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800000"/>
                </a:solidFill>
                <a:latin typeface="Verdana"/>
              </a:rPr>
              <a:t>Питание раненых в госпитале было поставлено на должную высо­ту.. Персонал же часто довольствовался малым: вареной пшеницей, которую мы терпеливо пережевывали в клей. Слезы навертывались на глаза, когда раненые, глядя на нас почти умоляюще, совали нам в руки то булочку или кусочек хлебушка...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2" descr="ЛД КОФ 583-8 Благодарность на имя Макаровой А"/>
          <p:cNvPicPr/>
          <p:nvPr/>
        </p:nvPicPr>
        <p:blipFill>
          <a:blip r:embed="rId2"/>
          <a:stretch/>
        </p:blipFill>
        <p:spPr>
          <a:xfrm>
            <a:off x="539640" y="1341360"/>
            <a:ext cx="5977080" cy="3409920"/>
          </a:xfrm>
          <a:prstGeom prst="rect">
            <a:avLst/>
          </a:prstGeom>
          <a:ln w="0">
            <a:noFill/>
          </a:ln>
        </p:spPr>
      </p:pic>
      <p:sp>
        <p:nvSpPr>
          <p:cNvPr id="289" name="Объект 5"/>
          <p:cNvSpPr/>
          <p:nvPr/>
        </p:nvSpPr>
        <p:spPr>
          <a:xfrm>
            <a:off x="6300720" y="2349360"/>
            <a:ext cx="2592360" cy="15112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, говорят, война – не женская работа. А приходилось воевать молоденьким девочкам, на своих хрупких плечах выносить все тяжести военных будней.  Такие же девчушки, как Аннушка своими нежными ручками ковали нашу Побе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Из воспоминаний:</a:t>
            </a:r>
            <a:r>
              <a:rPr b="0" i="1" lang="ru-RU" sz="2000" spc="-1" strike="noStrike">
                <a:solidFill>
                  <a:srgbClr val="800000"/>
                </a:solidFill>
                <a:latin typeface="Verdana"/>
              </a:rPr>
              <a:t> «Во время наступлений на фронте дежурить приходилось по не­скольку суток кряду. Голову приклонить некогда — раненые шли непрерывным потоком. Стоны, крики, рыдания, проклятия — от­чаяние и боль людей, уцелевших в аду передовой. Когда их отмыва­ли от окопной грязи и кровавой коросты, остригал, то становилось видно, что на белых госпитальных простынях лежат худые, измученные мальчишки, чьи тела были жестоко покалечены фронтом. Но они считали себя счаст­ливчиками, ведь они  — выжили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(По материалам издания Алексея Сухановского "Стально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поколение. Живая история фронтовиков Югры", 2010 г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04560" y="1785600"/>
            <a:ext cx="7597800" cy="2862360"/>
          </a:xfrm>
          <a:prstGeom prst="rect">
            <a:avLst/>
          </a:prstGeom>
          <a:solidFill>
            <a:srgbClr val="771f28"/>
          </a:solidFill>
          <a:ln w="9360">
            <a:solidFill>
              <a:srgbClr val="f07f09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чилась война 1945 г. победный м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был сам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частливый день у всех оставшихся в жив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же раненые бросали костыли пытались плясать, плакал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ялись, обнимались, это была великая рад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 декабря 1946 года, когда последний раненый бы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правлен на Родину, нас демобилизова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чалась гражданская жизнь: хлебные карточ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, появилась семья, де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Жила как все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5"/>
          <p:cNvSpPr/>
          <p:nvPr/>
        </p:nvSpPr>
        <p:spPr>
          <a:xfrm>
            <a:off x="468360" y="765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воспоминаний Анны Лаврентьевны Макаров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971280" y="692280"/>
            <a:ext cx="7885080" cy="1077840"/>
          </a:xfrm>
          <a:prstGeom prst="rect">
            <a:avLst/>
          </a:prstGeom>
          <a:solidFill>
            <a:srgbClr val="771f28"/>
          </a:solidFill>
          <a:ln w="9360">
            <a:solidFill>
              <a:srgbClr val="f07f09"/>
            </a:solidFill>
            <a:miter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лько бы лет ни прошло, память человеческая цепкая помнит все пережито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ь и кровь, отчаяние и надежда, вера в спасение и муки во имя этого спасения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250920" y="260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воспоминаний Анны Лаврентьевны Макаров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250920" y="1916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воспоминаний Анны Лаврентьевны Макаров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1042920" y="2414160"/>
            <a:ext cx="7777080" cy="2770920"/>
          </a:xfrm>
          <a:prstGeom prst="rect">
            <a:avLst/>
          </a:prstGeom>
          <a:solidFill>
            <a:srgbClr val="771f28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Я была редактором «Боевого листка» своего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-го хирургического отделения. Очень много было раненых, когда наши войска наступали, по нескольку суток работали без сна, ночью дежурили у тяжело больных, так они видели, что до чего усталые мы, а им боль спать не дает так просили: «Ты, сестричка поспи, я разбужу, если кто будет кричать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Я благодарна судьбе, что в эти тяжелые, грозные годы мне не пришлось держать в руках оружие и не убивать. В моей службе не было ничего героического, но я твердо знала, что все, что я делаю, было необходимо и нуж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75680" cy="6905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карова Анна </a:t>
            </a:r>
            <a:r>
              <a:rPr b="1" lang="ru-RU" sz="4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Лаврентьевн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50920" y="371628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-участник Вели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ечественной войн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валер орд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ечественной войны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тепе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6.jpg"/>
          <p:cNvPicPr/>
          <p:nvPr/>
        </p:nvPicPr>
        <p:blipFill>
          <a:blip r:embed="rId3"/>
          <a:stretch/>
        </p:blipFill>
        <p:spPr>
          <a:xfrm>
            <a:off x="4352760" y="0"/>
            <a:ext cx="4791240" cy="3541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12.jpg"/>
          <p:cNvPicPr/>
          <p:nvPr/>
        </p:nvPicPr>
        <p:blipFill>
          <a:blip r:embed="rId4"/>
          <a:stretch/>
        </p:blipFill>
        <p:spPr>
          <a:xfrm>
            <a:off x="0" y="1268280"/>
            <a:ext cx="4668840" cy="336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16.jpg"/>
          <p:cNvPicPr/>
          <p:nvPr/>
        </p:nvPicPr>
        <p:blipFill>
          <a:blip r:embed="rId5"/>
          <a:stretch/>
        </p:blipFill>
        <p:spPr>
          <a:xfrm>
            <a:off x="3132000" y="3176640"/>
            <a:ext cx="5078520" cy="3681360"/>
          </a:xfrm>
          <a:prstGeom prst="rect">
            <a:avLst/>
          </a:prstGeom>
          <a:ln w="0">
            <a:noFill/>
          </a:ln>
        </p:spPr>
      </p:pic>
      <p:sp>
        <p:nvSpPr>
          <p:cNvPr id="306" name="Объект 5"/>
          <p:cNvSpPr/>
          <p:nvPr/>
        </p:nvSpPr>
        <p:spPr>
          <a:xfrm>
            <a:off x="0" y="0"/>
            <a:ext cx="3852720" cy="10476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4.jpg"/>
          <p:cNvPicPr/>
          <p:nvPr/>
        </p:nvPicPr>
        <p:blipFill>
          <a:blip r:embed="rId3"/>
          <a:stretch/>
        </p:blipFill>
        <p:spPr>
          <a:xfrm>
            <a:off x="4624560" y="0"/>
            <a:ext cx="4519440" cy="3060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7.jpg"/>
          <p:cNvPicPr/>
          <p:nvPr/>
        </p:nvPicPr>
        <p:blipFill>
          <a:blip r:embed="rId4"/>
          <a:stretch/>
        </p:blipFill>
        <p:spPr>
          <a:xfrm>
            <a:off x="4371840" y="3589200"/>
            <a:ext cx="4772160" cy="3268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11.jpg"/>
          <p:cNvPicPr/>
          <p:nvPr/>
        </p:nvPicPr>
        <p:blipFill>
          <a:blip r:embed="rId5"/>
          <a:stretch/>
        </p:blipFill>
        <p:spPr>
          <a:xfrm>
            <a:off x="-181080" y="3589200"/>
            <a:ext cx="4824360" cy="3268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7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15.jpg"/>
          <p:cNvPicPr/>
          <p:nvPr/>
        </p:nvPicPr>
        <p:blipFill>
          <a:blip r:embed="rId6"/>
          <a:stretch/>
        </p:blipFill>
        <p:spPr>
          <a:xfrm>
            <a:off x="0" y="0"/>
            <a:ext cx="4643280" cy="3060720"/>
          </a:xfrm>
          <a:prstGeom prst="rect">
            <a:avLst/>
          </a:prstGeom>
          <a:ln w="0">
            <a:noFill/>
          </a:ln>
        </p:spPr>
      </p:pic>
      <p:sp>
        <p:nvSpPr>
          <p:cNvPr id="314" name="Объект 5"/>
          <p:cNvSpPr/>
          <p:nvPr/>
        </p:nvSpPr>
        <p:spPr>
          <a:xfrm>
            <a:off x="0" y="3068640"/>
            <a:ext cx="9144000" cy="6159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2.jpg"/>
          <p:cNvPicPr/>
          <p:nvPr/>
        </p:nvPicPr>
        <p:blipFill>
          <a:blip r:embed="rId3"/>
          <a:stretch/>
        </p:blipFill>
        <p:spPr>
          <a:xfrm>
            <a:off x="3736800" y="3157560"/>
            <a:ext cx="5407200" cy="3700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3.jpg"/>
          <p:cNvPicPr/>
          <p:nvPr/>
        </p:nvPicPr>
        <p:blipFill>
          <a:blip r:embed="rId4"/>
          <a:stretch/>
        </p:blipFill>
        <p:spPr>
          <a:xfrm>
            <a:off x="1547640" y="3114720"/>
            <a:ext cx="5589720" cy="374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5.jpg"/>
          <p:cNvPicPr/>
          <p:nvPr/>
        </p:nvPicPr>
        <p:blipFill>
          <a:blip r:embed="rId5"/>
          <a:stretch/>
        </p:blipFill>
        <p:spPr>
          <a:xfrm>
            <a:off x="-757080" y="3170160"/>
            <a:ext cx="5522760" cy="3687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8.jpg"/>
          <p:cNvPicPr/>
          <p:nvPr/>
        </p:nvPicPr>
        <p:blipFill>
          <a:blip r:embed="rId6"/>
          <a:stretch/>
        </p:blipFill>
        <p:spPr>
          <a:xfrm>
            <a:off x="-2916360" y="3139920"/>
            <a:ext cx="5486400" cy="3718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9.jpg"/>
          <p:cNvPicPr/>
          <p:nvPr/>
        </p:nvPicPr>
        <p:blipFill>
          <a:blip r:embed="rId7"/>
          <a:stretch/>
        </p:blipFill>
        <p:spPr>
          <a:xfrm>
            <a:off x="4473720" y="0"/>
            <a:ext cx="4670280" cy="3214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C:\ДОКУМЕНТЫ\ОБРАЗЦЫ ДОКУМЕНТОВ\ЛП\59 Ветераны\печатали про них\59-12 Макарова А.Л медсестра\ф.59 оп. 12 Макарова А.Л док-и скан\6 Удостоверения к правительственным наградам\ф.59 оп.12 ед.хр. 6 лист 13.jpg"/>
          <p:cNvPicPr/>
          <p:nvPr/>
        </p:nvPicPr>
        <p:blipFill>
          <a:blip r:embed="rId8"/>
          <a:stretch/>
        </p:blipFill>
        <p:spPr>
          <a:xfrm>
            <a:off x="0" y="0"/>
            <a:ext cx="4572000" cy="3147840"/>
          </a:xfrm>
          <a:prstGeom prst="rect">
            <a:avLst/>
          </a:prstGeom>
          <a:ln w="0">
            <a:noFill/>
          </a:ln>
        </p:spPr>
      </p:pic>
      <p:sp>
        <p:nvSpPr>
          <p:cNvPr id="324" name="Объект 5"/>
          <p:cNvSpPr/>
          <p:nvPr/>
        </p:nvSpPr>
        <p:spPr>
          <a:xfrm>
            <a:off x="0" y="0"/>
            <a:ext cx="9144000" cy="3999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1810"/>
                </a:solidFill>
                <a:latin typeface="Verdana"/>
              </a:rPr>
              <a:t>Трудовая жизн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469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 К Е Т Н А Я   И Н Ф О Р М А Ц И 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Место жительства, трудовая деятельност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ботала на Западной Украине в Ивано-Франковской области, в г. Катуш в детской поликлинике. После смерти муже переехала с детьми  г.Читу, работала  в поликлинике №1  рентгенолаборантом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ефтеюганске с 1981 года. Работала в детской школе искус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Обществе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является членом городского Совета ветеранов войны и труда, участник хора ветеранов, является председателем Совета ВОВ 10-го микрорайона с 1987 года, членом Президиума Совета ВОВ г.Нефтеюганс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удовые наград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знак «Отличник здравоохранения» ,Минздрава СССР (1967 г), золотая медаль  и  Диплом премии АБОПП им. Ю.А.Андропова (2005), благодарственные письма, почетные грам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ДОКУМЕНТЫ\ОБРАЗЦЫ ДОКУМЕНТОВ\ЛП\59 Ветераны\печатали про них\59-12 Макарова А.Л медсестра\ф.59 оп. 12 Макарова А.Л док-и скан\7 Удостоверение, справка о прохождении специализации по циклу флюрографии\ф.59 оп.12 ед.хр. 7лист 1.jpg"/>
          <p:cNvPicPr/>
          <p:nvPr/>
        </p:nvPicPr>
        <p:blipFill>
          <a:blip r:embed="rId3"/>
          <a:stretch/>
        </p:blipFill>
        <p:spPr>
          <a:xfrm>
            <a:off x="3803760" y="3195720"/>
            <a:ext cx="5340240" cy="3662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C:\ДОКУМЕНТЫ\ОБРАЗЦЫ ДОКУМЕНТОВ\ЛП\59 Ветераны\печатали про них\59-12 Макарова А.Л медсестра\ф.59 оп. 12 Макарова А.Л док-и скан\7 Удостоверение, справка о прохождении специализации по циклу флюрографии\ф.59 оп.12 ед.хр. 7лист 2.jpg"/>
          <p:cNvPicPr/>
          <p:nvPr/>
        </p:nvPicPr>
        <p:blipFill>
          <a:blip r:embed="rId4"/>
          <a:stretch/>
        </p:blipFill>
        <p:spPr>
          <a:xfrm>
            <a:off x="0" y="0"/>
            <a:ext cx="5148360" cy="3740040"/>
          </a:xfrm>
          <a:prstGeom prst="rect">
            <a:avLst/>
          </a:prstGeom>
          <a:ln w="0">
            <a:noFill/>
          </a:ln>
        </p:spPr>
      </p:pic>
      <p:sp>
        <p:nvSpPr>
          <p:cNvPr id="333" name="Объект 5"/>
          <p:cNvSpPr/>
          <p:nvPr/>
        </p:nvSpPr>
        <p:spPr>
          <a:xfrm>
            <a:off x="0" y="3357720"/>
            <a:ext cx="3995640" cy="11840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253040" y="272880"/>
            <a:ext cx="637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Объект 5"/>
          <p:cNvSpPr/>
          <p:nvPr/>
        </p:nvSpPr>
        <p:spPr>
          <a:xfrm>
            <a:off x="5148360" y="0"/>
            <a:ext cx="3995640" cy="4076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ной жизни А.Л.Макарова осталась навсегда верной Клятве Гиппократа и продолжила работу медицинской сестрой. Работала в хирургическом отделении, в детской консультации, потом в поликлинике. Постоянно повышая свой профессиональный уровень, анна лаврентевна хотела только одно: работать ради спасенья жизней и здоровья люд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ноголетний и добросовестный труд её неоднократно награждали почётными грамотами, объявляли благодарности. В апреле 1967 года А.Л.Макаровой было присвоено звание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ик здравоохранен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4" descr="Изображения 001"/>
          <p:cNvPicPr/>
          <p:nvPr/>
        </p:nvPicPr>
        <p:blipFill>
          <a:blip r:embed="rId2"/>
          <a:stretch/>
        </p:blipFill>
        <p:spPr>
          <a:xfrm>
            <a:off x="395280" y="260280"/>
            <a:ext cx="3657600" cy="2317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13.jpg"/>
          <p:cNvPicPr/>
          <p:nvPr/>
        </p:nvPicPr>
        <p:blipFill>
          <a:blip r:embed="rId3"/>
          <a:stretch/>
        </p:blipFill>
        <p:spPr>
          <a:xfrm>
            <a:off x="2124000" y="1916280"/>
            <a:ext cx="6705720" cy="450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4"/>
          <a:stretch/>
        </p:blipFill>
        <p:spPr>
          <a:xfrm rot="20950200">
            <a:off x="2363760" y="1441080"/>
            <a:ext cx="5049720" cy="1509840"/>
          </a:xfrm>
          <a:prstGeom prst="rect">
            <a:avLst/>
          </a:prstGeom>
          <a:ln w="0">
            <a:noFill/>
          </a:ln>
        </p:spPr>
      </p:pic>
      <p:sp>
        <p:nvSpPr>
          <p:cNvPr id="342" name="Объект 5"/>
          <p:cNvSpPr/>
          <p:nvPr/>
        </p:nvSpPr>
        <p:spPr>
          <a:xfrm>
            <a:off x="5003640" y="5373720"/>
            <a:ext cx="3996000" cy="11844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6,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12.jpg"/>
          <p:cNvPicPr/>
          <p:nvPr/>
        </p:nvPicPr>
        <p:blipFill>
          <a:blip r:embed="rId3"/>
          <a:stretch/>
        </p:blipFill>
        <p:spPr>
          <a:xfrm>
            <a:off x="0" y="0"/>
            <a:ext cx="4427640" cy="3133800"/>
          </a:xfrm>
          <a:prstGeom prst="rect">
            <a:avLst/>
          </a:prstGeom>
          <a:ln w="0">
            <a:noFill/>
          </a:ln>
        </p:spPr>
      </p:pic>
      <p:sp>
        <p:nvSpPr>
          <p:cNvPr id="346" name="Объект 5"/>
          <p:cNvSpPr/>
          <p:nvPr/>
        </p:nvSpPr>
        <p:spPr>
          <a:xfrm>
            <a:off x="4500720" y="0"/>
            <a:ext cx="4643280" cy="9810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6,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2" descr="C:\ДОКУМЕНТЫ\ОБРАЗЦЫ ДОКУМЕНТОВ\ЛП\59 Ветераны\печатали про них\59-12 Макарова А.Л медсестра\ф.59 оп. 12 Макарова А.Л док-и скан\10 Пенсионное удостоверение, удотоверение Ветеран Труда, справка об инвалидности\ф.59 оп.12 ед.хр. 10 лист 3.jpg"/>
          <p:cNvPicPr/>
          <p:nvPr/>
        </p:nvPicPr>
        <p:blipFill>
          <a:blip r:embed="rId4"/>
          <a:stretch/>
        </p:blipFill>
        <p:spPr>
          <a:xfrm>
            <a:off x="2340000" y="1773360"/>
            <a:ext cx="7023240" cy="2419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C:\ДОКУМЕНТЫ\ОБРАЗЦЫ ДОКУМЕНТОВ\ЛП\59 Ветераны\печатали про них\59-12 Макарова А.Л медсестра\ф.59 оп. 12 Макарова А.Л док-и скан\10 Пенсионное удостоверение, удотоверение Ветеран Труда, справка об инвалидности\ф.59 оп.12 ед.хр. 10 лист 2.jpg"/>
          <p:cNvPicPr/>
          <p:nvPr/>
        </p:nvPicPr>
        <p:blipFill>
          <a:blip r:embed="rId5"/>
          <a:stretch/>
        </p:blipFill>
        <p:spPr>
          <a:xfrm>
            <a:off x="3348000" y="3860640"/>
            <a:ext cx="57960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ДОКУМЕНТЫ\ОБРАЗЦЫ ДОКУМЕНТОВ\ЛП\59 Ветераны\печатали про них\59-12 Макарова А.Л медсестра\ф.59 оп. 12 Макарова А.Л док-и скан\11 Статьи из газет о жизни и трудовой деятельности\ф.59 оп.12 ед.хр. 11 лист 12.jpg"/>
          <p:cNvPicPr/>
          <p:nvPr/>
        </p:nvPicPr>
        <p:blipFill>
          <a:blip r:embed="rId3"/>
          <a:stretch/>
        </p:blipFill>
        <p:spPr>
          <a:xfrm>
            <a:off x="3995640" y="-819000"/>
            <a:ext cx="6873840" cy="10078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ДОКУМЕНТЫ\ОБРАЗЦЫ ДОКУМЕНТОВ\ЛП\59 Ветераны\печатали про них\59-12 Макарова А.Л медсестра\ф.59 оп. 12 Макарова А.Л док-и скан\11 Статьи из газет о жизни и трудовой деятельности\ф.59 оп.12 ед.хр. 11 лист 5.jpg"/>
          <p:cNvPicPr/>
          <p:nvPr/>
        </p:nvPicPr>
        <p:blipFill>
          <a:blip r:embed="rId4"/>
          <a:stretch/>
        </p:blipFill>
        <p:spPr>
          <a:xfrm>
            <a:off x="0" y="0"/>
            <a:ext cx="4413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ДОКУМЕНТЫ\ОБРАЗЦЫ ДОКУМЕНТОВ\ЛП\59 Ветераны\печатали про них\59-12 Макарова А.Л медсестра\ф.59 оп. 12 Макарова А.Л док-и скан\11 Статьи из газет о жизни и трудовой деятельности\ф.59 оп.12 ед.хр. 11 лист 9.jpg"/>
          <p:cNvPicPr/>
          <p:nvPr/>
        </p:nvPicPr>
        <p:blipFill>
          <a:blip r:embed="rId3"/>
          <a:stretch/>
        </p:blipFill>
        <p:spPr>
          <a:xfrm>
            <a:off x="1258920" y="0"/>
            <a:ext cx="6767640" cy="10169640"/>
          </a:xfrm>
          <a:prstGeom prst="rect">
            <a:avLst/>
          </a:prstGeom>
          <a:ln w="0">
            <a:noFill/>
          </a:ln>
        </p:spPr>
      </p:pic>
      <p:sp>
        <p:nvSpPr>
          <p:cNvPr id="358" name="Объект 5"/>
          <p:cNvSpPr/>
          <p:nvPr/>
        </p:nvSpPr>
        <p:spPr>
          <a:xfrm>
            <a:off x="4500720" y="5673600"/>
            <a:ext cx="4643280" cy="11844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ДОКУМЕНТЫ\ОБРАЗЦЫ ДОКУМЕНТОВ\ЛП\59 Ветераны\печатали про них\59-12 Макарова А.Л медсестра\ф.59 оп. 12 Макарова А.Л док-и скан\11 Статьи из газет о жизни и трудовой деятельности\ф.59 оп.12 ед.хр. 11 лист 4.jpg"/>
          <p:cNvPicPr/>
          <p:nvPr/>
        </p:nvPicPr>
        <p:blipFill>
          <a:blip r:embed="rId3"/>
          <a:stretch/>
        </p:blipFill>
        <p:spPr>
          <a:xfrm>
            <a:off x="4140360" y="260280"/>
            <a:ext cx="4608360" cy="6288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C:\ДОКУМЕНТЫ\ОБРАЗЦЫ ДОКУМЕНТОВ\ЛП\59 Ветераны\печатали про них\59-12 Макарова А.Л медсестра\ф.59 оп. 12 Макарова А.Л док-и скан\5 Поздравление (открытки, телеграмы) С Днём Победы\ф.59 оп.12 ед.хр. 5 лист 9.1.jpg"/>
          <p:cNvPicPr/>
          <p:nvPr/>
        </p:nvPicPr>
        <p:blipFill>
          <a:blip r:embed="rId4"/>
          <a:stretch/>
        </p:blipFill>
        <p:spPr>
          <a:xfrm>
            <a:off x="468360" y="260280"/>
            <a:ext cx="3346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ДОКУМЕНТЫ\ОБРАЗЦЫ ДОКУМЕНТОВ\ЛП\59 Ветераны\печатали про них\59-12 Макарова А.Л медсестра\ф.59 оп. 12 Макарова А.Л док-и скан\3 Свидетельство о рождении, Копия паспорта\ф.59 оп.12 ед.хр. 3 лист 1.2.jpg"/>
          <p:cNvPicPr/>
          <p:nvPr/>
        </p:nvPicPr>
        <p:blipFill>
          <a:blip r:embed="rId2"/>
          <a:stretch/>
        </p:blipFill>
        <p:spPr>
          <a:xfrm>
            <a:off x="2627280" y="3927600"/>
            <a:ext cx="6516720" cy="2930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328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1810"/>
                </a:solidFill>
                <a:latin typeface="Verdana"/>
              </a:rPr>
              <a:t>ДЕТСТВО И ЮНОСТ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39640" y="529920"/>
            <a:ext cx="63356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Н К Е Т Н А Я    И Н Ф О Р М А Ц И 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Лаврентьева родилась 14 сентября 1926 года в селе Кочергино Курачинского района Красноярского кр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– Макаров Лаврентий Фёдорович был кадровым военным,      мать – Анна Фёдоровна работала почтальоном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 году Анна окончила 7 классов Шошинской шко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 году  Макарова Анна зачислена  в школу медицинских сестер в г. Минусин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2 году Анна была направлена на работу в село Толстихино, во врачебный участок медицинской  сестр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C:\ДОКУМЕНТЫ\ОБРАЗЦЫ ДОКУМЕНТОВ\ЛП\59 Ветераны\печатали про них\59-12 Макарова А.Л медсестра\ф.59 оп. 12 Макарова А.Л док-и скан\3 Свидетельство о рождении, Копия паспорта\ф.59 оп.12 ед.хр. 3 лист 1.1.jpg"/>
          <p:cNvPicPr/>
          <p:nvPr/>
        </p:nvPicPr>
        <p:blipFill>
          <a:blip r:embed="rId3"/>
          <a:stretch/>
        </p:blipFill>
        <p:spPr>
          <a:xfrm>
            <a:off x="0" y="0"/>
            <a:ext cx="235584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Объект 5"/>
          <p:cNvSpPr/>
          <p:nvPr/>
        </p:nvSpPr>
        <p:spPr>
          <a:xfrm>
            <a:off x="0" y="2781360"/>
            <a:ext cx="2411280" cy="15843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2 «Макарова Анна Лаврентьевна», единица хранения №3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7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6.jpg"/>
          <p:cNvPicPr/>
          <p:nvPr/>
        </p:nvPicPr>
        <p:blipFill>
          <a:blip r:embed="rId3"/>
          <a:stretch/>
        </p:blipFill>
        <p:spPr>
          <a:xfrm>
            <a:off x="4233960" y="-108000"/>
            <a:ext cx="4910040" cy="6966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8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7.jpg"/>
          <p:cNvPicPr/>
          <p:nvPr/>
        </p:nvPicPr>
        <p:blipFill>
          <a:blip r:embed="rId4"/>
          <a:stretch/>
        </p:blipFill>
        <p:spPr>
          <a:xfrm>
            <a:off x="0" y="-171360"/>
            <a:ext cx="5076720" cy="7227720"/>
          </a:xfrm>
          <a:prstGeom prst="rect">
            <a:avLst/>
          </a:prstGeom>
          <a:ln w="0">
            <a:noFill/>
          </a:ln>
        </p:spPr>
      </p:pic>
      <p:sp>
        <p:nvSpPr>
          <p:cNvPr id="369" name="Объект 5"/>
          <p:cNvSpPr/>
          <p:nvPr/>
        </p:nvSpPr>
        <p:spPr>
          <a:xfrm>
            <a:off x="2268360" y="5877000"/>
            <a:ext cx="5183280" cy="9810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-7920" y="7920"/>
            <a:ext cx="9151920" cy="6850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7 году Анну Лаврентьевну избрали председателем Совета ветеранов войны и труда 10 микрорайона, и вот она уже сколько лет ведёт эту работу, оказывает ветеранам посильную помощь в житейских проблем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2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9.jpg"/>
          <p:cNvPicPr/>
          <p:nvPr/>
        </p:nvPicPr>
        <p:blipFill>
          <a:blip r:embed="rId2"/>
          <a:stretch/>
        </p:blipFill>
        <p:spPr>
          <a:xfrm>
            <a:off x="2771640" y="2276640"/>
            <a:ext cx="6085080" cy="4303440"/>
          </a:xfrm>
          <a:prstGeom prst="rect">
            <a:avLst/>
          </a:prstGeom>
          <a:ln w="0">
            <a:noFill/>
          </a:ln>
        </p:spPr>
      </p:pic>
      <p:sp>
        <p:nvSpPr>
          <p:cNvPr id="374" name="Объект 5"/>
          <p:cNvSpPr/>
          <p:nvPr/>
        </p:nvSpPr>
        <p:spPr>
          <a:xfrm>
            <a:off x="395280" y="2565360"/>
            <a:ext cx="2305080" cy="863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карова Анна Лаврентьевна (третья справ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4.jpg"/>
          <p:cNvPicPr/>
          <p:nvPr/>
        </p:nvPicPr>
        <p:blipFill>
          <a:blip r:embed="rId2"/>
          <a:stretch/>
        </p:blipFill>
        <p:spPr>
          <a:xfrm>
            <a:off x="-25236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5.jpg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5649840"/>
          </a:xfrm>
          <a:prstGeom prst="rect">
            <a:avLst/>
          </a:prstGeom>
          <a:ln w="0">
            <a:noFill/>
          </a:ln>
        </p:spPr>
      </p:pic>
      <p:sp>
        <p:nvSpPr>
          <p:cNvPr id="379" name="Объект 5"/>
          <p:cNvSpPr/>
          <p:nvPr/>
        </p:nvSpPr>
        <p:spPr>
          <a:xfrm>
            <a:off x="4932360" y="5673600"/>
            <a:ext cx="4211640" cy="11844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132000" y="260280"/>
            <a:ext cx="5554800" cy="633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2 году А.Л.Макаровой было присвоено звание «Ветеран тру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ыдающийся вклад в обеспечение безопасности РФ Анна Лаврентьевна в 2005 году стала лауреатом премии Ю.В.Андропова с вручением золотой медали и диплом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А.Л.Макарова является председателем Совета ветеранов войны и труда 10 микрорайона,  членом президиума городского Совета ветеранов Великой Отечественной войн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ё 6 внуков и 2 правну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2007 год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7.jpg"/>
          <p:cNvPicPr/>
          <p:nvPr/>
        </p:nvPicPr>
        <p:blipFill>
          <a:blip r:embed="rId2"/>
          <a:stretch/>
        </p:blipFill>
        <p:spPr>
          <a:xfrm>
            <a:off x="0" y="0"/>
            <a:ext cx="307332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3.jpg"/>
          <p:cNvPicPr/>
          <p:nvPr/>
        </p:nvPicPr>
        <p:blipFill>
          <a:blip r:embed="rId3"/>
          <a:stretch/>
        </p:blipFill>
        <p:spPr>
          <a:xfrm>
            <a:off x="-468360" y="-28440"/>
            <a:ext cx="4896000" cy="6886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5.jpg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6891480"/>
          </a:xfrm>
          <a:prstGeom prst="rect">
            <a:avLst/>
          </a:prstGeom>
          <a:ln w="0">
            <a:noFill/>
          </a:ln>
        </p:spPr>
      </p:pic>
      <p:sp>
        <p:nvSpPr>
          <p:cNvPr id="389" name="Объект 5"/>
          <p:cNvSpPr/>
          <p:nvPr/>
        </p:nvSpPr>
        <p:spPr>
          <a:xfrm>
            <a:off x="1116000" y="6073920"/>
            <a:ext cx="3637080" cy="7840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-7920" y="7920"/>
            <a:ext cx="9151920" cy="6850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03280" y="4149360"/>
            <a:ext cx="8316720" cy="230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Лаврентьевна всегда активно участвовала  в общественной жизни города. Она посещает школы, встречается с молодёжью, рассказывая о военном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3" descr="C:\ДОКУМЕНТЫ\ОРГАНИЗАЦИИ-РАБОТА\90\59 ФОТО в печать\фото ветеранов 010.jpg"/>
          <p:cNvPicPr/>
          <p:nvPr/>
        </p:nvPicPr>
        <p:blipFill>
          <a:blip r:embed="rId2"/>
          <a:stretch/>
        </p:blipFill>
        <p:spPr>
          <a:xfrm>
            <a:off x="395280" y="260280"/>
            <a:ext cx="5761080" cy="3882960"/>
          </a:xfrm>
          <a:prstGeom prst="rect">
            <a:avLst/>
          </a:prstGeom>
          <a:ln w="0">
            <a:noFill/>
          </a:ln>
        </p:spPr>
      </p:pic>
      <p:sp>
        <p:nvSpPr>
          <p:cNvPr id="394" name="Объект 5"/>
          <p:cNvSpPr/>
          <p:nvPr/>
        </p:nvSpPr>
        <p:spPr>
          <a:xfrm>
            <a:off x="6084720" y="260280"/>
            <a:ext cx="2735280" cy="19447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карова Анна Лаврентьевна на встрече Губернатора ХМАО – Югры Н.В.Комаровой с ветеранами войны города Нефтеюганс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014 г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2.jpg"/>
          <p:cNvPicPr/>
          <p:nvPr/>
        </p:nvPicPr>
        <p:blipFill>
          <a:blip r:embed="rId3"/>
          <a:stretch/>
        </p:blipFill>
        <p:spPr>
          <a:xfrm>
            <a:off x="-1260360" y="0"/>
            <a:ext cx="7327800" cy="108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7.jpg"/>
          <p:cNvPicPr/>
          <p:nvPr/>
        </p:nvPicPr>
        <p:blipFill>
          <a:blip r:embed="rId4"/>
          <a:stretch/>
        </p:blipFill>
        <p:spPr>
          <a:xfrm>
            <a:off x="3406680" y="0"/>
            <a:ext cx="5737320" cy="4076640"/>
          </a:xfrm>
          <a:prstGeom prst="rect">
            <a:avLst/>
          </a:prstGeom>
          <a:ln w="0">
            <a:noFill/>
          </a:ln>
        </p:spPr>
      </p:pic>
      <p:sp>
        <p:nvSpPr>
          <p:cNvPr id="400" name="Объект 5"/>
          <p:cNvSpPr/>
          <p:nvPr/>
        </p:nvSpPr>
        <p:spPr>
          <a:xfrm>
            <a:off x="4716360" y="5673600"/>
            <a:ext cx="4427640" cy="11844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2.jpg"/>
          <p:cNvPicPr/>
          <p:nvPr/>
        </p:nvPicPr>
        <p:blipFill>
          <a:blip r:embed="rId3"/>
          <a:stretch/>
        </p:blipFill>
        <p:spPr>
          <a:xfrm>
            <a:off x="4297320" y="260280"/>
            <a:ext cx="4546800" cy="6337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17.jpg"/>
          <p:cNvPicPr/>
          <p:nvPr/>
        </p:nvPicPr>
        <p:blipFill>
          <a:blip r:embed="rId4"/>
          <a:stretch/>
        </p:blipFill>
        <p:spPr>
          <a:xfrm>
            <a:off x="0" y="1341360"/>
            <a:ext cx="4327560" cy="2971800"/>
          </a:xfrm>
          <a:prstGeom prst="rect">
            <a:avLst/>
          </a:prstGeom>
          <a:ln w="0">
            <a:noFill/>
          </a:ln>
        </p:spPr>
      </p:pic>
      <p:sp>
        <p:nvSpPr>
          <p:cNvPr id="406" name="Объект 5"/>
          <p:cNvSpPr/>
          <p:nvPr/>
        </p:nvSpPr>
        <p:spPr>
          <a:xfrm>
            <a:off x="0" y="3933720"/>
            <a:ext cx="4464000" cy="10400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02920" y="2997360"/>
            <a:ext cx="2989080" cy="172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.jpg"/>
          <p:cNvPicPr/>
          <p:nvPr/>
        </p:nvPicPr>
        <p:blipFill>
          <a:blip r:embed="rId3"/>
          <a:stretch/>
        </p:blipFill>
        <p:spPr>
          <a:xfrm>
            <a:off x="1712880" y="-819000"/>
            <a:ext cx="7431120" cy="10502640"/>
          </a:xfrm>
          <a:prstGeom prst="rect">
            <a:avLst/>
          </a:prstGeom>
          <a:ln w="0">
            <a:noFill/>
          </a:ln>
        </p:spPr>
      </p:pic>
      <p:sp>
        <p:nvSpPr>
          <p:cNvPr id="411" name="Объект 5"/>
          <p:cNvSpPr/>
          <p:nvPr/>
        </p:nvSpPr>
        <p:spPr>
          <a:xfrm>
            <a:off x="0" y="0"/>
            <a:ext cx="2124000" cy="26370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-20520"/>
            <a:ext cx="9147240" cy="6878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4" name="Picture 3" descr="поминаем жертв репрессий"/>
          <p:cNvPicPr/>
          <p:nvPr/>
        </p:nvPicPr>
        <p:blipFill>
          <a:blip r:embed="rId2"/>
          <a:srcRect l="0" t="0" r="-16" b="-50"/>
          <a:stretch/>
        </p:blipFill>
        <p:spPr>
          <a:xfrm>
            <a:off x="324000" y="260280"/>
            <a:ext cx="4114800" cy="27162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0" y="2924280"/>
            <a:ext cx="4572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sp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ойна всю жизнь Анны Лаврентьевны идет с неё рядом – в её воспомин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4932360" y="333360"/>
            <a:ext cx="3890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 воспомин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Во время наступлений на фронте дежурить приходилось по нескольку суток кряду. Голову приклонить некогда — раненые шли непрерывным потоком. Стоны, крики, рыдания, проклятия — отчаяние и боль людей, уцелевших в аду передовой. Когда их отмывали от окопной грязи и кровавой коросты, остригал, то становилось видно, что на белых госпитальных простынях лежат худые, измученные мальчишки, чьи тела были жестоко покалечены фронт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ни считали себя счастливчиками, ведь они  — выжили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3280" y="2276640"/>
            <a:ext cx="1836720" cy="2441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ДОКУМЕНТЫ\ОБРАЗЦЫ ДОКУМЕНТОВ\ЛП\59 Ветераны\печатали про них\59-12 Макарова А.Л медсестра\ф.59 оп. 12 Макарова А.Л док-и скан\4 Автобиография (рукопись)\ф.59 оп.12 ед.хр. 4 лист 1.1.jpg"/>
          <p:cNvPicPr/>
          <p:nvPr/>
        </p:nvPicPr>
        <p:blipFill>
          <a:blip r:embed="rId3"/>
          <a:stretch/>
        </p:blipFill>
        <p:spPr>
          <a:xfrm>
            <a:off x="4716360" y="0"/>
            <a:ext cx="4786560" cy="8291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ДОКУМЕНТЫ\ОБРАЗЦЫ ДОКУМЕНТОВ\ЛП\59 Ветераны\печатали про них\59-12 Макарова А.Л медсестра\ф.59 оп. 12 Макарова А.Л док-и скан\4 Автобиография (рукопись)\ф.59 оп.12 ед.хр. 4 лист 3.1.jpg"/>
          <p:cNvPicPr/>
          <p:nvPr/>
        </p:nvPicPr>
        <p:blipFill>
          <a:blip r:embed="rId4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Объект 5"/>
          <p:cNvSpPr/>
          <p:nvPr/>
        </p:nvSpPr>
        <p:spPr>
          <a:xfrm>
            <a:off x="3851280" y="6097680"/>
            <a:ext cx="4643280" cy="7603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4 «Автобиография» Март 2007 год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9" name="Picture 2" descr="C:\ДОКУМЕНТЫ\ОБРАЗЦЫ ДОКУМЕНТОВ\ЛП\59 Ветераны\печатали про них\59-12 Макарова А.Л медсестра\ф.59 оп. 12 Макарова А.Л док-и скан\5 Поздравление (открытки, телеграмы) С Днём Победы\ф.59 оп.12 ед.хр. 5 лист 6.1.jpg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:\ДОКУМЕНТЫ\ОБРАЗЦЫ ДОКУМЕНТОВ\ЛП\59 Ветераны\печатали про них\59-12 Макарова А.Л медсестра\ф.59 оп. 12 Макарова А.Л док-и скан\5 Поздравление (открытки, телеграмы) С Днём Победы\ф.59 оп.12 ед.хр. 5 лист 7.2.jpg"/>
          <p:cNvPicPr/>
          <p:nvPr/>
        </p:nvPicPr>
        <p:blipFill>
          <a:blip r:embed="rId3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Объект 5"/>
          <p:cNvSpPr/>
          <p:nvPr/>
        </p:nvSpPr>
        <p:spPr>
          <a:xfrm>
            <a:off x="3708360" y="6021360"/>
            <a:ext cx="5435640" cy="836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5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0" descr="C:\ДОКУМЕНТЫ\ОБРАЗЦЫ ДОКУМЕНТОВ\ЛП\59 Ветераны\печатали про них\59-12 Макарова А.Л медсестра\ф.59 оп. 12 Макарова А.Л док-и скан\8 Почетные грамоты и благодарственные письма за безупречный труд\ф.59 оп.12 ед.хр. 8 лист 19.jpg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ДОКУМЕНТЫ\ОБРАЗЦЫ ДОКУМЕНТОВ\ЛП\59 Ветераны\печатали про них\59-12 Макарова А.Л медсестра\ф.59 оп. 12 Макарова А.Л док-и скан\5 Поздравление (открытки, телеграмы) С Днём Победы\ф.59 оп.12 ед.хр. 5 лист 12.jpg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Объект 5"/>
          <p:cNvSpPr/>
          <p:nvPr/>
        </p:nvSpPr>
        <p:spPr>
          <a:xfrm>
            <a:off x="6659640" y="0"/>
            <a:ext cx="2484360" cy="20606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4 «Макарова Анна Лаврентьевна», единица хранения №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-20520"/>
            <a:ext cx="9147240" cy="6878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376360" cy="3600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ФОТО  Макаровой А"/>
          <p:cNvPicPr/>
          <p:nvPr/>
        </p:nvPicPr>
        <p:blipFill>
          <a:blip r:embed="rId3"/>
          <a:stretch/>
        </p:blipFill>
        <p:spPr>
          <a:xfrm>
            <a:off x="6659640" y="260280"/>
            <a:ext cx="2271600" cy="34196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9"/>
          <p:cNvSpPr/>
          <p:nvPr/>
        </p:nvSpPr>
        <p:spPr>
          <a:xfrm>
            <a:off x="2700360" y="260280"/>
            <a:ext cx="3743280" cy="6408720"/>
          </a:xfrm>
          <a:prstGeom prst="rect">
            <a:avLst/>
          </a:prstGeom>
          <a:solidFill>
            <a:srgbClr val="c00000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двиг солдат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медицинской сестры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ержан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 Макаровой Анны Лаврентьевн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всегда останетс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 истор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рода Нефтеюганс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ранясь в архив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окументах ветеран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 полках архивохранилищ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Будущи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коления посредство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окументов личног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роисхожден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натных горожан, земляк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могут изучать страниц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стории  нашего государств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шего края,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ефтеюганс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зучая подлин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окументы очевидцев истории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х воспоминания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удостоверения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фотодокумент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двиг солдат в год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еликой Отечественной войн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1941-1945 годов должен с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ечной памятью живущ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324000" y="3500280"/>
            <a:ext cx="2303280" cy="1305000"/>
          </a:xfrm>
          <a:prstGeom prst="rect">
            <a:avLst/>
          </a:prstGeom>
          <a:solidFill>
            <a:srgbClr val="c00000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46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588000" y="3716280"/>
            <a:ext cx="2305080" cy="1305000"/>
          </a:xfrm>
          <a:prstGeom prst="rect">
            <a:avLst/>
          </a:prstGeom>
          <a:solidFill>
            <a:srgbClr val="c00000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4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6304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3"/>
          <p:cNvSpPr/>
          <p:nvPr/>
        </p:nvSpPr>
        <p:spPr>
          <a:xfrm>
            <a:off x="4500720" y="3933720"/>
            <a:ext cx="4225680" cy="2594160"/>
          </a:xfrm>
          <a:prstGeom prst="roundRect">
            <a:avLst>
              <a:gd name="adj" fmla="val 16667"/>
            </a:avLst>
          </a:prstGeom>
          <a:solidFill>
            <a:srgbClr val="771f28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12 «Макарова Анна Лаврентьевна», фотодокументов фотофонда  отдела по делам архивов департамента по делам администрац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56000" y="5950080"/>
            <a:ext cx="63007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1810"/>
                </a:solidFill>
                <a:latin typeface="Verdana"/>
              </a:rPr>
              <a:t>Военные год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259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Н К Е Т Н А Я    И Н Ф О Р М А Ц И 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ажданская специаль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медицинская сест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обилизация в Красную Армию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январь 1943 года  Уярским райвоенкома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мобилизов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 2 декабря 1946 года по расформированию госпита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енное звание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оевой пу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числена в эвакогоспиталь  № 3485 в/части №59852 в г. Уяр  Красноярского края медицинской сестрой 1-го хирургического отделения. Госпиталь следовал за наступающими войсками, освобождавшими захваченные немецкими войсками территории от  Подмосковья до Германии: Калужская область, Владимирская область, Смоленская область, Белоруссия: г.Орша, Могилевская область, Польша: г.Белосток, пос. Пултуск, г.Познань,г.Штеттен. Освобождали данные территории войск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 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го Белорусских  фронтов 2-й ударной арм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нь победы встретила в г.Штетт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Награды за боевые заслуг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рден Отечественной войны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епени, медали «За победу над Германией в Велик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ечественной Войне 1941-1945 гг.»,  две Благодар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И.В.Сталина, юбилейные и памятные мед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4000" y="333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воспоминаний Анны Лаврентьевны Макаров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Военное время коснулось и далекой Сибир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Еще во время учебы (1941г.) нас отправляли на полевые работы, пропалывать хлеба, поля с капустой, а осенью на уборку урожая, заготовку сена, собирать колоски после уборки хлебов. На табачных плантациях обрывали лист, нанизывали на шпагат, а старшие женщины привязывали на палки и вешали под навес для просушки. Все знали, что табак будут отправлять на фронт солдатам. Работали до изнеможения, страшно болела голова: от испарения табака под вечер у всех детей была даже рвота из-за отравле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колхозах крестьянам в военные годы прожить было легче, чем в городе, у всех были свои огороды, коровы, куры. Детей всегда старались накормить, берегли, хотя госпоставки были очень высокие: «Все для фронта, все для Победы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 мы бегали в лес по ягоды, грибы – все подспорье в доме»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Объект 5"/>
          <p:cNvSpPr/>
          <p:nvPr/>
        </p:nvSpPr>
        <p:spPr>
          <a:xfrm>
            <a:off x="3851280" y="5732640"/>
            <a:ext cx="5113440" cy="11253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2 «Макарова Анна Лаврентьевна», единица хранения №4 «Автобиография». Март 2007 г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324000" y="981000"/>
            <a:ext cx="8424720" cy="914400"/>
          </a:xfrm>
          <a:prstGeom prst="rect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«Июнь 1941 года. Дом «Колхозника» г. Минусинск, Красноярского края, районная олимпиада. Утро 22 июня 1941 года. Объявлена война. На Советский Союз напала фашистская Герма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8"/>
          <p:cNvSpPr/>
          <p:nvPr/>
        </p:nvSpPr>
        <p:spPr>
          <a:xfrm>
            <a:off x="324000" y="765000"/>
            <a:ext cx="8424720" cy="914400"/>
          </a:xfrm>
          <a:prstGeom prst="rect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1943 году Анну Лаврентьевну – 17 летнюю девушку призвали в ряды Советской Армии и зачислили в эвакуационный госпита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№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485, который формировался в г.Уяр Красноярского кр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C:\ДОКУМЕНТЫ\ОБРАЗЦЫ ДОКУМЕНТОВ\ЛП\59 Ветераны\печатали про них\59-12 Макарова А.Л медсестра\ф.59 оп. 12 Макарова А.Л док-и скан\2 Трудовая книжка, Справка о прохождении военной службы, Справка о работе мед.сестрой\ф.59 оп.12 ед.хр. 2 лист 2.jpg"/>
          <p:cNvPicPr/>
          <p:nvPr/>
        </p:nvPicPr>
        <p:blipFill>
          <a:blip r:embed="rId2"/>
          <a:stretch/>
        </p:blipFill>
        <p:spPr>
          <a:xfrm>
            <a:off x="1908000" y="1844640"/>
            <a:ext cx="6912000" cy="4718160"/>
          </a:xfrm>
          <a:prstGeom prst="rect">
            <a:avLst/>
          </a:prstGeom>
          <a:ln w="0">
            <a:noFill/>
          </a:ln>
        </p:spPr>
      </p:pic>
      <p:sp>
        <p:nvSpPr>
          <p:cNvPr id="252" name="Объект 5"/>
          <p:cNvSpPr/>
          <p:nvPr/>
        </p:nvSpPr>
        <p:spPr>
          <a:xfrm>
            <a:off x="3851280" y="1700280"/>
            <a:ext cx="4968720" cy="8650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12 «Макарова Анна Лаврентьевна», единица хранения №2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21.jpg"/>
          <p:cNvPicPr/>
          <p:nvPr/>
        </p:nvPicPr>
        <p:blipFill>
          <a:blip r:embed="rId2"/>
          <a:stretch/>
        </p:blipFill>
        <p:spPr>
          <a:xfrm>
            <a:off x="0" y="1484280"/>
            <a:ext cx="3759120" cy="2808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692360" y="1413000"/>
            <a:ext cx="7200720" cy="518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 воспоминаний Анны Лаврентьевн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каровой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На фронт я попала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январе 1943 года. Я приехала с длинны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сами — жалко было их отреза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этому, когда мыла голову, 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цах волос обычно замерз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сульки. Это лучший комментарий 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шему быту во время вой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ервых раненых наш госпитал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нял в Ивановском городке Вязники. Для семнадцатилетних девчонок это было попросту страшно: мы даже не догадывались, что война мо- жет делать с людьми - раненые были похожи на выходцев с того света: пулевое ранение — это вам не царапина, а сквозное штыковое — не уколотый пальчик. Глаза раненых людей особенные: они сочатся болью, тоской и надеждой...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324000" y="476280"/>
            <a:ext cx="8424720" cy="914400"/>
          </a:xfrm>
          <a:prstGeom prst="rect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Из воспоминаний Анны Лаврентьевны Макаровой: «Из Сибири к линии фронта добирались в товарных вагонах, 2-х ярусные нары, печурка для обогрева. На станциях стояли долго, на Запад шли поезда с вооружением и солдатами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Объект 5"/>
          <p:cNvSpPr/>
          <p:nvPr/>
        </p:nvSpPr>
        <p:spPr>
          <a:xfrm>
            <a:off x="0" y="4005360"/>
            <a:ext cx="2124000" cy="11239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арова Анна Лаврентьевна (справа) с сослуживцами во время отдых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сна 1943 г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\\Priemnaya\обмен\305 КАБИНЕТ\Фон на презинтации\1615713_html_76046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23640" y="260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После формирования госпиталя Анна Лаврентьевна Макарова отправилась по долгим дорогам войны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Из воспоминан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: «Следуя за наступающими войсками, мы видели все разрушения, зверства фашистов, виселицы и не захороненные трупы. Приходилось оказывать помощь и местному населению. Когда освобождали Белоруссию,  нас остановили под Оршей на «отдых» и к нашему ужасу пришлось принимать раненых и больных пленных немцев. Колючая проволока, барак, пленные немцы и мы. Страшнее, казалось, больше ничего не может быть. Грязные, оборванные, раненые, голодные они выглядели жалко и унижено. Ужас и отвращение к врагам иногда сменялось жалостью, когда они с оглядкой потихоньку произносили «Гитлер капут» как будто этими словами можно было у нас вымолить прощенье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C:\ДОКУМЕНТЫ\ОБРАЗЦЫ ДОКУМЕНТОВ\ЛП\59 Ветераны\печатали про них\59-12 Макарова А.Л медсестра\ф.59 оп. 12 Макарова А.Л док-и скан\Доп. фот-и\ф.59 оп.12 ед.хр. Доп. фот-и лист 8.jpg"/>
          <p:cNvPicPr/>
          <p:nvPr/>
        </p:nvPicPr>
        <p:blipFill>
          <a:blip r:embed="rId2"/>
          <a:stretch/>
        </p:blipFill>
        <p:spPr>
          <a:xfrm>
            <a:off x="2843280" y="4292640"/>
            <a:ext cx="3591000" cy="2771640"/>
          </a:xfrm>
          <a:prstGeom prst="rect">
            <a:avLst/>
          </a:prstGeom>
          <a:ln w="0">
            <a:noFill/>
          </a:ln>
        </p:spPr>
      </p:pic>
      <p:sp>
        <p:nvSpPr>
          <p:cNvPr id="261" name="Объект 5"/>
          <p:cNvSpPr/>
          <p:nvPr/>
        </p:nvSpPr>
        <p:spPr>
          <a:xfrm>
            <a:off x="6588000" y="4941720"/>
            <a:ext cx="2305080" cy="16560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карова Анна Лаврентьевна (вторая справа) с сослуживцами во время отдых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есна 1943 г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9:31:38Z</dcterms:created>
  <dc:creator>Admin</dc:creator>
  <dc:description/>
  <dc:language>en-US</dc:language>
  <cp:lastModifiedBy>Duma</cp:lastModifiedBy>
  <dcterms:modified xsi:type="dcterms:W3CDTF">2015-04-09T09:59:29Z</dcterms:modified>
  <cp:revision>35</cp:revision>
  <dc:subject/>
  <dc:title>Макарова Анна  Лаврентье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10000000000010262800207f7000400038000</vt:lpwstr>
  </property>
</Properties>
</file>