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ACAE-DCA8-4433-8AFC-7AC16756D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D709-AD4F-4227-8084-304B4F45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A180-D89D-41F4-AE47-E941B700A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8453-C598-41C4-970C-2F1602A0B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AD1C-228D-419B-849C-C308A11B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1A16-9CAE-4B41-9C45-F286FB18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45EC-65C7-4905-A565-CCD6F000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9138-13D9-4595-8B74-8C0A9D19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040F-439E-4707-9075-D1126103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A178-1EE2-466B-BE31-3ED5C287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8760-2CCD-42EA-8C72-90CA2F34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0D61-3C4C-453D-8E42-76F267E8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7012-F6A9-4A34-8D0F-34751DDAC716}" type="slidenum">
              <a:rPr b="0" lang="ru-RU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6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2" name="Picture 2" descr="C:\ДОКУМЕНТЫ\ОРГАНИЗАЦИИ-РАБОТА\90 совет ветеранов\ФОНЫ И КАРТИНКИ ко Дню Победы\9MayRedSlidePrew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Скругленный прямоугольник 8"/>
          <p:cNvSpPr/>
          <p:nvPr/>
        </p:nvSpPr>
        <p:spPr>
          <a:xfrm>
            <a:off x="1042920" y="404640"/>
            <a:ext cx="4608720" cy="18720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О человеке может рассказать многое, о человеке могут рассказать многие. Друзья, родственники, знакомые, а так же фотографии, публикации, удостоверения и многое другое. Сегодня о судьбе нашего героя расскажут архивные документы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Скругленный прямоугольник 9"/>
          <p:cNvSpPr/>
          <p:nvPr/>
        </p:nvSpPr>
        <p:spPr>
          <a:xfrm>
            <a:off x="5651640" y="1844640"/>
            <a:ext cx="3241440" cy="208908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аш подвиг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 сердце сохраним…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Скругленный прямоугольник 10"/>
          <p:cNvSpPr/>
          <p:nvPr/>
        </p:nvSpPr>
        <p:spPr>
          <a:xfrm>
            <a:off x="324000" y="3429000"/>
            <a:ext cx="4321080" cy="251928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alibri"/>
              </a:rPr>
              <a:t>Участнику Великой Отечественной войны Смехнову Ростиславу Васильевичу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alibri"/>
              </a:rPr>
              <a:t>посвящается…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C:\ДОКУМЕНТЫ\ОРГАНИЗАЦИИ-РАБОТА\90 совет ветеранов\ФОНЫ И КАРТИНКИ ко Дню Победы\9MayRedSlidePrew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"/>
          <p:cNvSpPr/>
          <p:nvPr/>
        </p:nvSpPr>
        <p:spPr>
          <a:xfrm>
            <a:off x="684360" y="1065600"/>
            <a:ext cx="79912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Franklin Gothic Book"/>
                <a:ea typeface="Times New Roman"/>
              </a:rPr>
              <a:t>А Н К Е Т Н А Я   И Н Ф О Р М А Ц И Я :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Смехнов Ростислав Васильевич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Franklin Gothic Book"/>
                <a:ea typeface="Times New Roman"/>
              </a:rPr>
              <a:t>Место работы (учебы) до призыва в ряды Красной Армии </a:t>
            </a:r>
            <a:r>
              <a:rPr b="1" i="1" lang="ru-RU" sz="1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–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учащийся школы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Социальный статус – служащий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Franklin Gothic Book"/>
                <a:ea typeface="Times New Roman"/>
              </a:rPr>
              <a:t>Мобилизация в Красную Армию </a:t>
            </a:r>
            <a:r>
              <a:rPr b="1" i="1" lang="ru-RU" sz="1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 – сентябрь 1943 год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Franklin Gothic Book"/>
                <a:ea typeface="Times New Roman"/>
              </a:rPr>
              <a:t>Боевой путь </a:t>
            </a:r>
            <a:r>
              <a:rPr b="1" i="1" lang="ru-RU" sz="1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- Северо-Кавказский фронт, воевал в составе Краснодарского истребительного батальона войск НКВД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Franklin Gothic Book"/>
                <a:ea typeface="Times New Roman"/>
              </a:rPr>
              <a:t>Победу  встретил </a:t>
            </a:r>
            <a:r>
              <a:rPr b="1" i="1" lang="ru-RU" sz="1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в г. Краснодаре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Д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Franklin Gothic Book"/>
                <a:ea typeface="Times New Roman"/>
              </a:rPr>
              <a:t>емобилизован</a:t>
            </a:r>
            <a:r>
              <a:rPr b="1" i="1" lang="ru-RU" sz="1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  в 1944 году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99" name="Picture 1" descr="C:\Users\User\Desktop\59-11 Смехнов\ДОК-И\ВВ Смехнов Р.В\фото 6 ф.59 оп.11 ед.хр. 3 лист 14.jpg"/>
          <p:cNvPicPr/>
          <p:nvPr/>
        </p:nvPicPr>
        <p:blipFill>
          <a:blip r:embed="rId2"/>
          <a:stretch/>
        </p:blipFill>
        <p:spPr>
          <a:xfrm>
            <a:off x="826920" y="3778200"/>
            <a:ext cx="4249800" cy="307980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7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оенные операции требовали смелости, твердости характера. Днем они были мальчишками, учились в школе, дергали девчонок за косички,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  по ночам они становились солдатами,  помогали бороться за возрождение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орода от войны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C:\ДОКУМЕНТЫ\ОРГАНИЗАЦИИ-РАБОТА\90 совет ветеранов\ФОНЫ И КАРТИНКИ ко Дню Победы\9MayRedSlidePrew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C:\Users\User\Desktop\59-11 Смехнов\ф. 59 оп. 11 Смехнов Р.В док-и скан\9 Статьи из газет и журналов о жизни и труде\ф.59 оп.11 ед.хр. 9 лист 7.jpg"/>
          <p:cNvPicPr/>
          <p:nvPr/>
        </p:nvPicPr>
        <p:blipFill>
          <a:blip r:embed="rId2"/>
          <a:stretch/>
        </p:blipFill>
        <p:spPr>
          <a:xfrm>
            <a:off x="-4573440" y="-892080"/>
            <a:ext cx="12996720" cy="1443492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6"/>
          <p:cNvSpPr/>
          <p:nvPr/>
        </p:nvSpPr>
        <p:spPr>
          <a:xfrm>
            <a:off x="7812000" y="0"/>
            <a:ext cx="1332000" cy="316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ъединен-ный архивный фонд №59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ись  № 11 «Смехнов Ростислав Васильевич»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диница хранения № 9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C:\ДОКУМЕНТЫ\ОРГАНИЗАЦИИ-РАБОТА\90 совет ветеранов\ФОНЫ И КАРТИНКИ ко Дню Победы\9MayRedSlidePrew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C:\Users\User\Desktop\59-11 Смехнов\ф. 59 оп. 11 Смехнов Р.В док-и скан\3 Удостоверения к наградам за участие в ВОВ\ф.59 оп.11 ед.хр. 3 лист 5.jpg"/>
          <p:cNvPicPr/>
          <p:nvPr/>
        </p:nvPicPr>
        <p:blipFill>
          <a:blip r:embed="rId2"/>
          <a:stretch/>
        </p:blipFill>
        <p:spPr>
          <a:xfrm>
            <a:off x="0" y="4016520"/>
            <a:ext cx="4284720" cy="3008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C:\Users\User\Desktop\59-11 Смехнов\ф. 59 оп. 11 Смехнов Р.В док-и скан\3 Удостоверения к наградам за участие в ВОВ\ф.59 оп.11 ед.хр. 3 лист 6.jpg"/>
          <p:cNvPicPr/>
          <p:nvPr/>
        </p:nvPicPr>
        <p:blipFill>
          <a:blip r:embed="rId3"/>
          <a:stretch/>
        </p:blipFill>
        <p:spPr>
          <a:xfrm>
            <a:off x="4427640" y="1125360"/>
            <a:ext cx="4716360" cy="3284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C:\Users\User\Desktop\59-11 Смехнов\ф. 59 оп. 11 Смехнов Р.В док-и скан\3 Удостоверения к наградам за участие в ВОВ\ф.59 оп.11 ед.хр. 3 лист 12.jpg"/>
          <p:cNvPicPr/>
          <p:nvPr/>
        </p:nvPicPr>
        <p:blipFill>
          <a:blip r:embed="rId4"/>
          <a:stretch/>
        </p:blipFill>
        <p:spPr>
          <a:xfrm>
            <a:off x="0" y="1125360"/>
            <a:ext cx="4797360" cy="327348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20"/>
          <p:cNvSpPr/>
          <p:nvPr/>
        </p:nvSpPr>
        <p:spPr>
          <a:xfrm>
            <a:off x="5183280" y="3860640"/>
            <a:ext cx="3960720" cy="936720"/>
          </a:xfrm>
          <a:prstGeom prst="rect">
            <a:avLst/>
          </a:prstGeom>
          <a:blipFill rotWithShape="0">
            <a:blip r:embed="rId5"/>
            <a:srcRect/>
            <a:stretch/>
          </a:blip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ъединенный архивный фонд №59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ись  № 11 «Смехнов Ростислав Васильевич»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диница хранения №3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Прямоугольник 14"/>
          <p:cNvSpPr/>
          <p:nvPr/>
        </p:nvSpPr>
        <p:spPr>
          <a:xfrm>
            <a:off x="0" y="1052640"/>
            <a:ext cx="3960720" cy="36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оенные награды Р.В.Смехнов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Прямоугольник 15"/>
          <p:cNvSpPr/>
          <p:nvPr/>
        </p:nvSpPr>
        <p:spPr>
          <a:xfrm>
            <a:off x="0" y="0"/>
            <a:ext cx="91440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от наступил долгожданный день - День Победы! Ростислав Васильевич поступил в Северо-Кавказский металлургический институт.  А в  1946 году Р.В.Смехнову  в его 17 лет вручили медаль 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«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обеду над Германией в Великой Отечественной войне 1941-1945 гг.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Были и другие военные награды Ростислава Смехнова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C:\ДОКУМЕНТЫ\ОРГАНИЗАЦИИ-РАБОТА\90 совет ветеранов\ФОНЫ И КАРТИНКИ ко Дню Победы\9MayRedSlidePrew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C:\Users\User\Desktop\59-11 Смехнов\ф. 59 оп. 11 Смехнов Р.В док-и скан\3 Удостоверения к наградам за участие в ВОВ\ф.59 оп.11 ед.хр. 3 лист 2.jpg"/>
          <p:cNvPicPr/>
          <p:nvPr/>
        </p:nvPicPr>
        <p:blipFill>
          <a:blip r:embed="rId2"/>
          <a:stretch/>
        </p:blipFill>
        <p:spPr>
          <a:xfrm>
            <a:off x="-324000" y="765000"/>
            <a:ext cx="4827600" cy="3205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C:\Users\User\Desktop\59-11 Смехнов\ф. 59 оп. 11 Смехнов Р.В док-и скан\3 Удостоверения к наградам за участие в ВОВ\ф.59 оп.11 ед.хр. 3 лист 7.jpg"/>
          <p:cNvPicPr/>
          <p:nvPr/>
        </p:nvPicPr>
        <p:blipFill>
          <a:blip r:embed="rId3"/>
          <a:stretch/>
        </p:blipFill>
        <p:spPr>
          <a:xfrm>
            <a:off x="1476360" y="3868560"/>
            <a:ext cx="4438800" cy="2989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C:\Users\User\Desktop\59-11 Смехнов\ф. 59 оп. 11 Смехнов Р.В док-и скан\3 Удостоверения к наградам за участие в ВОВ\ф.59 оп.11 ед.хр. 3 лист 1.jpg"/>
          <p:cNvPicPr/>
          <p:nvPr/>
        </p:nvPicPr>
        <p:blipFill>
          <a:blip r:embed="rId4"/>
          <a:stretch/>
        </p:blipFill>
        <p:spPr>
          <a:xfrm>
            <a:off x="4518000" y="765000"/>
            <a:ext cx="4626000" cy="312912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21"/>
          <p:cNvSpPr/>
          <p:nvPr/>
        </p:nvSpPr>
        <p:spPr>
          <a:xfrm>
            <a:off x="2484360" y="333360"/>
            <a:ext cx="3959280" cy="358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оенные награды Р.В.Смехнов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Прямоугольник 20"/>
          <p:cNvSpPr/>
          <p:nvPr/>
        </p:nvSpPr>
        <p:spPr>
          <a:xfrm>
            <a:off x="5183280" y="3645000"/>
            <a:ext cx="3960720" cy="1152360"/>
          </a:xfrm>
          <a:prstGeom prst="rect">
            <a:avLst/>
          </a:prstGeom>
          <a:blipFill rotWithShape="0">
            <a:blip r:embed="rId5"/>
            <a:srcRect/>
            <a:stretch/>
          </a:blip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ъединенный архивный фонд №59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ись  № 11 «Смехнов Ростислав Васильевич»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диница хранения №3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C:\ДОКУМЕНТЫ\ОРГАНИЗАЦИИ-РАБОТА\90 совет ветеранов\ФОНЫ И КАРТИНКИ ко Дню Победы\9MayRedSlidePrew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C:\Users\User\Desktop\59-11 Смехнов\ф. 59 оп. 11 Смехнов Р.В док-и скан\3 Удостоверения к наградам за участие в ВОВ\ф.59 оп.11 ед.хр. 3 лист 4.jpg"/>
          <p:cNvPicPr/>
          <p:nvPr/>
        </p:nvPicPr>
        <p:blipFill>
          <a:blip r:embed="rId2"/>
          <a:stretch/>
        </p:blipFill>
        <p:spPr>
          <a:xfrm>
            <a:off x="-324000" y="3500280"/>
            <a:ext cx="5237280" cy="3535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C:\Users\User\Desktop\59-11 Смехнов\ф. 59 оп. 11 Смехнов Р.В док-и скан\3 Удостоверения к наградам за участие в ВОВ\ф.59 оп.11 ед.хр. 3 лист 8.jpg"/>
          <p:cNvPicPr/>
          <p:nvPr/>
        </p:nvPicPr>
        <p:blipFill>
          <a:blip r:embed="rId3"/>
          <a:stretch/>
        </p:blipFill>
        <p:spPr>
          <a:xfrm>
            <a:off x="1763640" y="3357720"/>
            <a:ext cx="5407200" cy="3681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C:\Users\User\Desktop\59-11 Смехнов\ф. 59 оп. 11 Смехнов Р.В док-и скан\3 Удостоверения к наградам за участие в ВОВ\ф.59 оп.11 ед.хр. 3 лист 13.jpg"/>
          <p:cNvPicPr/>
          <p:nvPr/>
        </p:nvPicPr>
        <p:blipFill>
          <a:blip r:embed="rId4"/>
          <a:stretch/>
        </p:blipFill>
        <p:spPr>
          <a:xfrm>
            <a:off x="611280" y="0"/>
            <a:ext cx="5406840" cy="367668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20"/>
          <p:cNvSpPr/>
          <p:nvPr/>
        </p:nvSpPr>
        <p:spPr>
          <a:xfrm>
            <a:off x="5183280" y="3068640"/>
            <a:ext cx="3960720" cy="865080"/>
          </a:xfrm>
          <a:prstGeom prst="rect">
            <a:avLst/>
          </a:prstGeom>
          <a:blipFill rotWithShape="0">
            <a:blip r:embed="rId5"/>
            <a:srcRect/>
            <a:stretch/>
          </a:blip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ъединенный архивный фонд №59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ись  № 11 «Смехнов Ростислав Васильевич»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диница хранения №3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Прямоугольник 11"/>
          <p:cNvSpPr/>
          <p:nvPr/>
        </p:nvSpPr>
        <p:spPr>
          <a:xfrm>
            <a:off x="5183280" y="2637000"/>
            <a:ext cx="3960720" cy="36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оенные награды Р.В.Смехнов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C:\ДОКУМЕНТЫ\ОРГАНИЗАЦИИ-РАБОТА\90 совет ветеранов\ФОНЫ И КАРТИНКИ ко Дню Победы\9MayRedSlidePrew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C:\Users\User\Desktop\59-11 Смехнов\ф. 59 оп. 11 Смехнов Р.В док-и скан\4 Диплом, приложение к диплому об окончании Грозненоского нефтяного института\ф.59 оп.11 ед.хр. 4 лист 5.jpg"/>
          <p:cNvPicPr/>
          <p:nvPr/>
        </p:nvPicPr>
        <p:blipFill>
          <a:blip r:embed="rId2"/>
          <a:stretch/>
        </p:blipFill>
        <p:spPr>
          <a:xfrm>
            <a:off x="974880" y="1216080"/>
            <a:ext cx="6692760" cy="478152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6"/>
          <p:cNvSpPr/>
          <p:nvPr/>
        </p:nvSpPr>
        <p:spPr>
          <a:xfrm>
            <a:off x="0" y="5921280"/>
            <a:ext cx="3960720" cy="936720"/>
          </a:xfrm>
          <a:prstGeom prst="rect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ъединенный архивный фонд №59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ись  № 11 «Смехнов Ростислав Васильевич»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диница хранения №4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Прямоугольник 7"/>
          <p:cNvSpPr/>
          <p:nvPr/>
        </p:nvSpPr>
        <p:spPr>
          <a:xfrm>
            <a:off x="0" y="189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в диплом по специальности 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ный инженер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озненского нефтяного института, Ростислав Васильевич работал инженером-геологом в промысловом отделе института 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рогрознефть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C:\ДОКУМЕНТЫ\ОРГАНИЗАЦИИ-РАБОТА\90 совет ветеранов\ФОНЫ И КАРТИНКИ ко Дню Победы\9MayRedSlidePrew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5"/>
          <p:cNvSpPr/>
          <p:nvPr/>
        </p:nvSpPr>
        <p:spPr>
          <a:xfrm>
            <a:off x="6443640" y="1844640"/>
            <a:ext cx="2700360" cy="180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ъединенный архивный фонд № 59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ись  № 11 «Смехнов Ростислав Васильевич»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диница хранения № 2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6394320" cy="775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C:\ДОКУМЕНТЫ\ОРГАНИЗАЦИИ-РАБОТА\90 совет ветеранов\ФОНЫ И КАРТИНКИ ко Дню Победы\9MayRedSlidePrew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2"/>
          <p:cNvSpPr/>
          <p:nvPr/>
        </p:nvSpPr>
        <p:spPr>
          <a:xfrm>
            <a:off x="-108000" y="1361520"/>
            <a:ext cx="871236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953 по 1956 годы Ростислав Васильевич Смехнов находился в спецкомандировке в Китайской Народной Республике. За активную работу по разработкам месторождений нефти в Китае был награжден в 1954 году Орденом 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жба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»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в 1956 году - медалью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ско-Китайской дружбы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»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Прямоугольник 11"/>
          <p:cNvSpPr/>
          <p:nvPr/>
        </p:nvSpPr>
        <p:spPr>
          <a:xfrm>
            <a:off x="108000" y="0"/>
            <a:ext cx="871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Franklin Gothic Book"/>
              </a:rPr>
              <a:t>Трудовая молодость  Смехнова</a:t>
            </a:r>
            <a:endParaRPr b="0" lang="en-US" sz="5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C:\ДОКУМЕНТЫ\ОРГАНИЗАЦИИ-РАБОТА\90 совет ветеранов\ФОНЫ И КАРТИНКИ ко Дню Победы\9MayRedSlidePrew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5"/>
          <p:cNvSpPr/>
          <p:nvPr/>
        </p:nvSpPr>
        <p:spPr>
          <a:xfrm>
            <a:off x="6659640" y="1989000"/>
            <a:ext cx="2484360" cy="1944720"/>
          </a:xfrm>
          <a:prstGeom prst="rect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ъединенный архивный фонд №59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ись  № 11 «Смехнов Ростислав Васильевич»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диница хранения № 2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61848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C:\ДОКУМЕНТЫ\ОРГАНИЗАЦИИ-РАБОТА\90 совет ветеранов\ФОНЫ И КАРТИНКИ ко Дню Победы\9MayRedSlidePrew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1" descr="C:\Users\User\Desktop\59-11 Смехнов\ф. 59 оп. 11 Смехнов Р.В док-и скан\6 Удостоверения к наградам, полученным во время работы в Китае\ф.59 оп.11 ед.хр. 6 лист 1.jpg"/>
          <p:cNvPicPr/>
          <p:nvPr/>
        </p:nvPicPr>
        <p:blipFill>
          <a:blip r:embed="rId2"/>
          <a:stretch/>
        </p:blipFill>
        <p:spPr>
          <a:xfrm>
            <a:off x="611280" y="0"/>
            <a:ext cx="7576920" cy="25542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C:\Users\User\Desktop\59-11 Смехнов\ф. 59 оп. 11 Смехнов Р.В док-и скан\6 Удостоверения к наградам, полученным во время работы в Китае\ф.59 оп.11 ед.хр. 6 лист 3 (1).jpg"/>
          <p:cNvPicPr/>
          <p:nvPr/>
        </p:nvPicPr>
        <p:blipFill>
          <a:blip r:embed="rId3"/>
          <a:stretch/>
        </p:blipFill>
        <p:spPr>
          <a:xfrm>
            <a:off x="3348000" y="2276640"/>
            <a:ext cx="4761000" cy="3498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C:\Users\User\Desktop\59-11 Смехнов\ф. 59 оп. 11 Смехнов Р.В док-и скан\6 Удостоверения к наградам, полученным во время работы в Китае\ф.59 оп.11 ед.хр. 6 лист 3.jpg"/>
          <p:cNvPicPr/>
          <p:nvPr/>
        </p:nvPicPr>
        <p:blipFill>
          <a:blip r:embed="rId4"/>
          <a:stretch/>
        </p:blipFill>
        <p:spPr>
          <a:xfrm>
            <a:off x="755640" y="2276640"/>
            <a:ext cx="4834080" cy="352872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4"/>
          <p:cNvSpPr/>
          <p:nvPr/>
        </p:nvSpPr>
        <p:spPr>
          <a:xfrm>
            <a:off x="0" y="5705640"/>
            <a:ext cx="3960720" cy="1152360"/>
          </a:xfrm>
          <a:prstGeom prst="rect">
            <a:avLst/>
          </a:prstGeom>
          <a:blipFill rotWithShape="0">
            <a:blip r:embed="rId5"/>
            <a:srcRect/>
            <a:stretch/>
          </a:blip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ъединенный архивный фонд №59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ись  № 11 «Смехнов Ростислав Васильевич»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диница хранения № 6 «Удостоверения к наградам, полученным во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ремя работы в Китае»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7" name="Picture 2" descr="C:\ДОКУМЕНТЫ\ОРГАНИЗАЦИИ-РАБОТА\90 совет ветеранов\ФОНЫ И КАРТИНКИ ко Дню Победы\9MayRedSlidePrew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3" descr=""/>
          <p:cNvPicPr/>
          <p:nvPr/>
        </p:nvPicPr>
        <p:blipFill>
          <a:blip r:embed="rId2"/>
          <a:stretch/>
        </p:blipFill>
        <p:spPr>
          <a:xfrm>
            <a:off x="5219640" y="0"/>
            <a:ext cx="3924360" cy="452592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11"/>
          <p:cNvSpPr/>
          <p:nvPr/>
        </p:nvSpPr>
        <p:spPr>
          <a:xfrm>
            <a:off x="468360" y="2492280"/>
            <a:ext cx="759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Franklin Gothic Book"/>
              </a:rPr>
              <a:t>Смехнов </a:t>
            </a:r>
            <a:endParaRPr b="0" lang="en-US" sz="5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Franklin Gothic Book"/>
              </a:rPr>
              <a:t>Ростислав Васильевич</a:t>
            </a:r>
            <a:endParaRPr b="0" lang="en-US" sz="5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Прямоугольник 12"/>
          <p:cNvSpPr/>
          <p:nvPr/>
        </p:nvSpPr>
        <p:spPr>
          <a:xfrm>
            <a:off x="395280" y="333360"/>
            <a:ext cx="403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Franklin Gothic Book"/>
              </a:rPr>
              <a:t>Участник Великой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Franklin Gothic Book"/>
              </a:rPr>
              <a:t>Отечественной войны,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Franklin Gothic Book"/>
              </a:rPr>
              <a:t>кавалер ордена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Franklin Gothic Book"/>
                <a:ea typeface="Times New Roman"/>
              </a:rPr>
              <a:t>Отечественной войны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II</a:t>
            </a:r>
            <a:r>
              <a:rPr b="1" lang="ru-RU" sz="2400" spc="-1" strike="noStrike">
                <a:solidFill>
                  <a:srgbClr val="800000"/>
                </a:solidFill>
                <a:latin typeface="Franklin Gothic Book"/>
                <a:ea typeface="Times New Roman"/>
              </a:rPr>
              <a:t> степени -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C:\ДОКУМЕНТЫ\ОРГАНИЗАЦИИ-РАБОТА\90 совет ветеранов\ФОНЫ И КАРТИНКИ ко Дню Победы\9MayRedSlidePrew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6467400" cy="839304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5"/>
          <p:cNvSpPr/>
          <p:nvPr/>
        </p:nvSpPr>
        <p:spPr>
          <a:xfrm>
            <a:off x="6516720" y="1844640"/>
            <a:ext cx="2627280" cy="1871640"/>
          </a:xfrm>
          <a:prstGeom prst="rect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ъединенный архивный фонд №59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ись  № 11 «Смехнов Ростислав Васильевич»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диница хранения № 2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Прямоугольник 6"/>
          <p:cNvSpPr/>
          <p:nvPr/>
        </p:nvSpPr>
        <p:spPr>
          <a:xfrm>
            <a:off x="826920" y="5300640"/>
            <a:ext cx="5616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958 по 1960 годы Ростислав Васильевич Смехнов работал в Монголии. Во время работы в институте </a:t>
            </a:r>
            <a:r>
              <a:rPr b="1" lang="ru-RU" sz="1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рогрознефть</a:t>
            </a:r>
            <a:r>
              <a:rPr b="1" lang="ru-RU" sz="1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л активную общественную работу избирался председателем профсоюзного комитета, являлся членом районного комитета ДОСААФ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C:\ДОКУМЕНТЫ\ОРГАНИЗАЦИИ-РАБОТА\90 совет ветеранов\ФОНЫ И КАРТИНКИ ко Дню Победы\9MayRedSlidePrew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1239840" y="0"/>
            <a:ext cx="6662880" cy="8223120"/>
          </a:xfrm>
          <a:prstGeom prst="rect">
            <a:avLst/>
          </a:prstGeom>
          <a:ln w="0">
            <a:noFill/>
          </a:ln>
        </p:spPr>
      </p:pic>
      <p:sp>
        <p:nvSpPr>
          <p:cNvPr id="169" name="Прямоугольник 5"/>
          <p:cNvSpPr/>
          <p:nvPr/>
        </p:nvSpPr>
        <p:spPr>
          <a:xfrm>
            <a:off x="5183280" y="3645000"/>
            <a:ext cx="3960720" cy="1152360"/>
          </a:xfrm>
          <a:prstGeom prst="rect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ъединенный архивный фонд №59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ись  № 11 «Смехнов Ростислав Васильевич»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диница хранения № 2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0" y="1683000"/>
            <a:ext cx="234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74 году вместе с женой переехал жить и работать в город Нефтеюганск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C:\ДОКУМЕНТЫ\ОРГАНИЗАЦИИ-РАБОТА\90 совет ветеранов\ФОНЫ И КАРТИНКИ ко Дню Победы\9MayRedSlidePrew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7"/>
          <p:cNvSpPr/>
          <p:nvPr/>
        </p:nvSpPr>
        <p:spPr>
          <a:xfrm>
            <a:off x="250920" y="335772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Около 40 лет Ростислав Васильевич проработал на нефтяных месторождениях. Из них половину в городе Нефтеюганске. При его непосредственном участии были разработаны и внедрены мероприятия, по увеличению добычи нефти на Усть –Балыкском и Южно-Сургутском месторждениях. За что он занесен на доску Почета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НГДУ "Юганскнефть"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Объект 2"/>
          <p:cNvSpPr/>
          <p:nvPr/>
        </p:nvSpPr>
        <p:spPr>
          <a:xfrm>
            <a:off x="0" y="0"/>
            <a:ext cx="5843520" cy="29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ботал Р. В.Смехнов в Нефтегазодобывающем управлении «Юганскнефть» начальником цеха, начальником геологического отдела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Объект 2"/>
          <p:cNvSpPr/>
          <p:nvPr/>
        </p:nvSpPr>
        <p:spPr>
          <a:xfrm>
            <a:off x="5651640" y="1628640"/>
            <a:ext cx="3492360" cy="29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Его жизнь – летопись, состоящая из дат, событий, встреч,…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Его документы – иллюстрции его жизни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2" descr="C:\ДОКУМЕНТЫ\ОРГАНИЗАЦИИ-РАБОТА\90 совет ветеранов\ФОНЫ И КАРТИНКИ ко Дню Победы\9MayRedSlidePrew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C:\Users\User\Desktop\59-11 Смехнов\ф. 59 оп. 11 Смехнов Р.В док-и скан\9 Статьи из газет и журналов о жизни и труде\ф.59 оп.11 ед.хр. 9 лист 13.jpg"/>
          <p:cNvPicPr/>
          <p:nvPr/>
        </p:nvPicPr>
        <p:blipFill>
          <a:blip r:embed="rId2"/>
          <a:stretch/>
        </p:blipFill>
        <p:spPr>
          <a:xfrm>
            <a:off x="-1116000" y="-3195720"/>
            <a:ext cx="10656720" cy="1422252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6"/>
          <p:cNvSpPr/>
          <p:nvPr/>
        </p:nvSpPr>
        <p:spPr>
          <a:xfrm>
            <a:off x="-252360" y="-171360"/>
            <a:ext cx="3960720" cy="936360"/>
          </a:xfrm>
          <a:prstGeom prst="rect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ъединенный архивный фонд №59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ись  № 11 «Смехнов Ростислав Васильевич»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диница хранения № 9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2" descr="C:\ДОКУМЕНТЫ\ОРГАНИЗАЦИИ-РАБОТА\90 совет ветеранов\ФОНЫ И КАРТИНКИ ко Дню Победы\9MayRedSlidePrew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Users\User\Desktop\59-11 Смехнов\ф. 59 оп. 11 Смехнов Р.В док-и скан\9 Статьи из газет и журналов о жизни и труде\ф.59 оп.11 ед.хр. 9 лист 12.jpg"/>
          <p:cNvPicPr/>
          <p:nvPr/>
        </p:nvPicPr>
        <p:blipFill>
          <a:blip r:embed="rId2"/>
          <a:stretch/>
        </p:blipFill>
        <p:spPr>
          <a:xfrm>
            <a:off x="-3781440" y="-1900080"/>
            <a:ext cx="12925440" cy="16697160"/>
          </a:xfrm>
          <a:prstGeom prst="rect">
            <a:avLst/>
          </a:prstGeom>
          <a:ln w="0">
            <a:noFill/>
          </a:ln>
        </p:spPr>
      </p:pic>
      <p:sp>
        <p:nvSpPr>
          <p:cNvPr id="186" name="Прямоугольник 6"/>
          <p:cNvSpPr/>
          <p:nvPr/>
        </p:nvSpPr>
        <p:spPr>
          <a:xfrm>
            <a:off x="5183280" y="5300640"/>
            <a:ext cx="3960720" cy="1557360"/>
          </a:xfrm>
          <a:prstGeom prst="rect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ъединенный архивный фонд №59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ись  № 11 «Смехнов Ростислав Васильевич»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диница хранения № 9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2" descr="C:\ДОКУМЕНТЫ\ОРГАНИЗАЦИИ-РАБОТА\90 совет ветеранов\ФОНЫ И КАРТИНКИ ко Дню Победы\9MayRedSlidePrew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9" descr="C:\Users\User\Desktop\59-11 Смехнов\ф. 59 оп. 11 Смехнов Р.В док-и скан\9 Статьи из газет и журналов о жизни и труде\ф.59 оп.11 ед.хр. 9 лист 8.jpg"/>
          <p:cNvPicPr/>
          <p:nvPr/>
        </p:nvPicPr>
        <p:blipFill>
          <a:blip r:embed="rId2"/>
          <a:stretch/>
        </p:blipFill>
        <p:spPr>
          <a:xfrm>
            <a:off x="-468360" y="-2619360"/>
            <a:ext cx="10728360" cy="1469556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5"/>
          <p:cNvSpPr/>
          <p:nvPr/>
        </p:nvSpPr>
        <p:spPr>
          <a:xfrm>
            <a:off x="5183280" y="5445000"/>
            <a:ext cx="3960720" cy="1152720"/>
          </a:xfrm>
          <a:prstGeom prst="rect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ъединенный архивный фонд №59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ись  № 11 «Смехнов Ростислав Васильевич»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диница хранения № 9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2" descr="C:\ДОКУМЕНТЫ\ОРГАНИЗАЦИИ-РАБОТА\90 совет ветеранов\ФОНЫ И КАРТИНКИ ко Дню Победы\9MayRedSlidePrew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C:\Users\User\Desktop\59-11 Смехнов\ф. 59 оп. 11 Смехнов Р.В док-и скан\9 Статьи из газет и журналов о жизни и труде\ф.59 оп.11 ед.хр. 9 лист 6.jpg"/>
          <p:cNvPicPr/>
          <p:nvPr/>
        </p:nvPicPr>
        <p:blipFill>
          <a:blip r:embed="rId2"/>
          <a:stretch/>
        </p:blipFill>
        <p:spPr>
          <a:xfrm>
            <a:off x="0" y="-892080"/>
            <a:ext cx="7596360" cy="1029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2" descr="C:\ДОКУМЕНТЫ\ОРГАНИЗАЦИИ-РАБОТА\90 совет ветеранов\ФОНЫ И КАРТИНКИ ко Дню Победы\9MayRedSlidePrew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C:\Users\User\Desktop\59-11 Смехнов\ф. 59 оп. 11 Смехнов Р.В док-и скан\9 Статьи из газет и журналов о жизни и труде\ф.59 оп.11 ед.хр. 9 лист 2.jpg"/>
          <p:cNvPicPr/>
          <p:nvPr/>
        </p:nvPicPr>
        <p:blipFill>
          <a:blip r:embed="rId2"/>
          <a:stretch/>
        </p:blipFill>
        <p:spPr>
          <a:xfrm>
            <a:off x="-271440" y="-3565440"/>
            <a:ext cx="9686880" cy="1399068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5"/>
          <p:cNvSpPr/>
          <p:nvPr/>
        </p:nvSpPr>
        <p:spPr>
          <a:xfrm>
            <a:off x="5183280" y="5445000"/>
            <a:ext cx="3960720" cy="1152720"/>
          </a:xfrm>
          <a:prstGeom prst="rect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ъединенный архивный фонд №59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ись  № 11 «Смехнов Ростислав Васильевич»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диница хранения № 9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Picture 2" descr="C:\ДОКУМЕНТЫ\ОРГАНИЗАЦИИ-РАБОТА\90 совет ветеранов\ФОНЫ И КАРТИНКИ ко Дню Победы\9MayRedSlidePrew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C:\Users\User\Desktop\59-11 Смехнов\ф. 59 оп. 11 Смехнов Р.В док-и скан\9 Статьи из газет и журналов о жизни и труде\ф.59 оп.11 ед.хр. 9 лист 5.jpg"/>
          <p:cNvPicPr/>
          <p:nvPr/>
        </p:nvPicPr>
        <p:blipFill>
          <a:blip r:embed="rId2"/>
          <a:stretch/>
        </p:blipFill>
        <p:spPr>
          <a:xfrm>
            <a:off x="4643280" y="-473040"/>
            <a:ext cx="4681800" cy="73310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C:\Users\User\Desktop\59-11 Смехнов\ф. 59 оп. 11 Смехнов Р.В док-и скан\9 Статьи из газет и журналов о жизни и труде\ф.59 оп.11 ед.хр. 9 лист 4.jpg"/>
          <p:cNvPicPr/>
          <p:nvPr/>
        </p:nvPicPr>
        <p:blipFill>
          <a:blip r:embed="rId3"/>
          <a:stretch/>
        </p:blipFill>
        <p:spPr>
          <a:xfrm>
            <a:off x="-181080" y="0"/>
            <a:ext cx="4932360" cy="732456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6"/>
          <p:cNvSpPr/>
          <p:nvPr/>
        </p:nvSpPr>
        <p:spPr>
          <a:xfrm>
            <a:off x="179280" y="5705640"/>
            <a:ext cx="3961080" cy="1152360"/>
          </a:xfrm>
          <a:prstGeom prst="rect">
            <a:avLst/>
          </a:prstGeom>
          <a:blipFill rotWithShape="0">
            <a:blip r:embed="rId4"/>
            <a:srcRect/>
            <a:stretch/>
          </a:blip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ъединенный архивный фонд №59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ись  № 11 «Смехнов Ростислав Васильевич»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диница хранения № 9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2" descr="C:\ДОКУМЕНТЫ\ОРГАНИЗАЦИИ-РАБОТА\90 совет ветеранов\ФОНЫ И КАРТИНКИ ко Дню Победы\9MayRedSlidePrew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C:\Users\User\Desktop\59-11 Смехнов\ф. 59 оп. 11 Смехнов Р.В док-и скан\9 Статьи из газет и журналов о жизни и труде\ф.59 оп.11 ед.хр. 9 лист 1.jpg"/>
          <p:cNvPicPr/>
          <p:nvPr/>
        </p:nvPicPr>
        <p:blipFill>
          <a:blip r:embed="rId2"/>
          <a:stretch/>
        </p:blipFill>
        <p:spPr>
          <a:xfrm>
            <a:off x="0" y="0"/>
            <a:ext cx="9034560" cy="12604680"/>
          </a:xfrm>
          <a:prstGeom prst="rect">
            <a:avLst/>
          </a:prstGeom>
          <a:ln w="0">
            <a:noFill/>
          </a:ln>
        </p:spPr>
      </p:pic>
      <p:sp>
        <p:nvSpPr>
          <p:cNvPr id="211" name="Прямоугольник 5"/>
          <p:cNvSpPr/>
          <p:nvPr/>
        </p:nvSpPr>
        <p:spPr>
          <a:xfrm>
            <a:off x="5183280" y="5705640"/>
            <a:ext cx="3960720" cy="1152360"/>
          </a:xfrm>
          <a:prstGeom prst="rect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ъединенный архивный фонд №59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ись  № 11 «Смехнов Ростислав Васильевич»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диница хранения № 9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ДОКУМЕНТЫ\ОРГАНИЗАЦИИ-РАБОТА\90 совет ветеранов\ФОНЫ И КАРТИНКИ ко Дню Победы\9MayRedSlidePrew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"/>
          <p:cNvSpPr/>
          <p:nvPr/>
        </p:nvSpPr>
        <p:spPr>
          <a:xfrm>
            <a:off x="0" y="1097280"/>
            <a:ext cx="8712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тислав Васильевич Смехнов родился 9 февраля 1929 года в станице Чернышевской Обливского района Ростовской области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35 году семья переехала в город Армавир Краснодарского края 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 Ростислав Васильевич пошел в первый класс и проучился до 6 класса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класс Армавирской школы Ростислав закончил в  конце мая. А потом наступил июнь. Это был июнь 1941 года… Ростиславу было 12 лет и он играл в «войнушки» с пацанами…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Прямоугольник 11"/>
          <p:cNvSpPr/>
          <p:nvPr/>
        </p:nvSpPr>
        <p:spPr>
          <a:xfrm>
            <a:off x="684360" y="260280"/>
            <a:ext cx="81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Franklin Gothic Book"/>
              </a:rPr>
              <a:t>Детство Ростислава</a:t>
            </a:r>
            <a:endParaRPr b="0" lang="en-US" sz="5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Прямоугольник 5"/>
          <p:cNvSpPr/>
          <p:nvPr/>
        </p:nvSpPr>
        <p:spPr>
          <a:xfrm>
            <a:off x="5796000" y="5373720"/>
            <a:ext cx="3960720" cy="1150920"/>
          </a:xfrm>
          <a:prstGeom prst="rect">
            <a:avLst/>
          </a:prstGeom>
          <a:blipFill rotWithShape="0">
            <a:blip r:embed="rId1"/>
            <a:srcRect/>
            <a:stretch/>
          </a:blip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ъединенный архивный фонд №59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ись  № 11 «Смехнов Ростислав Васильевич»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диница хранения № 9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15" name="Picture 9" descr="C:\Users\User\Desktop\59-11 Смехнов\ДОК-И\ВВ Смехнов Р.В\фото 10.JPG"/>
          <p:cNvPicPr/>
          <p:nvPr/>
        </p:nvPicPr>
        <p:blipFill>
          <a:blip r:embed="rId2"/>
          <a:stretch/>
        </p:blipFill>
        <p:spPr>
          <a:xfrm>
            <a:off x="0" y="0"/>
            <a:ext cx="1031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Прямоугольник 9"/>
          <p:cNvSpPr/>
          <p:nvPr/>
        </p:nvSpPr>
        <p:spPr>
          <a:xfrm>
            <a:off x="5183280" y="4581360"/>
            <a:ext cx="3960720" cy="1151280"/>
          </a:xfrm>
          <a:prstGeom prst="rect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ъединенный архивный фонд №59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ись  № 11.Смехнов Ростислав Васильевич во время возложения цветов к памятнику Воину-освободителю. 2009 год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2" descr="C:\ДОКУМЕНТЫ\ОРГАНИЗАЦИИ-РАБОТА\90 совет ветеранов\ФОНЫ И КАРТИНКИ ко Дню Победы\9MayRedSlidePrew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Прямоугольник 5"/>
          <p:cNvSpPr/>
          <p:nvPr/>
        </p:nvSpPr>
        <p:spPr>
          <a:xfrm>
            <a:off x="5183280" y="3645000"/>
            <a:ext cx="3960720" cy="1152360"/>
          </a:xfrm>
          <a:prstGeom prst="rect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ъединенный архивный фонд №59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ись  № 11 «Смехнов Ростислав Васильевич»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диница хранения № 9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1" name="Picture 7" descr="C:\Users\User\Desktop\59-11 Смехнов\Смехнов фотофонд\1691.jpg"/>
          <p:cNvPicPr/>
          <p:nvPr/>
        </p:nvPicPr>
        <p:blipFill>
          <a:blip r:embed="rId3"/>
          <a:stretch/>
        </p:blipFill>
        <p:spPr>
          <a:xfrm>
            <a:off x="0" y="0"/>
            <a:ext cx="526716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2" descr="C:\Users\User\Desktop\59-11 Смехнов\Смехнов фотофонд\IMG_0015.JPG"/>
          <p:cNvPicPr/>
          <p:nvPr/>
        </p:nvPicPr>
        <p:blipFill>
          <a:blip r:embed="rId1"/>
          <a:stretch/>
        </p:blipFill>
        <p:spPr>
          <a:xfrm>
            <a:off x="-181080" y="0"/>
            <a:ext cx="10868040" cy="724536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5"/>
          <p:cNvSpPr/>
          <p:nvPr/>
        </p:nvSpPr>
        <p:spPr>
          <a:xfrm>
            <a:off x="5435640" y="5013360"/>
            <a:ext cx="3960720" cy="1511280"/>
          </a:xfrm>
          <a:prstGeom prst="rect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остислав Васильевич Смехнов (первый справа) возглавляет колону ветеранов войны и труда НГДУ «Юганскнефтегаз» на праздничном шествии в  годовщину Дня Победы»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9 мая 2008 года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2" descr="C:\ДОКУМЕНТЫ\ОРГАНИЗАЦИИ-РАБОТА\90 совет ветеранов\ФОНЫ И КАРТИНКИ ко Дню Победы\9MayRedSlidePrew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C:\Users\User\Desktop\59-11 Смехнов\DSC_0032.JPG"/>
          <p:cNvPicPr/>
          <p:nvPr/>
        </p:nvPicPr>
        <p:blipFill>
          <a:blip r:embed="rId2"/>
          <a:stretch/>
        </p:blipFill>
        <p:spPr>
          <a:xfrm>
            <a:off x="395280" y="333360"/>
            <a:ext cx="4052880" cy="609444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7"/>
          <p:cNvSpPr/>
          <p:nvPr/>
        </p:nvSpPr>
        <p:spPr>
          <a:xfrm>
            <a:off x="4643280" y="1268280"/>
            <a:ext cx="3961080" cy="1513080"/>
          </a:xfrm>
          <a:prstGeom prst="rect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остислав Васильевич Смехнов  на праздничных мероприятиях в честь  в  годовщины Дня Победы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9 мая 2009 года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Прямоугольник 9"/>
          <p:cNvSpPr/>
          <p:nvPr/>
        </p:nvSpPr>
        <p:spPr>
          <a:xfrm>
            <a:off x="4788000" y="0"/>
            <a:ext cx="4537080" cy="1700280"/>
          </a:xfrm>
          <a:prstGeom prst="rect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отофонд,  опись  № 1,  единица хранения № 1004,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Ветераны ВОВ г. Нефтеюганска во время посещения заседания Государственной Думы на фоне входа в гостинницу. На снимке Р.В. Смехнов – второй слева»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.Москва. 20.04.2000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ДОКУМЕНТЫ\ОРГАНИЗАЦИИ-РАБОТА\90 совет ветеранов\ФОНЫ И КАРТИНКИ ко Дню Победы\9MayRedSlidePrew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2"/>
          <p:cNvSpPr/>
          <p:nvPr/>
        </p:nvSpPr>
        <p:spPr>
          <a:xfrm>
            <a:off x="179280" y="412920"/>
            <a:ext cx="8713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41 году отец Ростислава  - Василий Николаевич Смехнов ушел на фронт, а в начале 1942 года немцы захватили Краснодарский и Ставропольский края. Ростислав с мамой, Дарьей ивановной, были эвакуированы в Ереван. На новом месте жительства Ростислав продолжил учебу в школе, а в мае 1943 года семья вернулась домой, в освобожденный от фашистов Краснодар. Город встретил голодом, военным положением, разрушением…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" name="Прямоугольник 11"/>
          <p:cNvSpPr/>
          <p:nvPr/>
        </p:nvSpPr>
        <p:spPr>
          <a:xfrm>
            <a:off x="1403280" y="0"/>
            <a:ext cx="66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Franklin Gothic Book"/>
              </a:rPr>
              <a:t>Детство и юность</a:t>
            </a:r>
            <a:endParaRPr b="0" lang="en-US" sz="5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79280" y="354672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Прямоугольник 8"/>
          <p:cNvSpPr/>
          <p:nvPr/>
        </p:nvSpPr>
        <p:spPr>
          <a:xfrm>
            <a:off x="0" y="2421000"/>
            <a:ext cx="90360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 материалов сети Интернет: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9 августа 1942 года немецко-фашистские войска, временно захватив гор. Краснодар и территорию Краснодарского края, по прямому указанию гитлеровского правительства и приказанию командующего 17-й германской армией генерал-полковника Руоф, при самом активном участии гестапо — немецкой тайной полиции, действовавшей под руководством шефа гестапо — полковника Кристиан, его заместителя капитана Раббе, офицеров-гестаповцев, немецких военных врачей тюрьмы и гестапо, сотрудников гестапо — переводчиков, совместно со своими пособниками — изменниками и предателями нашей социалистической родины, в течение более полугода различными зверскими методами истребляли мирное население гор. Краснодара и Краснодарского края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Гитлеровскими извергами их пособниками расстреляно,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повешено, удушено посредством отравляющих газов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окиси углерода и замучено много тысяч ни в чём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неповинных советских людей, 2 том числе женщин,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стариков и детей…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(см.</a:t>
            </a: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 http://rufact.org/blog/2011/jul/1/july-1943-the-case-of-the-krasnodar-murderers/</a:t>
            </a: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ДОКУМЕНТЫ\ОРГАНИЗАЦИИ-РАБОТА\90 совет ветеранов\ФОНЫ И КАРТИНКИ ко Дню Победы\9MayRedSlidePrew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" descr="C:\Users\User\Desktop\59-11 Смехнов\ф. 59 оп. 11 Смехнов Р.В док-и скан\2 Личное дело, Автобиография\ф.59 оп.1 ед.хр. 2 лист 1.jpg"/>
          <p:cNvPicPr/>
          <p:nvPr/>
        </p:nvPicPr>
        <p:blipFill>
          <a:blip r:embed="rId2"/>
          <a:stretch/>
        </p:blipFill>
        <p:spPr>
          <a:xfrm>
            <a:off x="0" y="0"/>
            <a:ext cx="7132680" cy="1015056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5"/>
          <p:cNvSpPr/>
          <p:nvPr/>
        </p:nvSpPr>
        <p:spPr>
          <a:xfrm>
            <a:off x="7164360" y="2421000"/>
            <a:ext cx="1979640" cy="2376360"/>
          </a:xfrm>
          <a:prstGeom prst="rect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ъединенный архивный фонд №59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ись  № 11 «Смехнов Ростислав Васильевич»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диница хранения №2 «Автобиография»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007 год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ДОКУМЕНТЫ\ОРГАНИЗАЦИИ-РАБОТА\90 совет ветеранов\ФОНЫ И КАРТИНКИ ко Дню Победы\9MayRedSlidePrew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11"/>
          <p:cNvSpPr/>
          <p:nvPr/>
        </p:nvSpPr>
        <p:spPr>
          <a:xfrm>
            <a:off x="1403280" y="0"/>
            <a:ext cx="66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Franklin Gothic Book"/>
              </a:rPr>
              <a:t>Юность Смехнова</a:t>
            </a:r>
            <a:endParaRPr b="0" lang="en-US" sz="5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72" name="Picture 3" descr="C:\Users\User\Desktop\34273-805347e3.jpg"/>
          <p:cNvPicPr/>
          <p:nvPr/>
        </p:nvPicPr>
        <p:blipFill>
          <a:blip r:embed="rId2"/>
          <a:stretch/>
        </p:blipFill>
        <p:spPr>
          <a:xfrm>
            <a:off x="3924360" y="836640"/>
            <a:ext cx="5046480" cy="3624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C:\Users\User\Desktop\393_bat_stanichka.jpg"/>
          <p:cNvPicPr/>
          <p:nvPr/>
        </p:nvPicPr>
        <p:blipFill>
          <a:blip r:embed="rId3"/>
          <a:stretch/>
        </p:blipFill>
        <p:spPr>
          <a:xfrm>
            <a:off x="0" y="836640"/>
            <a:ext cx="4788000" cy="358308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8"/>
          <p:cNvSpPr/>
          <p:nvPr/>
        </p:nvSpPr>
        <p:spPr>
          <a:xfrm>
            <a:off x="0" y="4076640"/>
            <a:ext cx="3348000" cy="10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материалы  из сети Интернет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Прямоугольник 11"/>
          <p:cNvSpPr/>
          <p:nvPr/>
        </p:nvSpPr>
        <p:spPr>
          <a:xfrm>
            <a:off x="0" y="5157720"/>
            <a:ext cx="586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Большая часть домов была разрушена, заводы не работали. Основная часть мужского населения была на фронте. А в городе нужно было наводить порядок:  восстанавливать дома, бороться с диверсантами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C:\ДОКУМЕНТЫ\ОРГАНИЗАЦИИ-РАБОТА\90 совет ветеранов\ФОНЫ И КАРТИНКИ ко Дню Победы\9MayRedSlidePrew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" descr="C:\Users\User\Desktop\59-11 Смехнов\ф. 59 оп. 11 Смехнов Р.В док-и скан\1 Справка, удостоверени - бойца Красногвардейского городского истребительного батальона\ф.59 оп.11 ед.хр. 1 лист 2.jpg"/>
          <p:cNvPicPr/>
          <p:nvPr/>
        </p:nvPicPr>
        <p:blipFill>
          <a:blip r:embed="rId2"/>
          <a:stretch/>
        </p:blipFill>
        <p:spPr>
          <a:xfrm>
            <a:off x="2408400" y="0"/>
            <a:ext cx="6735600" cy="512136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5"/>
          <p:cNvSpPr/>
          <p:nvPr/>
        </p:nvSpPr>
        <p:spPr>
          <a:xfrm>
            <a:off x="0" y="4076640"/>
            <a:ext cx="3960720" cy="10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ъединенный архивный фонд №59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ись  № 11 «Смехнов Ростислав Васильевич»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диница хранения №1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Прямоугольник 7"/>
          <p:cNvSpPr/>
          <p:nvPr/>
        </p:nvSpPr>
        <p:spPr>
          <a:xfrm>
            <a:off x="0" y="0"/>
            <a:ext cx="2484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защиты порядка в освобожденном городе  в 1943 году  был организован комсомольский взвод истребительного батальона. Ростислав и его товарищи по школе стали бойцами этого взвода.  Ростиславу было 14 лет…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Прямоугольник 8"/>
          <p:cNvSpPr/>
          <p:nvPr/>
        </p:nvSpPr>
        <p:spPr>
          <a:xfrm>
            <a:off x="324000" y="5516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Во взводе было 25 комсомольцев.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И хотя старшему было 16 лет, пользу ребята приносили большую.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ДОКУМЕНТЫ\ОРГАНИЗАЦИИ-РАБОТА\90 совет ветеранов\ФОНЫ И КАРТИНКИ ко Дню Победы\9MayRedSlidePrew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11"/>
          <p:cNvSpPr/>
          <p:nvPr/>
        </p:nvSpPr>
        <p:spPr>
          <a:xfrm>
            <a:off x="1403280" y="0"/>
            <a:ext cx="66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Franklin Gothic Book"/>
              </a:rPr>
              <a:t>Юность Смехнова</a:t>
            </a:r>
            <a:endParaRPr b="0" lang="en-US" sz="5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Прямоугольник 15"/>
          <p:cNvSpPr/>
          <p:nvPr/>
        </p:nvSpPr>
        <p:spPr>
          <a:xfrm>
            <a:off x="6588000" y="1052640"/>
            <a:ext cx="2411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В задачу взвода  входило: проверка соблюдения комендантского часа, патрулирование улиц, обнаружение парашютных вражеских десантов, ловля диверсантов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88" name="Picture 2" descr="C:\Users\User\Desktop\34277-1748d08c.jpg"/>
          <p:cNvPicPr/>
          <p:nvPr/>
        </p:nvPicPr>
        <p:blipFill>
          <a:blip r:embed="rId2"/>
          <a:stretch/>
        </p:blipFill>
        <p:spPr>
          <a:xfrm>
            <a:off x="1908000" y="981000"/>
            <a:ext cx="4700880" cy="367200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17"/>
          <p:cNvSpPr/>
          <p:nvPr/>
        </p:nvSpPr>
        <p:spPr>
          <a:xfrm>
            <a:off x="0" y="981000"/>
            <a:ext cx="197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В  разрушенном городе, население которого было запугано зверствами фашистов, процветал разгул бандитизма и мародерств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Прямоугольник 8"/>
          <p:cNvSpPr/>
          <p:nvPr/>
        </p:nvSpPr>
        <p:spPr>
          <a:xfrm>
            <a:off x="2556000" y="4653000"/>
            <a:ext cx="3274920" cy="1152360"/>
          </a:xfrm>
          <a:prstGeom prst="rect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материалы  из сети Интернет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C:\ДОКУМЕНТЫ\ОРГАНИЗАЦИИ-РАБОТА\90 совет ветеранов\ФОНЫ И КАРТИНКИ ко Дню Победы\9MayRedSlidePrew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"/>
          <p:cNvSpPr/>
          <p:nvPr/>
        </p:nvSpPr>
        <p:spPr>
          <a:xfrm>
            <a:off x="0" y="15840"/>
            <a:ext cx="9144000" cy="69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333333"/>
                </a:solidFill>
                <a:uFillTx/>
                <a:latin typeface="Franklin Gothic Book"/>
                <a:ea typeface="Times New Roman"/>
              </a:rPr>
              <a:t>  </a:t>
            </a:r>
            <a:r>
              <a:rPr b="1" i="1" lang="ru-RU" sz="1400" spc="-1" strike="noStrike" u="sng">
                <a:solidFill>
                  <a:srgbClr val="333333"/>
                </a:solidFill>
                <a:uFillTx/>
                <a:latin typeface="Franklin Gothic Book"/>
                <a:ea typeface="Times New Roman"/>
              </a:rPr>
              <a:t>Из воспоминаний Ростислава Васильевича Смехнова: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Franklin Gothic Book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333333"/>
                </a:solidFill>
                <a:latin typeface="Franklin Gothic Book"/>
                <a:ea typeface="Times New Roman"/>
              </a:rPr>
              <a:t>До кровавых мозолей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Franklin Gothic Book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333333"/>
                </a:solidFill>
                <a:latin typeface="Franklin Gothic Book"/>
                <a:ea typeface="Times New Roman"/>
              </a:rPr>
              <a:t>Хуже доли беженцев другой на войне нет. Беззащитный человек, вырванный без корней с родной земли... Из моего родного Армавира я с мамой летом 1942 года шел в Орджоникидзе до дырявых чувяков и до кровавых мозолей на ногах. Брошенными на произвол судьбы мы себя не чувствовали. Нам выдавали продуктовые карточки, при возможности эвакуировали на транспорте. Это была система, работавшая в суровых обстоятельствах. А панику я видел только при бомбежке нашего эшелона в двадцати километрах от Беслана...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Franklin Gothic Book"/>
                <a:ea typeface="Times New Roman"/>
              </a:rPr>
              <a:t>    </a:t>
            </a:r>
            <a:r>
              <a:rPr b="1" lang="ru-RU" sz="1400" spc="-1" strike="noStrike">
                <a:solidFill>
                  <a:srgbClr val="333333"/>
                </a:solidFill>
                <a:latin typeface="Franklin Gothic Book"/>
                <a:ea typeface="Times New Roman"/>
              </a:rPr>
              <a:t>Стреляли в воздух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Franklin Gothic Book"/>
                <a:ea typeface="Times New Roman"/>
              </a:rPr>
              <a:t>    </a:t>
            </a:r>
            <a:r>
              <a:rPr b="0" lang="ru-RU" sz="1400" spc="-1" strike="noStrike">
                <a:solidFill>
                  <a:srgbClr val="333333"/>
                </a:solidFill>
                <a:latin typeface="Franklin Gothic Book"/>
                <a:ea typeface="Times New Roman"/>
              </a:rPr>
              <a:t>В феврале 1943 года был освобожден Краснодар, и мы поехали туда к отцу, комиссованному из армии. Я стал учиться в школе. Однажды на урок пришли представители Молотовского райкома комсомола: «Немцы бежали с Кавказа во все размеры сапог. Фронт ушел уже далеко. В городе мало милиции. А на улицах неспокойно. Нам нужна ваша помощь, ребята, в поддержании порядка». Конечно, мы были рады поучаствовать во взрослом деле. В пятнадцать лет очень хочется совершить что-то настоящее. Это возраст подвига.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Franklin Gothic Book"/>
                <a:ea typeface="Times New Roman"/>
              </a:rPr>
              <a:t>   </a:t>
            </a:r>
            <a:r>
              <a:rPr b="0" lang="ru-RU" sz="1400" spc="-1" strike="noStrike">
                <a:solidFill>
                  <a:srgbClr val="333333"/>
                </a:solidFill>
                <a:latin typeface="Franklin Gothic Book"/>
                <a:ea typeface="Times New Roman"/>
              </a:rPr>
              <a:t>В помощь истребительным отрядам НКВД создавались комсомольско-молодежные группы. Пошел туда и я — считай, на фронт взяли! Мать, узнав, дала мне такого «дрозда»! И пообещала в щепу раскатать райком комсомола. Я настоял, сказав правильные слова. И мама смирилась. С автоматами ППШ в руках мы обходили округу, следя за соблюдением комендантского часа и, вылавливая мутный люд. Особенно трудно приходилось в станице Пашковской, кишевшей уголовными элементами. Заходим в хату с проверкой. «Бабушка, дай закурить!» — «Не курим, сыночки». — «А что ж дымом пахнет?» Проверили — ничего. А пацаны, смотрим, кучей жмутся. Подвинули их — вытащили мужика и — на улицу. Там он вдруг ударил меня в лицо и побежал. Дал очередь в воздух. Мужик упал. Скрутили и повели...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Franklin Gothic Book"/>
                <a:ea typeface="Times New Roman"/>
              </a:rPr>
              <a:t>   </a:t>
            </a:r>
            <a:r>
              <a:rPr b="0" lang="ru-RU" sz="1400" spc="-1" strike="noStrike">
                <a:solidFill>
                  <a:srgbClr val="333333"/>
                </a:solidFill>
                <a:latin typeface="Franklin Gothic Book"/>
                <a:ea typeface="Times New Roman"/>
              </a:rPr>
              <a:t>С заводов тогда тащили все почти открыто. Ворье, хоть и было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Franklin Gothic Book"/>
                <a:ea typeface="Times New Roman"/>
              </a:rPr>
              <a:t>вооружено, но нас побаивалось. Увидишь их еще издалека —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Franklin Gothic Book"/>
                <a:ea typeface="Times New Roman"/>
              </a:rPr>
              <a:t>разбегаются. Для особо наглых хватало стрельбы в воздух.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Franklin Gothic Book"/>
                <a:ea typeface="Times New Roman"/>
              </a:rPr>
              <a:t>Человека с автоматом приходилось уважать, даже если ему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Franklin Gothic Book"/>
                <a:ea typeface="Times New Roman"/>
              </a:rPr>
              <a:t>всего пятнадцать...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33"/>
                </a:solidFill>
                <a:latin typeface="Franklin Gothic Book"/>
                <a:ea typeface="Times New Roman"/>
              </a:rPr>
              <a:t>По материалам издания Алексея Сухановского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33"/>
                </a:solidFill>
                <a:latin typeface="Franklin Gothic Book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333333"/>
                </a:solidFill>
                <a:latin typeface="Franklin Gothic Book"/>
                <a:ea typeface="Times New Roman"/>
              </a:rPr>
              <a:t>"Стальное поколение. Живая история фронтовиков Югры"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33"/>
                </a:solidFill>
                <a:latin typeface="Franklin Gothic Book"/>
                <a:ea typeface="Times New Roman"/>
              </a:rPr>
              <a:t>2010 год</a:t>
            </a:r>
            <a:r>
              <a:rPr b="0" lang="ru-RU" sz="9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0:24:20Z</dcterms:created>
  <dc:creator>user</dc:creator>
  <dc:description/>
  <dc:language>en-US</dc:language>
  <cp:lastModifiedBy>User</cp:lastModifiedBy>
  <dcterms:modified xsi:type="dcterms:W3CDTF">2015-04-20T12:14:22Z</dcterms:modified>
  <cp:revision>61</cp:revision>
  <dc:subject/>
  <dc:title>Ростислав Васильевич Смехн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2450000000000010262800207f7000400038000</vt:lpwstr>
  </property>
</Properties>
</file>