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6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210-378C-408E-A477-73C32083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C88-70F5-4158-8B73-912333B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613-27E0-4F77-924A-0DF2D4FB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244-6643-4783-B491-D2EF992A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CDF-35D1-43DC-AFA2-9AEE9682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952-64A2-4F52-B672-81F76CE9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ADC-254D-4946-8CF4-79E27E42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9C8-1443-430B-B907-2E2C97E5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8E5-27FE-4077-B21B-BE951F6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47B-3F4A-4AD6-B393-0E88485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EBB-B202-4FDB-BE97-9860538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531-5E3E-416E-B932-5BD4C42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5B1-58A7-436F-BD1F-199B5E53C4D5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192.168.203.25\обмен\305 КАБИНЕТ\фотокаталог\1010.bmp"/>
          <p:cNvPicPr/>
          <p:nvPr/>
        </p:nvPicPr>
        <p:blipFill>
          <a:blip r:embed="rId1"/>
          <a:stretch/>
        </p:blipFill>
        <p:spPr>
          <a:xfrm>
            <a:off x="-104760" y="620640"/>
            <a:ext cx="9248760" cy="681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0" y="0"/>
            <a:ext cx="914400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единица хранения № 1010, «Ветераны ВОВ г. Нефтеюганска, во время посещения заседания Государственной Думы. Р.В. Смехнов - председатель Совета ветеранов ВОВ ОАО Юганскнефтегаз» (первый ряд шестой слева) среди ветеранов ВОВ г. Нефтеюганск во время встречи с председателем депутатской группы  «Регионы России» О.Морозовым (первый ряд пятый слева)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. Москва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.04.200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C:\Users\User\Desktop\59-11 Смехнов\ф. 59 оп. 11 Смехнов Р.В док-и скан\7 Почетные грамоты, благодарственные письма за успехи в труде\ф.59 оп.11 ед.хр. 7 лист 21.jpg"/>
          <p:cNvPicPr/>
          <p:nvPr/>
        </p:nvPicPr>
        <p:blipFill>
          <a:blip r:embed="rId2"/>
          <a:stretch/>
        </p:blipFill>
        <p:spPr>
          <a:xfrm>
            <a:off x="179280" y="-747720"/>
            <a:ext cx="6686640" cy="8352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Users\User\Desktop\59-11 Смехнов\ф. 59 оп. 11 Смехнов Р.В док-и скан\7 Почетные грамоты, благодарственные письма за успехи в труде\ф.59 оп.11 ед.хр. 7 лист 11.jpg"/>
          <p:cNvPicPr/>
          <p:nvPr/>
        </p:nvPicPr>
        <p:blipFill>
          <a:blip r:embed="rId2"/>
          <a:stretch/>
        </p:blipFill>
        <p:spPr>
          <a:xfrm>
            <a:off x="108000" y="-1108080"/>
            <a:ext cx="6827760" cy="9064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User\Desktop\59-11 Смехнов\ф. 59 оп. 11 Смехнов Р.В док-и скан\7 Почетные грамоты, благодарственные письма за успехи в труде\ф.59 оп.11 ед.хр. 7 лист 9.jpg"/>
          <p:cNvPicPr/>
          <p:nvPr/>
        </p:nvPicPr>
        <p:blipFill>
          <a:blip r:embed="rId2"/>
          <a:stretch/>
        </p:blipFill>
        <p:spPr>
          <a:xfrm>
            <a:off x="-396720" y="-1611360"/>
            <a:ext cx="10107360" cy="9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User\Desktop\59-11 Смехнов\ф. 59 оп. 11 Смехнов Р.В док-и скан\7 Почетные грамоты, благодарственные письма за успехи в труде\ф.59 оп.11 ед.хр. 7 лист 8.jpg"/>
          <p:cNvPicPr/>
          <p:nvPr/>
        </p:nvPicPr>
        <p:blipFill>
          <a:blip r:embed="rId2"/>
          <a:stretch/>
        </p:blipFill>
        <p:spPr>
          <a:xfrm>
            <a:off x="0" y="-892080"/>
            <a:ext cx="6467400" cy="88945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User\Desktop\59-11 Смехнов\ф. 59 оп. 11 Смехнов Р.В док-и скан\7 Почетные грамоты, благодарственные письма за успехи в труде\ф.59 оп.11 ед.хр. 7 лист 6.jpg"/>
          <p:cNvPicPr/>
          <p:nvPr/>
        </p:nvPicPr>
        <p:blipFill>
          <a:blip r:embed="rId2"/>
          <a:stretch/>
        </p:blipFill>
        <p:spPr>
          <a:xfrm>
            <a:off x="0" y="-1467000"/>
            <a:ext cx="6980400" cy="9777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User\Desktop\59-11 Смехнов\ф. 59 оп. 11 Смехнов Р.В док-и скан\7 Почетные грамоты, благодарственные письма за успехи в труде\ф.59 оп.11 ед.хр. 7 лист 5.jpg"/>
          <p:cNvPicPr/>
          <p:nvPr/>
        </p:nvPicPr>
        <p:blipFill>
          <a:blip r:embed="rId2"/>
          <a:stretch/>
        </p:blipFill>
        <p:spPr>
          <a:xfrm>
            <a:off x="0" y="-316080"/>
            <a:ext cx="5724360" cy="8170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User\Desktop\59-11 Смехнов\ф. 59 оп. 11 Смехнов Р.В док-и скан\7 Почетные грамоты, благодарственные письма за успехи в труде\ф.59 оп.11 ед.хр. 7 лист 3.jpg"/>
          <p:cNvPicPr/>
          <p:nvPr/>
        </p:nvPicPr>
        <p:blipFill>
          <a:blip r:embed="rId2"/>
          <a:stretch/>
        </p:blipFill>
        <p:spPr>
          <a:xfrm>
            <a:off x="-181080" y="-892080"/>
            <a:ext cx="7309080" cy="9734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User\Desktop\59-11 Смехнов\ф. 59 оп. 11 Смехнов Р.В док-и скан\7 Почетные грамоты, благодарственные письма за успехи в труде\ф.59 оп.11 ед.хр. 7 лист 4.jpg"/>
          <p:cNvPicPr/>
          <p:nvPr/>
        </p:nvPicPr>
        <p:blipFill>
          <a:blip r:embed="rId2"/>
          <a:stretch/>
        </p:blipFill>
        <p:spPr>
          <a:xfrm>
            <a:off x="0" y="-1251000"/>
            <a:ext cx="6802560" cy="98632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User\Desktop\59-11 Смехнов\ф. 59 оп. 11 Смехнов Р.В док-и скан\Доп док-ы\ф.59 оп.11 ед.хр. Доп док-ы  лист 1.jpg"/>
          <p:cNvPicPr/>
          <p:nvPr/>
        </p:nvPicPr>
        <p:blipFill>
          <a:blip r:embed="rId2"/>
          <a:stretch/>
        </p:blipFill>
        <p:spPr>
          <a:xfrm>
            <a:off x="179280" y="115920"/>
            <a:ext cx="4753080" cy="64929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0" y="5921280"/>
            <a:ext cx="3024360" cy="93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стислав Васильевич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4859280" y="115920"/>
            <a:ext cx="410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За участие в Великой Отечественной войне, за самоотверженный труд в мирное время на благо Родины Р.В.Смехнов неоднократно награждался правительственным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наградам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443640" y="836640"/>
            <a:ext cx="2374920" cy="3583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Вырезка экрана"/>
          <p:cNvPicPr/>
          <p:nvPr/>
        </p:nvPicPr>
        <p:blipFill>
          <a:blip r:embed="rId3"/>
          <a:stretch/>
        </p:blipFill>
        <p:spPr>
          <a:xfrm>
            <a:off x="189000" y="596880"/>
            <a:ext cx="4470480" cy="62373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1"/>
          <p:cNvSpPr/>
          <p:nvPr/>
        </p:nvSpPr>
        <p:spPr>
          <a:xfrm>
            <a:off x="0" y="189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Franklin Gothic Book"/>
                <a:ea typeface="Arial"/>
              </a:rPr>
              <a:t>За выдающиеся заслуги перед Отечество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\\192.168.203.25\обмен\305 КАБИНЕТ\фотокаталог\1009.bmp"/>
          <p:cNvPicPr/>
          <p:nvPr/>
        </p:nvPicPr>
        <p:blipFill>
          <a:blip r:embed="rId1"/>
          <a:stretch/>
        </p:blipFill>
        <p:spPr>
          <a:xfrm>
            <a:off x="-324000" y="0"/>
            <a:ext cx="967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4788000" y="0"/>
            <a:ext cx="4537080" cy="170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 единица хранения № 1009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етераны ВОВ г. Нефтеюганска во время посещения заседания Государственной Думы слева направо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.А. Ивасенко, А.Г. Нестерова;  Г.А. Габайдуллина, Р.В. Смехнов, В.А. Сладкова, Е.В. Забродский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.Москва. 20.04.200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User\Desktop\59-11 Смехнов\ф. 59 оп. 11 Смехнов Р.В док-и скан\5 Приказ - постановление НГДУ о материальном поощерение, Трудовая книжка\ф.59 оп.11 ед.хр. 5 лист 9.jpg"/>
          <p:cNvPicPr/>
          <p:nvPr/>
        </p:nvPicPr>
        <p:blipFill>
          <a:blip r:embed="rId2"/>
          <a:stretch/>
        </p:blipFill>
        <p:spPr>
          <a:xfrm>
            <a:off x="179280" y="0"/>
            <a:ext cx="7382160" cy="5095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Users\User\Desktop\59-11 Смехнов\ф. 59 оп. 11 Смехнов Р.В док-и скан\8 Удостоверения к наградам за успехи и достижения в труде\ф.59 оп.11ед.хр. 8 лист 8.jpg"/>
          <p:cNvPicPr/>
          <p:nvPr/>
        </p:nvPicPr>
        <p:blipFill>
          <a:blip r:embed="rId2"/>
          <a:stretch/>
        </p:blipFill>
        <p:spPr>
          <a:xfrm>
            <a:off x="0" y="1557360"/>
            <a:ext cx="5541840" cy="375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6407280" cy="2151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4"/>
          <a:stretch/>
        </p:blipFill>
        <p:spPr>
          <a:xfrm>
            <a:off x="0" y="4508640"/>
            <a:ext cx="6102360" cy="20304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5508720" y="2708280"/>
            <a:ext cx="3635280" cy="136836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8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User\Desktop\59-11 Смехнов\ф. 59 оп. 11 Смехнов Р.В док-и скан\10 Поздравления с юбилеем, с Днём Победы\ф.59 оп.11ед.хр. 10  лист 1.jpg"/>
          <p:cNvPicPr/>
          <p:nvPr/>
        </p:nvPicPr>
        <p:blipFill>
          <a:blip r:embed="rId2"/>
          <a:stretch/>
        </p:blipFill>
        <p:spPr>
          <a:xfrm>
            <a:off x="-1189080" y="-963720"/>
            <a:ext cx="7540560" cy="95061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5183280" y="3068640"/>
            <a:ext cx="396072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1" name="Picture 12" descr="C:\Users\User\Desktop\59-11 Смехнов\ф. 59 оп. 11 Смехнов Р.В док-и скан\10 Поздравления с юбилеем, с Днём Победы\ф.59 оп.11ед.хр. 10  лист 11.jpg"/>
          <p:cNvPicPr/>
          <p:nvPr/>
        </p:nvPicPr>
        <p:blipFill>
          <a:blip r:embed="rId3"/>
          <a:stretch/>
        </p:blipFill>
        <p:spPr>
          <a:xfrm>
            <a:off x="0" y="0"/>
            <a:ext cx="59641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6" name="Picture 3" descr="C:\Users\User\Desktop\59-11 Смехнов\ф. 59 оп. 11 Смехнов Р.В док-и скан\10 Поздравления с юбилеем, с Днём Победы\ф.59 оп.11ед.хр. 10  лист 2.jpg"/>
          <p:cNvPicPr/>
          <p:nvPr/>
        </p:nvPicPr>
        <p:blipFill>
          <a:blip r:embed="rId3"/>
          <a:stretch/>
        </p:blipFill>
        <p:spPr>
          <a:xfrm>
            <a:off x="-324000" y="0"/>
            <a:ext cx="547848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1" name="Picture 6" descr="C:\Users\User\Desktop\59-11 Смехнов\ф. 59 оп. 11 Смехнов Р.В док-и скан\10 Поздравления с юбилеем, с Днём Победы\ф.59 оп.11ед.хр. 10  лист 5.jpg"/>
          <p:cNvPicPr/>
          <p:nvPr/>
        </p:nvPicPr>
        <p:blipFill>
          <a:blip r:embed="rId3"/>
          <a:stretch/>
        </p:blipFill>
        <p:spPr>
          <a:xfrm>
            <a:off x="0" y="-243000"/>
            <a:ext cx="514836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6" name="Picture 7" descr="C:\Users\User\Desktop\59-11 Смехнов\ф. 59 оп. 11 Смехнов Р.В док-и скан\10 Поздравления с юбилеем, с Днём Победы\ф.59 оп.11ед.хр. 10  лист 6.jpg"/>
          <p:cNvPicPr/>
          <p:nvPr/>
        </p:nvPicPr>
        <p:blipFill>
          <a:blip r:embed="rId3"/>
          <a:stretch/>
        </p:blipFill>
        <p:spPr>
          <a:xfrm>
            <a:off x="0" y="0"/>
            <a:ext cx="49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:\Users\User\Desktop\59-11 Смехнов\ф. 59 оп. 11 Смехнов Р.В док-и скан\10 Поздравления с юбилеем, с Днём Победы\ф.59 оп.11ед.хр. 10  лист 8.jpg"/>
          <p:cNvPicPr/>
          <p:nvPr/>
        </p:nvPicPr>
        <p:blipFill>
          <a:blip r:embed="rId2"/>
          <a:stretch/>
        </p:blipFill>
        <p:spPr>
          <a:xfrm>
            <a:off x="-324000" y="-171360"/>
            <a:ext cx="6269040" cy="87692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5724360" y="2997360"/>
            <a:ext cx="3419640" cy="115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1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User\Desktop\59-11 Смехнов\ф. 59 оп. 11 Смехнов Р.В док-и скан\11 Диплом за 1-е место в городских соревнованиях, Пригласительный билет на открытие морского клуба\ф.59 оп.1 диплом лист 2.jpg"/>
          <p:cNvPicPr/>
          <p:nvPr/>
        </p:nvPicPr>
        <p:blipFill>
          <a:blip r:embed="rId2"/>
          <a:stretch/>
        </p:blipFill>
        <p:spPr>
          <a:xfrm>
            <a:off x="6227640" y="-171360"/>
            <a:ext cx="3067200" cy="4278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C:\Users\User\Desktop\59-11 Смехнов\ф. 59 оп. 11 Смехнов Р.В док-и скан\10 Поздравления с юбилеем, с Днём Победы\ф.59 оп.11ед.хр. 10  лист 10.jpg"/>
          <p:cNvPicPr/>
          <p:nvPr/>
        </p:nvPicPr>
        <p:blipFill>
          <a:blip r:embed="rId3"/>
          <a:stretch/>
        </p:blipFill>
        <p:spPr>
          <a:xfrm>
            <a:off x="-1189080" y="-1251000"/>
            <a:ext cx="7199280" cy="98935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5183280" y="3645000"/>
            <a:ext cx="3960720" cy="115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1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Вырезка экрана"/>
          <p:cNvPicPr/>
          <p:nvPr/>
        </p:nvPicPr>
        <p:blipFill>
          <a:blip r:embed="rId2"/>
          <a:stretch/>
        </p:blipFill>
        <p:spPr>
          <a:xfrm>
            <a:off x="5508720" y="654120"/>
            <a:ext cx="3384360" cy="4448160"/>
          </a:xfrm>
          <a:prstGeom prst="rect">
            <a:avLst/>
          </a:prstGeom>
          <a:ln w="0">
            <a:noFill/>
          </a:ln>
        </p:spPr>
      </p:pic>
      <p:pic>
        <p:nvPicPr>
          <p:cNvPr id="180" name="Объект 3" descr="Вырезка экрана"/>
          <p:cNvPicPr/>
          <p:nvPr/>
        </p:nvPicPr>
        <p:blipFill>
          <a:blip r:embed="rId3"/>
          <a:stretch/>
        </p:blipFill>
        <p:spPr>
          <a:xfrm>
            <a:off x="2268360" y="2997360"/>
            <a:ext cx="3814920" cy="4076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Трудовые награды Р.В.Смех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C:\Users\User\Desktop\59-11 Смехнов\ф. 59 оп. 11 Смехнов Р.В док-и скан\8 Удостоверения к наградам за успехи и достижения в труде\ф.59 оп.11ед.хр. 8 лист 5.jpg"/>
          <p:cNvPicPr/>
          <p:nvPr/>
        </p:nvPicPr>
        <p:blipFill>
          <a:blip r:embed="rId4"/>
          <a:stretch/>
        </p:blipFill>
        <p:spPr>
          <a:xfrm>
            <a:off x="0" y="692280"/>
            <a:ext cx="4294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\\192.168.203.25\обмен\305 КАБИНЕТ\фотокаталог\1131.bmp"/>
          <p:cNvPicPr/>
          <p:nvPr/>
        </p:nvPicPr>
        <p:blipFill>
          <a:blip r:embed="rId1"/>
          <a:stretch/>
        </p:blipFill>
        <p:spPr>
          <a:xfrm>
            <a:off x="0" y="0"/>
            <a:ext cx="9259920" cy="5776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единица хранения № 1131«Члены Нефтеюганского городского Совета ветеранов войны и труда. На снимке первый ряд слева направо: Е.В.Забродский, Н.Л. Леонтьева, Н.П.Щаденко, Н.М.Симоненко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.В.Смехнов; второй ряд слева направо: Е.В. Панфилова, Е.С.Герасимова, Е.Е.Ковригина, М.Н.Богданова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.А.Ивасенко, В.М.Липнягов, Р.И.Щевлева, К.В.Корниленко, П.В.Кузнецов;третий ряд слева направо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Н.А.Балабаев; М.Н.Севастеева, Н.И.Ипполитова;Ж.П.Павленко, А.Г.Макарова,-И.Я.Жорник, А.П.Волков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8.03.199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User\Desktop\59-11 Смехнов\ф. 59 оп. 11 Смехнов Р.В док-и скан\8 Удостоверения к наградам за успехи и достижения в труде\ф.59 оп.11ед.хр. 8 лист 1.jpg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57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User\Desktop\59-11 Смехнов\Смехнов фотки\4.jpg"/>
          <p:cNvPicPr/>
          <p:nvPr/>
        </p:nvPicPr>
        <p:blipFill>
          <a:blip r:embed="rId3"/>
          <a:stretch/>
        </p:blipFill>
        <p:spPr>
          <a:xfrm>
            <a:off x="0" y="0"/>
            <a:ext cx="3502080" cy="40402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5183280" y="3141720"/>
            <a:ext cx="3960720" cy="1150920"/>
          </a:xfrm>
          <a:prstGeom prst="rect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8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9" name="Picture 8" descr="C:\Users\User\Desktop\59-11 Смехнов\ф. 59 оп. 11 Смехнов Р.В док-и скан\8 Удостоверения к наградам за успехи и достижения в труде\ф.59 оп.11ед.хр. 8 лист 7.jpg"/>
          <p:cNvPicPr/>
          <p:nvPr/>
        </p:nvPicPr>
        <p:blipFill>
          <a:blip r:embed="rId5"/>
          <a:stretch/>
        </p:blipFill>
        <p:spPr>
          <a:xfrm>
            <a:off x="0" y="4076640"/>
            <a:ext cx="453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-108000" y="23320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 1996 году Р.В.Смехнов вышел на пенсию. Но жизнь его по-прежнему была полн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бот и дел. В 1997 году его избрали председателем Совета ветеранов НГДУ «Юганскнефть», а в 1999 году Ростислав Васильевич возглавил Совет ветеранов  ОАО «Юганскнефтегаз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.В. Смехнов немало сделал для выполнения социальных программ ветеранов  нефтяной отрас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етеран Смехнов все успева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C:\Users\User\Desktop\фото.jpg"/>
          <p:cNvPicPr/>
          <p:nvPr/>
        </p:nvPicPr>
        <p:blipFill>
          <a:blip r:embed="rId2"/>
          <a:stretch/>
        </p:blipFill>
        <p:spPr>
          <a:xfrm>
            <a:off x="7130880" y="1392120"/>
            <a:ext cx="1872000" cy="2907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171360"/>
            <a:ext cx="7149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User\Desktop\24.02.14-2.jpg"/>
          <p:cNvPicPr/>
          <p:nvPr/>
        </p:nvPicPr>
        <p:blipFill>
          <a:blip r:embed="rId2"/>
          <a:stretch/>
        </p:blipFill>
        <p:spPr>
          <a:xfrm>
            <a:off x="0" y="11592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User\Desktop\24.02.14-5.jpg"/>
          <p:cNvPicPr/>
          <p:nvPr/>
        </p:nvPicPr>
        <p:blipFill>
          <a:blip r:embed="rId3"/>
          <a:stretch/>
        </p:blipFill>
        <p:spPr>
          <a:xfrm>
            <a:off x="2700360" y="220500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4356000" y="0"/>
            <a:ext cx="4788000" cy="252108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остислав Васильевич Смехно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нимает поздравления 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есть своего 85- летнего юбиле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9 февраля 2014 год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3284640"/>
            <a:ext cx="2484360" cy="357336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остисла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сильевич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мехно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 кругу члено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мьи в  день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воего 85- летнего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юбиле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09.02.2014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17" descr="C:\Users\User\Desktop\59-11 Смехнов\Смехнов фотофонд\sm10022014_1.jpg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357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C:\Users\User\Desktop\59-11 Смехнов\Смехнов фотофонд\sm10022014_2.jpg"/>
          <p:cNvPicPr/>
          <p:nvPr/>
        </p:nvPicPr>
        <p:blipFill>
          <a:blip r:embed="rId3"/>
          <a:stretch/>
        </p:blipFill>
        <p:spPr>
          <a:xfrm>
            <a:off x="0" y="3565440"/>
            <a:ext cx="4876920" cy="3292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0" y="0"/>
            <a:ext cx="3924360" cy="357336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0" y="56520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Глава  города Виталий Бурчевский передал ветерану персональное поздравление от Президента страны Владимира Путин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\\Priemnaya\обмен\305 КАБИНЕТ\фон 12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2556000" y="115920"/>
            <a:ext cx="3743280" cy="662616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Подвиг солдат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Смехнова Ростислава Васильевич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навсегда останется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в истории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города Нефтеюганска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хранясь в архивных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документах ветерана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на полках архивохранилищ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Будущие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поколения посредством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документов личного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происхождения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знатных горожан, земляков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смогут изучать страницы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истории  нашего государства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нашего края, город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Нефтеюганска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изучая подлинные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документы очевидцев истории: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их воспоминания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удостоверения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фотодокументы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Подвиг солдат в годы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Великой Отечественной войны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1941-1945 годов должен стать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вечной памятью живущих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3573360"/>
            <a:ext cx="2376720" cy="101628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1944 год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372360" y="3645000"/>
            <a:ext cx="2376360" cy="1015920"/>
          </a:xfrm>
          <a:prstGeom prst="rect">
            <a:avLst/>
          </a:prstGeom>
          <a:solidFill>
            <a:srgbClr val="c00000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010 год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1" name="Picture 2" descr="ФОТО Смехнова Р"/>
          <p:cNvPicPr/>
          <p:nvPr/>
        </p:nvPicPr>
        <p:blipFill>
          <a:blip r:embed="rId2"/>
          <a:stretch/>
        </p:blipFill>
        <p:spPr>
          <a:xfrm>
            <a:off x="6300720" y="404640"/>
            <a:ext cx="2409840" cy="3419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3223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Скругленный прямоугольник 2"/>
          <p:cNvSpPr/>
          <p:nvPr/>
        </p:nvSpPr>
        <p:spPr>
          <a:xfrm>
            <a:off x="4500720" y="3933720"/>
            <a:ext cx="4225680" cy="25941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ОАФ № 59 «Участники Великой Отечественной войны», опись № 11 «Смехнов Ростислав Васильевич», фотодокументов фотофонда  отдела по делам архивов департамента по делам администрации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рода Нефтеюганск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292720" y="0"/>
            <a:ext cx="3851280" cy="18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691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остислав Васильевич Смехов  (второй слева)  среди участников Великой Отечественной войны   у памятника в годовщину Великой Отечественной войны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" name="Picture 7" descr="C:\Users\User\Desktop\59-11 Смехнов\Смехнов фотофонд\1691.jpg"/>
          <p:cNvPicPr/>
          <p:nvPr/>
        </p:nvPicPr>
        <p:blipFill>
          <a:blip r:embed="rId3"/>
          <a:stretch/>
        </p:blipFill>
        <p:spPr>
          <a:xfrm>
            <a:off x="179280" y="0"/>
            <a:ext cx="5113440" cy="326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59-11 Смехнов\Смехнов фотофонд\1.jpg"/>
          <p:cNvPicPr/>
          <p:nvPr/>
        </p:nvPicPr>
        <p:blipFill>
          <a:blip r:embed="rId4"/>
          <a:stretch/>
        </p:blipFill>
        <p:spPr>
          <a:xfrm>
            <a:off x="179280" y="3257640"/>
            <a:ext cx="4899240" cy="3600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5148360" y="3284640"/>
            <a:ext cx="3995640" cy="194472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756, «Анна Лаврентьевна Макарова (1 слева), Сергей Николаевич Меркулов (3 слева), Ростислав Васильевич Смехнов (4 слева) во время встречи, посвященный 60-летию Победы в Доме  правительства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. Ханты-Мансийск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5.05.200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\\192.168.203.25\обмен\305 КАБИНЕТ\фотокаталог\1692.bmp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5508720" y="189000"/>
            <a:ext cx="3456000" cy="237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691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остислав Васильевич Смехов - участник Великой Отечественной войны на сцене культурного центра «Обь» среди ветеранов Великой Отечественной войны во время поздравления с 55-летием Дня Победы (1 ряд, 4 слева)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5.200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User\Desktop\59-11 Смехнов\ДОК-И\ВВ Смехнов Р.В\фото 9.jpg"/>
          <p:cNvPicPr/>
          <p:nvPr/>
        </p:nvPicPr>
        <p:blipFill>
          <a:blip r:embed="rId2"/>
          <a:stretch/>
        </p:blipFill>
        <p:spPr>
          <a:xfrm>
            <a:off x="0" y="1413000"/>
            <a:ext cx="5724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5508720" y="189000"/>
            <a:ext cx="3456000" cy="28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фонд,  опись  № 1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1693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остислав Васильевич Смехов- участник Великой Отечественной войны (справа) и управляющий делами городской администрации Владимир Васильевич Найденков во время встречи в городском архиве на открытии выставки, посвященной Дню Победы «Война закончилась, а память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 жива»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5.200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Desktop\59-11 Смехнов\Смехнов фотки\vet26042012_5.jpg"/>
          <p:cNvPicPr/>
          <p:nvPr/>
        </p:nvPicPr>
        <p:blipFill>
          <a:blip r:embed="rId2"/>
          <a:stretch/>
        </p:blipFill>
        <p:spPr>
          <a:xfrm>
            <a:off x="6084720" y="3048120"/>
            <a:ext cx="292104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-17028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остислава Васильевича знают многие. Долгое время он возглавлял общество ветеранов ОАО «РН-Юганскнефтегаза», потом при слиянии с городским Советом, вел активный образ жизни, работал с ветеранами. Сегодня, несмотря на почтенный возраст, он часто посещает школы, занимается военно-патриотическим воспитанием молоде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А воспитывет он своим жизненным приме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C:\Users\User\Desktop\59-11 Смехнов\ф. 59 оп. 11 Смехнов Р.В док-и скан\7 Почетные грамоты, благодарственные письма за успехи в труде\ф.59 оп.11 ед.хр. 7 лист 24.jpg"/>
          <p:cNvPicPr/>
          <p:nvPr/>
        </p:nvPicPr>
        <p:blipFill>
          <a:blip r:embed="rId2"/>
          <a:stretch/>
        </p:blipFill>
        <p:spPr>
          <a:xfrm>
            <a:off x="0" y="-1108080"/>
            <a:ext cx="6888240" cy="9193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ДОКУМЕНТЫ\ОРГАНИЗАЦИИ-РАБОТА\90 совет ветеранов\ФОНЫ И КАРТИНКИ ко Дню Победы\9MayRedSlidePrew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C:\Users\User\Desktop\59-11 Смехнов\ф. 59 оп. 11 Смехнов Р.В док-и скан\7 Почетные грамоты, благодарственные письма за успехи в труде\ф.59 оп.11 ед.хр. 7 лист 23.jpg"/>
          <p:cNvPicPr/>
          <p:nvPr/>
        </p:nvPicPr>
        <p:blipFill>
          <a:blip r:embed="rId2"/>
          <a:stretch/>
        </p:blipFill>
        <p:spPr>
          <a:xfrm>
            <a:off x="179280" y="-1179360"/>
            <a:ext cx="6900840" cy="93391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6659640" y="2421000"/>
            <a:ext cx="2197080" cy="151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диненный архивный фонд №59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ись  № 11 «Смехнов Ростислав Васильевич»,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диница хранения № 7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0:24:20Z</dcterms:created>
  <dc:creator>user</dc:creator>
  <dc:description/>
  <dc:language>en-US</dc:language>
  <cp:lastModifiedBy>Duma</cp:lastModifiedBy>
  <dcterms:modified xsi:type="dcterms:W3CDTF">2015-04-21T05:57:29Z</dcterms:modified>
  <cp:revision>61</cp:revision>
  <dc:subject/>
  <dc:title>Ростислав Васильевич Смехн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470000000000010262800207f7000400038000</vt:lpwstr>
  </property>
</Properties>
</file>