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E19-6997-47CB-A403-1D5483E8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D98-E016-4721-948F-B6335B45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177-8842-48A7-A59D-EC28DBA4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F53-1A33-44DF-BA1F-1D1649AA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833-6861-42A1-AEED-70DC6A5A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091-00E2-46A2-BB44-27F1D075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A2C-980E-40CB-B1D5-7C7E416B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916-FA15-431C-B828-701E56DE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E43-EE83-4CBF-9446-2A5F1294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873-14DF-4B7A-8570-5DA72E9E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C7F-16D3-4C10-A7B4-342545F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603-99F2-4450-A4B5-19CCC3F3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F406-7BFF-424D-BE89-BFC779A03A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Город 25000 для РК"/>
          <p:cNvPicPr/>
          <p:nvPr/>
        </p:nvPicPr>
        <p:blipFill>
          <a:blip r:embed="rId1"/>
          <a:srcRect l="5121" t="4025" r="1964" b="10359"/>
          <a:stretch/>
        </p:blipFill>
        <p:spPr>
          <a:xfrm>
            <a:off x="0" y="533520"/>
            <a:ext cx="9144000" cy="5956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428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азмещения объекта в структуре города Нефтеюга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2"/>
          <p:cNvSpPr/>
          <p:nvPr/>
        </p:nvSpPr>
        <p:spPr>
          <a:xfrm>
            <a:off x="0" y="6095880"/>
            <a:ext cx="2514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матриваемый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228600" y="6324480"/>
            <a:ext cx="154080" cy="155520"/>
            <a:chOff x="228600" y="6324480"/>
            <a:chExt cx="154080" cy="155520"/>
          </a:xfrm>
        </p:grpSpPr>
        <p:sp>
          <p:nvSpPr>
            <p:cNvPr id="45" name="Прямоугольник 17"/>
            <p:cNvSpPr/>
            <p:nvPr/>
          </p:nvSpPr>
          <p:spPr>
            <a:xfrm>
              <a:off x="239760" y="6337440"/>
              <a:ext cx="142920" cy="14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Прямоугольник 18"/>
            <p:cNvSpPr/>
            <p:nvPr/>
          </p:nvSpPr>
          <p:spPr>
            <a:xfrm>
              <a:off x="228600" y="6324480"/>
              <a:ext cx="14292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4"/>
          <p:cNvGrpSpPr/>
          <p:nvPr/>
        </p:nvGrpSpPr>
        <p:grpSpPr>
          <a:xfrm>
            <a:off x="6507000" y="3200400"/>
            <a:ext cx="182520" cy="191880"/>
            <a:chOff x="6507000" y="3200400"/>
            <a:chExt cx="182520" cy="191880"/>
          </a:xfrm>
        </p:grpSpPr>
        <p:sp>
          <p:nvSpPr>
            <p:cNvPr id="48" name="Прямоугольник 19"/>
            <p:cNvSpPr/>
            <p:nvPr/>
          </p:nvSpPr>
          <p:spPr>
            <a:xfrm>
              <a:off x="6519960" y="3216240"/>
              <a:ext cx="169560" cy="17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оугольник 20"/>
            <p:cNvSpPr/>
            <p:nvPr/>
          </p:nvSpPr>
          <p:spPr>
            <a:xfrm>
              <a:off x="6507000" y="3200400"/>
              <a:ext cx="169560" cy="176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7" descr="E:\Паничева ОГРиПТ\2017\ГРАДОСТРОИТЕЛЬНАЯ КОМИССИЯ\2017\ОТКЛОНЕНИЕ ОТ ПРЕДЕЛЬНЫХ ПАРАМЕТРОВ\АБДУЛАЕВ_9_24\.....jpg"/>
          <p:cNvPicPr/>
          <p:nvPr/>
        </p:nvPicPr>
        <p:blipFill>
          <a:blip r:embed="rId2"/>
          <a:stretch/>
        </p:blipFill>
        <p:spPr>
          <a:xfrm>
            <a:off x="38160" y="380880"/>
            <a:ext cx="4381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:\Паничева ОГРиПТ\2017\ГРАДОСТРОИТЕЛЬНАЯ КОМИССИЯ\2017\ОТКЛОНЕНИЕ ОТ ПРЕДЕЛЬНЫХ ПАРАМЕТРОВ\АБДУЛАЕВ_9_24\план.jpg"/>
          <p:cNvPicPr/>
          <p:nvPr/>
        </p:nvPicPr>
        <p:blipFill>
          <a:blip r:embed="rId1"/>
          <a:stretch/>
        </p:blipFill>
        <p:spPr>
          <a:xfrm>
            <a:off x="0" y="366840"/>
            <a:ext cx="9124920" cy="6451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границ земельного участка с кадастровым номером 86:20:0000044: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ция нежилого помещения с целью устройства входной группы по адресу: г.Нефтеюганск, микрорайон 9, дом 24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но-планировочное 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Паничева ОГРиПТ\2017\ГРАДОСТРОИТЕЛЬНАЯ КОМИССИЯ\2017\ОТКЛОНЕНИЕ ОТ ПРЕДЕЛЬНЫХ ПАРАМЕТРОВ\АБДУЛАЕВ_9_24\пойнт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E:\Паничева ОГРиПТ\2017\ГРАДОСТРОИТЕЛЬНАЯ КОМИССИЯ\2017\ОТКЛОНЕНИЕ ОТ ПРЕДЕЛЬНЫХ ПАРАМЕТРОВ\АБДУЛАЕВ_9_24\пойнт2.jpg"/>
          <p:cNvPicPr/>
          <p:nvPr/>
        </p:nvPicPr>
        <p:blipFill>
          <a:blip r:embed="rId2"/>
          <a:stretch/>
        </p:blipFill>
        <p:spPr>
          <a:xfrm>
            <a:off x="7162920" y="4952880"/>
            <a:ext cx="6048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оминых Алёна Валентиновна</dc:creator>
  <dc:description/>
  <dc:language>en-US</dc:language>
  <cp:lastModifiedBy>Stadnik</cp:lastModifiedBy>
  <dcterms:modified xsi:type="dcterms:W3CDTF">2017-08-24T06:17:23Z</dcterms:modified>
  <cp:revision>30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